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17.jpeg" ContentType="image/jpeg"/>
  <Override PartName="/ppt/media/image11.wmf" ContentType="image/x-wmf"/>
  <Override PartName="/ppt/media/image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25.png" ContentType="image/png"/>
  <Override PartName="/ppt/media/image6.png" ContentType="image/png"/>
  <Override PartName="/ppt/media/image26.png" ContentType="image/png"/>
  <Override PartName="/ppt/media/image3.gif" ContentType="image/gi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30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3721-903A-46A7-8E1D-69AA02549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7375-781E-4C33-BC58-E1AA431C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Crusades, Islamic Empire, Byzantine Empir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03F7-B4A1-433F-B52A-2BEBC6AC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AD9D-CFA4-4240-8039-342B70AF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CA36-087D-4686-AF00-E8A563C2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191-6F5F-4728-82B7-450144B45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read of ideas and things” is part of cultural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C8FD-2145-48A5-989F-8C321787C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ll take a closer look at each of these causes of cultural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C0D-28B5-46C9-B35D-FCB6AFD3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introduces languages, types of food, types of weapons,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8BBC-5ADE-43D9-95E8-33F716DE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ng groups moved into other areas and forced those groups to go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876-925C-4E15-ADB9-703CD248D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667-5EC6-4EE2-81FA-41EE9A57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D69-9A69-44EA-8E15-920DAB90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55B4B-C429-4234-8C51-F6D0E97C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FC53C-F8C6-40F2-BE72-E058925C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F2CE4-5494-40A3-B725-5C00158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BC139-04D8-442D-9FA9-7FB28E0D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C8C1A-4645-4FD6-8024-EFA6D58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D9A1E-7808-4B4E-BAB0-2CE2C0B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F8C49-FA91-4AB0-BCDD-2B7BD36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BD1E0-D166-4759-A1BF-ED4048EB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AF96D-7A26-4766-ABF9-0F59D26D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565F9-9C28-4655-9424-38039548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7F8-719A-4503-BBD0-B15920F3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D46B8-896C-41FF-9E2A-5F3860E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332A4-3E8B-4017-A47C-90DC566F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03424-4AB9-47EF-8493-7AC5C93F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0F07E-80BB-4335-BCC4-8E4FF42F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70470-BC06-4EDE-B2C7-693ACDB4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F7A13-BB48-4271-941D-49B3B8A6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49BDE-F014-453F-82F5-2FD6C8E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E3AAA-EFF2-4B3A-B843-E2C59C7C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621CE-D5C0-4CF0-B598-3940BCA6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E42AB-E349-40CB-8AA1-1F29AFCB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DAE-13E9-48D6-9BA0-09888C14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08D47-552E-4947-B4B6-ECF0D6DF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4024C-B2ED-4BFC-BFC6-4E249A8A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CA837-7AD8-4609-933C-9B0F3B5F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AE7E4-3323-4BFC-96E7-1AB32D49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6DB12-5DDE-4AD5-A871-5A8DA379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53EE8-3FE6-455A-88E4-6657C1B6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19356-A56A-4140-BF87-28D69EF6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87F20-31F2-417F-ADC9-E317CCCB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E4A6C-95A4-4626-BC7A-336D23C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C335E-842D-40D3-BF26-A494977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9538-7983-4F87-9DCD-9D03DB2A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BC63C-D8DA-4780-8E2F-F6A794BF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52BC7-BFFD-4507-B4FA-BA15D323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B0ECC-2E56-4E71-BE21-828C1520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AECAE-2CFF-4600-863E-A927D83C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9BEAB-EAC5-492F-968D-CFA17C23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CFB31-FF95-4934-87BE-5C3FC604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61930-6D7F-4693-9DD2-815F8412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7715E-1BBB-4A54-9F6F-669C7AA7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C2E83-FFD8-403D-8AB6-A6FD20B0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C4465-B32B-4011-A157-B661EA2B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4F82-6348-464F-8714-A8C41280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9EEA4-BFD5-48D9-BB16-9F763E2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C5E7B-3E67-4943-A338-5BC30B72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B35BC-E19D-4248-A0D1-9EA180F9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6B09A-C50D-4A78-A3F2-8AB0F303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F16BE-3012-46EF-827C-59A76E6B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0B458-1D93-4FBF-9383-ABBCA2E3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F448B-08DB-44AE-BD13-8EF505B9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F4D63-4034-41E2-BB93-15E61EF6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1F4B7-9A3D-4088-98BC-86154703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A1D3A-8FF6-4B07-AD34-61D3282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2DC9-2E73-496A-8D69-6C73C9EF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7D721-5272-4924-A401-86BB598C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D7B80-FCAE-474B-BD47-3DDF575F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42526-2557-46BD-BA03-28CB4A8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72EF6-0AA9-45B3-9DDD-7BEBD542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DA037-6D18-4814-9621-CD443480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9D51C-127F-40FA-981B-FD6C3EEF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6BAD9-FCD9-45E9-8267-D5BE4320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79B0-1F0C-4C87-923B-9FDD246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E88B-B7BE-4963-9958-2EE7A318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019B-614A-4D69-8D34-AA02DC56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B52C-E65B-4EC7-912F-C431059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443-F875-43F8-826B-C47D393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6B1B-A4C4-400E-B85D-77F92A34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B472-74CC-4D3D-83B4-31F0E59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76A9-A90E-4B43-99B3-EA5AFF9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EFC2-389C-4A62-9E2A-59901463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56C5-B426-4E0A-9DFC-33F07869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286A-A1E6-4749-AD52-36A34291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3780-BC99-41F0-AB57-BB85D5F4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ED01-677C-453B-A503-1774268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42E8-B40C-4653-AC06-C5EB8165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C723-3F30-4652-82D5-E380C0B1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E5D-0A31-49AC-AFCC-0CD46AC6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A9CE-63FB-440F-B58A-B823F253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47E7-2815-444E-9B78-A9C2DB4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657E-C006-4409-915A-40014E5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5BF4-0C7D-4F65-97DF-A44F7B31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6F9A-B218-4FB7-B029-2BF2D6C3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D961-EF39-4A10-B28E-19325E1E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83E3-9BA6-4C90-A795-ADEFAD68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19B90-31AB-466B-90EA-2592094A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7F1A-16D6-416F-B6BF-2C5C41E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4F993-7578-4020-98AC-168E2E37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7CF-A539-4263-992A-7A12BA91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BFE2-9BDD-4FF7-8BB7-C4DB117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3322-02F5-4249-9F5E-3AB5F744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636A-65DA-4FD8-916A-8D3CDB06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CF25-E969-4EEB-98CF-F31F4616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803C1-4E49-4B0F-B250-2E66D30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C4665-343F-44CC-999F-E45986F9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C32F-6C43-4989-883D-5848CF12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3290-ABD9-45AE-BBF2-DD6E18AC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B746-F63C-49A2-B68F-38368EDC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EFE3-4935-4A1D-910B-FAFD0186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94C-BCA6-48C2-8C12-1A0F92D6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B1A1-4DC9-4129-8B1B-755083A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A51E7-3703-4D74-B614-0331E11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AC5A-0E42-4E89-A485-55114601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D3B6-607A-4547-95E5-E3BBC2A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A79B6-2FD6-4D72-9F15-AB1B8AF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7A946-EE9B-45AB-AC6A-F96926A5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13BFC-848A-4337-9F77-D75EAD38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DBAFF-27A4-4513-9D45-6EF4EF6A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1D981-5CD5-4270-974F-BAA226E7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2504-B773-4AC7-B66A-64DA63FB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044-18E9-4711-AED7-FC2BBA5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F78C-1E31-463F-9B7F-4D42B1ED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0F59-2BC6-4E45-A140-1E2FDE56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0D8F9-42BD-4F9B-93E7-805C8C2D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FD58-C64A-482C-98CF-52A93612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79BEE-7E96-494F-B338-EC7C3E5D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9B43-8A90-4A34-9981-5D03AF7B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1727-A900-45E3-B264-8C02E776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FADF1-5DD2-43FC-8BE4-95A1DBE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1DF35-D73C-42A0-9044-D1A0FA3B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C3C5-05A9-437B-A558-D7EDB782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016-8311-4788-B5E9-AAFE7D4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13A6F-956B-4764-8807-157138A6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F3871-D285-458F-B59C-23410715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D5D87-9271-4641-AD4E-CB1BE054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239E-E9FC-4D20-8D17-A546D0D8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701CD-B312-4C52-BE38-7E147B46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87955-8193-467A-B3F4-5937E0E6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79C3-551B-4F3A-A1F6-494625BC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DC5E-D33B-413D-8EE4-DCF4C4A4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DACBE-4DBC-4391-9C66-16F2BD57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981DD-3EB4-4D19-B712-20A2503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762-96FA-46BE-B2A6-98405E7D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CCC8-7790-4975-BB4A-30957B8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B922-EC3E-45B5-B1D4-007A4DF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8E093-86A2-4913-8B55-A258CD65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041DA-E80B-41A4-9126-8C8EBFE0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50BEE-0E01-4BBC-97A9-C14F5A95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93662-1E0D-4B88-B276-1DF8CAB6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C9F41-5FA3-4C13-B2B0-DFFF8FC7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D1AA9-5D33-4BAB-BE2C-BA637A2E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6C3CC-80D3-486A-B365-8F5AC2C5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0F43B-978D-4276-BA69-9BA0606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980-5317-4795-A05E-E9A567A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61D93-3960-402A-8328-8C34D935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DAB44-EE6B-4701-958D-CB0A60B1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BCC27-31DB-4571-8999-0282F05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3903-EA15-441D-B411-1947C31A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DF221-EEE9-4348-9772-1C7CE5BF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35BE-F068-4934-8DD0-269AA460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08338-7FF9-4144-9055-F5F4F60A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2F679-8934-4F88-8606-0E501237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A4ED7-7B1D-4B0E-B723-6A83BD64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9FA6-202A-4FE8-B477-A073E713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86D-D9B1-4660-AE86-4025C9256BB6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5D00-4209-4795-923C-6692AAE02204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1098-A869-49CC-B58E-3157DF6E2823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5F3D-7182-4715-A01D-F7C8490AB420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5443-DA8E-45EA-BB33-267E8586D77D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39DA-4DF3-4484-BC9D-42CD971DB329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AE7C-5987-45BA-90FA-D93782E383DD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F3CE-10D5-47C6-9715-F9A66313E1B9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EAF6-1119-474C-B07F-07CED411FFD6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2E96-CBCC-4E16-B9DE-777371BB8055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1A27-39B5-4B8F-9441-3EF0682F398D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ECA-109B-4210-AB4B-833ABDD60FBD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logo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934320" y="6019920"/>
            <a:ext cx="1828800" cy="523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7c1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B4F-84B8-4772-99E5-AB40D502AFF3}" type="slidenum">
              <a:rPr b="0" lang="en-US" sz="1400" spc="-1" strike="noStrike">
                <a:solidFill>
                  <a:srgbClr val="cccc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faculty.fullerton.edu/lester/writings/letters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73"/>
                </a:solidFill>
                <a:latin typeface="Verdana"/>
              </a:rPr>
              <a:t>Era 1: Panorama View</a:t>
            </a:r>
            <a:endParaRPr b="0" lang="en-US" sz="60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0948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Aug ___, 2017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Notes 1.2 </a:t>
            </a:r>
            <a:endParaRPr b="0" lang="en-US" sz="24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AD02-1F0A-4A25-986E-1F277437D204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http://www.kenhunterphotography.co.uk/wp-content/uploads/2012/07/180-Degree-Panorama-view-taken-from-Low-Rigg-just-East-of-Keswick-2000x354.jpg"/>
          <p:cNvPicPr/>
          <p:nvPr/>
        </p:nvPicPr>
        <p:blipFill>
          <a:blip r:embed="rId1"/>
          <a:stretch/>
        </p:blipFill>
        <p:spPr>
          <a:xfrm>
            <a:off x="-243000" y="2832120"/>
            <a:ext cx="9477360" cy="2152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3687-D46C-4F6B-9C5E-9424C32875C3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152280" y="609480"/>
            <a:ext cx="4191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Verdana"/>
              </a:rPr>
              <a:t>During Era 1, many states and empires came and w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Verdana"/>
              </a:rPr>
              <a:t>New ruling groups built on the foundations of earli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Verdana"/>
              </a:rPr>
              <a:t>Empire and state building included cultural ex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708120" y="3729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11" descr="buildthatfence"/>
          <p:cNvPicPr/>
          <p:nvPr/>
        </p:nvPicPr>
        <p:blipFill>
          <a:blip r:embed="rId1"/>
          <a:stretch/>
        </p:blipFill>
        <p:spPr>
          <a:xfrm>
            <a:off x="4395960" y="372960"/>
            <a:ext cx="4595760" cy="564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E282-697C-457E-AE4E-692A69E5551F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"/>
          <p:cNvGrpSpPr/>
          <p:nvPr/>
        </p:nvGrpSpPr>
        <p:grpSpPr>
          <a:xfrm>
            <a:off x="457200" y="457200"/>
            <a:ext cx="8229240" cy="5257440"/>
            <a:chOff x="457200" y="457200"/>
            <a:chExt cx="8229240" cy="5257440"/>
          </a:xfrm>
        </p:grpSpPr>
        <p:pic>
          <p:nvPicPr>
            <p:cNvPr id="772" name="Picture 3" descr=""/>
            <p:cNvPicPr/>
            <p:nvPr/>
          </p:nvPicPr>
          <p:blipFill>
            <a:blip r:embed="rId1"/>
            <a:srcRect l="0" t="0" r="12223" b="15553"/>
            <a:stretch/>
          </p:blipFill>
          <p:spPr>
            <a:xfrm>
              <a:off x="457200" y="457200"/>
              <a:ext cx="822924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Freeform 4"/>
            <p:cNvSpPr/>
            <p:nvPr/>
          </p:nvSpPr>
          <p:spPr>
            <a:xfrm>
              <a:off x="1310760" y="2067120"/>
              <a:ext cx="815040" cy="382320"/>
            </a:xfrm>
            <a:custGeom>
              <a:avLst/>
              <a:gdLst/>
              <a:ahLst/>
              <a:rect l="l" t="t" r="r" b="b"/>
              <a:pathLst>
                <a:path w="448" h="222">
                  <a:moveTo>
                    <a:pt x="168" y="6"/>
                  </a:moveTo>
                  <a:cubicBezTo>
                    <a:pt x="158" y="37"/>
                    <a:pt x="145" y="50"/>
                    <a:pt x="114" y="60"/>
                  </a:cubicBezTo>
                  <a:cubicBezTo>
                    <a:pt x="100" y="55"/>
                    <a:pt x="92" y="49"/>
                    <a:pt x="78" y="60"/>
                  </a:cubicBezTo>
                  <a:cubicBezTo>
                    <a:pt x="72" y="65"/>
                    <a:pt x="73" y="76"/>
                    <a:pt x="66" y="78"/>
                  </a:cubicBezTo>
                  <a:cubicBezTo>
                    <a:pt x="45" y="84"/>
                    <a:pt x="22" y="82"/>
                    <a:pt x="0" y="84"/>
                  </a:cubicBezTo>
                  <a:cubicBezTo>
                    <a:pt x="11" y="91"/>
                    <a:pt x="26" y="94"/>
                    <a:pt x="36" y="102"/>
                  </a:cubicBezTo>
                  <a:cubicBezTo>
                    <a:pt x="75" y="133"/>
                    <a:pt x="21" y="111"/>
                    <a:pt x="66" y="126"/>
                  </a:cubicBezTo>
                  <a:cubicBezTo>
                    <a:pt x="80" y="169"/>
                    <a:pt x="77" y="184"/>
                    <a:pt x="120" y="198"/>
                  </a:cubicBezTo>
                  <a:cubicBezTo>
                    <a:pt x="171" y="181"/>
                    <a:pt x="142" y="209"/>
                    <a:pt x="180" y="222"/>
                  </a:cubicBezTo>
                  <a:cubicBezTo>
                    <a:pt x="212" y="216"/>
                    <a:pt x="244" y="207"/>
                    <a:pt x="276" y="198"/>
                  </a:cubicBezTo>
                  <a:cubicBezTo>
                    <a:pt x="288" y="195"/>
                    <a:pt x="312" y="186"/>
                    <a:pt x="312" y="186"/>
                  </a:cubicBezTo>
                  <a:cubicBezTo>
                    <a:pt x="330" y="160"/>
                    <a:pt x="365" y="142"/>
                    <a:pt x="396" y="132"/>
                  </a:cubicBezTo>
                  <a:cubicBezTo>
                    <a:pt x="404" y="108"/>
                    <a:pt x="411" y="98"/>
                    <a:pt x="432" y="84"/>
                  </a:cubicBezTo>
                  <a:cubicBezTo>
                    <a:pt x="436" y="78"/>
                    <a:pt x="448" y="72"/>
                    <a:pt x="444" y="66"/>
                  </a:cubicBezTo>
                  <a:cubicBezTo>
                    <a:pt x="437" y="53"/>
                    <a:pt x="375" y="19"/>
                    <a:pt x="354" y="12"/>
                  </a:cubicBezTo>
                  <a:cubicBezTo>
                    <a:pt x="319" y="19"/>
                    <a:pt x="326" y="21"/>
                    <a:pt x="288" y="12"/>
                  </a:cubicBezTo>
                  <a:cubicBezTo>
                    <a:pt x="276" y="9"/>
                    <a:pt x="252" y="0"/>
                    <a:pt x="252" y="0"/>
                  </a:cubicBezTo>
                  <a:cubicBezTo>
                    <a:pt x="209" y="14"/>
                    <a:pt x="263" y="0"/>
                    <a:pt x="210" y="0"/>
                  </a:cubicBezTo>
                  <a:cubicBezTo>
                    <a:pt x="196" y="0"/>
                    <a:pt x="182" y="6"/>
                    <a:pt x="168" y="6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"/>
            <p:cNvSpPr/>
            <p:nvPr/>
          </p:nvSpPr>
          <p:spPr>
            <a:xfrm>
              <a:off x="1954440" y="1985040"/>
              <a:ext cx="1790280" cy="468720"/>
            </a:xfrm>
            <a:custGeom>
              <a:avLst/>
              <a:gdLst/>
              <a:ahLst/>
              <a:rect l="l" t="t" r="r" b="b"/>
              <a:pathLst>
                <a:path w="984" h="272">
                  <a:moveTo>
                    <a:pt x="684" y="246"/>
                  </a:moveTo>
                  <a:cubicBezTo>
                    <a:pt x="722" y="259"/>
                    <a:pt x="679" y="248"/>
                    <a:pt x="738" y="240"/>
                  </a:cubicBezTo>
                  <a:cubicBezTo>
                    <a:pt x="789" y="233"/>
                    <a:pt x="830" y="218"/>
                    <a:pt x="876" y="198"/>
                  </a:cubicBezTo>
                  <a:cubicBezTo>
                    <a:pt x="907" y="184"/>
                    <a:pt x="938" y="181"/>
                    <a:pt x="966" y="162"/>
                  </a:cubicBezTo>
                  <a:cubicBezTo>
                    <a:pt x="984" y="108"/>
                    <a:pt x="980" y="110"/>
                    <a:pt x="924" y="96"/>
                  </a:cubicBezTo>
                  <a:cubicBezTo>
                    <a:pt x="861" y="100"/>
                    <a:pt x="838" y="107"/>
                    <a:pt x="780" y="96"/>
                  </a:cubicBezTo>
                  <a:cubicBezTo>
                    <a:pt x="744" y="89"/>
                    <a:pt x="709" y="75"/>
                    <a:pt x="672" y="72"/>
                  </a:cubicBezTo>
                  <a:cubicBezTo>
                    <a:pt x="624" y="68"/>
                    <a:pt x="448" y="61"/>
                    <a:pt x="414" y="60"/>
                  </a:cubicBezTo>
                  <a:cubicBezTo>
                    <a:pt x="378" y="51"/>
                    <a:pt x="328" y="41"/>
                    <a:pt x="294" y="24"/>
                  </a:cubicBezTo>
                  <a:cubicBezTo>
                    <a:pt x="269" y="11"/>
                    <a:pt x="257" y="6"/>
                    <a:pt x="228" y="0"/>
                  </a:cubicBezTo>
                  <a:cubicBezTo>
                    <a:pt x="165" y="16"/>
                    <a:pt x="101" y="15"/>
                    <a:pt x="36" y="18"/>
                  </a:cubicBezTo>
                  <a:cubicBezTo>
                    <a:pt x="34" y="20"/>
                    <a:pt x="0" y="38"/>
                    <a:pt x="6" y="48"/>
                  </a:cubicBezTo>
                  <a:cubicBezTo>
                    <a:pt x="13" y="61"/>
                    <a:pt x="42" y="72"/>
                    <a:pt x="42" y="72"/>
                  </a:cubicBezTo>
                  <a:cubicBezTo>
                    <a:pt x="44" y="78"/>
                    <a:pt x="43" y="86"/>
                    <a:pt x="48" y="90"/>
                  </a:cubicBezTo>
                  <a:cubicBezTo>
                    <a:pt x="58" y="97"/>
                    <a:pt x="84" y="102"/>
                    <a:pt x="84" y="102"/>
                  </a:cubicBezTo>
                  <a:cubicBezTo>
                    <a:pt x="75" y="128"/>
                    <a:pt x="63" y="148"/>
                    <a:pt x="54" y="174"/>
                  </a:cubicBezTo>
                  <a:cubicBezTo>
                    <a:pt x="58" y="190"/>
                    <a:pt x="55" y="207"/>
                    <a:pt x="78" y="204"/>
                  </a:cubicBezTo>
                  <a:cubicBezTo>
                    <a:pt x="91" y="203"/>
                    <a:pt x="102" y="196"/>
                    <a:pt x="114" y="192"/>
                  </a:cubicBezTo>
                  <a:cubicBezTo>
                    <a:pt x="120" y="190"/>
                    <a:pt x="132" y="186"/>
                    <a:pt x="132" y="186"/>
                  </a:cubicBezTo>
                  <a:cubicBezTo>
                    <a:pt x="196" y="195"/>
                    <a:pt x="253" y="210"/>
                    <a:pt x="306" y="246"/>
                  </a:cubicBezTo>
                  <a:cubicBezTo>
                    <a:pt x="306" y="246"/>
                    <a:pt x="351" y="261"/>
                    <a:pt x="360" y="264"/>
                  </a:cubicBezTo>
                  <a:cubicBezTo>
                    <a:pt x="366" y="266"/>
                    <a:pt x="378" y="270"/>
                    <a:pt x="378" y="270"/>
                  </a:cubicBezTo>
                  <a:cubicBezTo>
                    <a:pt x="410" y="266"/>
                    <a:pt x="445" y="272"/>
                    <a:pt x="474" y="258"/>
                  </a:cubicBezTo>
                  <a:cubicBezTo>
                    <a:pt x="480" y="255"/>
                    <a:pt x="476" y="245"/>
                    <a:pt x="480" y="240"/>
                  </a:cubicBezTo>
                  <a:cubicBezTo>
                    <a:pt x="488" y="229"/>
                    <a:pt x="504" y="226"/>
                    <a:pt x="516" y="222"/>
                  </a:cubicBezTo>
                  <a:cubicBezTo>
                    <a:pt x="518" y="216"/>
                    <a:pt x="516" y="205"/>
                    <a:pt x="522" y="204"/>
                  </a:cubicBezTo>
                  <a:cubicBezTo>
                    <a:pt x="535" y="202"/>
                    <a:pt x="558" y="216"/>
                    <a:pt x="558" y="216"/>
                  </a:cubicBezTo>
                  <a:cubicBezTo>
                    <a:pt x="573" y="262"/>
                    <a:pt x="576" y="254"/>
                    <a:pt x="618" y="240"/>
                  </a:cubicBezTo>
                  <a:cubicBezTo>
                    <a:pt x="631" y="201"/>
                    <a:pt x="641" y="207"/>
                    <a:pt x="672" y="186"/>
                  </a:cubicBezTo>
                  <a:cubicBezTo>
                    <a:pt x="725" y="197"/>
                    <a:pt x="694" y="189"/>
                    <a:pt x="672" y="222"/>
                  </a:cubicBezTo>
                  <a:cubicBezTo>
                    <a:pt x="687" y="244"/>
                    <a:pt x="723" y="259"/>
                    <a:pt x="684" y="246"/>
                  </a:cubicBezTo>
                  <a:close/>
                </a:path>
              </a:pathLst>
            </a:custGeom>
            <a:solidFill>
              <a:srgbClr val="99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"/>
            <p:cNvSpPr/>
            <p:nvPr/>
          </p:nvSpPr>
          <p:spPr>
            <a:xfrm>
              <a:off x="1503000" y="2324880"/>
              <a:ext cx="2150640" cy="1249200"/>
            </a:xfrm>
            <a:custGeom>
              <a:avLst/>
              <a:gdLst/>
              <a:ahLst/>
              <a:rect l="l" t="t" r="r" b="b"/>
              <a:pathLst>
                <a:path w="1181" h="726">
                  <a:moveTo>
                    <a:pt x="1009" y="102"/>
                  </a:moveTo>
                  <a:cubicBezTo>
                    <a:pt x="1045" y="126"/>
                    <a:pt x="1085" y="122"/>
                    <a:pt x="1129" y="126"/>
                  </a:cubicBezTo>
                  <a:cubicBezTo>
                    <a:pt x="1181" y="143"/>
                    <a:pt x="1138" y="227"/>
                    <a:pt x="1099" y="240"/>
                  </a:cubicBezTo>
                  <a:cubicBezTo>
                    <a:pt x="1084" y="285"/>
                    <a:pt x="1106" y="231"/>
                    <a:pt x="1075" y="270"/>
                  </a:cubicBezTo>
                  <a:cubicBezTo>
                    <a:pt x="1071" y="275"/>
                    <a:pt x="1073" y="284"/>
                    <a:pt x="1069" y="288"/>
                  </a:cubicBezTo>
                  <a:cubicBezTo>
                    <a:pt x="1059" y="298"/>
                    <a:pt x="1033" y="312"/>
                    <a:pt x="1033" y="312"/>
                  </a:cubicBezTo>
                  <a:cubicBezTo>
                    <a:pt x="1018" y="334"/>
                    <a:pt x="995" y="357"/>
                    <a:pt x="973" y="372"/>
                  </a:cubicBezTo>
                  <a:cubicBezTo>
                    <a:pt x="963" y="403"/>
                    <a:pt x="938" y="403"/>
                    <a:pt x="913" y="420"/>
                  </a:cubicBezTo>
                  <a:cubicBezTo>
                    <a:pt x="909" y="426"/>
                    <a:pt x="906" y="433"/>
                    <a:pt x="901" y="438"/>
                  </a:cubicBezTo>
                  <a:cubicBezTo>
                    <a:pt x="896" y="443"/>
                    <a:pt x="888" y="445"/>
                    <a:pt x="883" y="450"/>
                  </a:cubicBezTo>
                  <a:cubicBezTo>
                    <a:pt x="874" y="461"/>
                    <a:pt x="859" y="486"/>
                    <a:pt x="859" y="486"/>
                  </a:cubicBezTo>
                  <a:cubicBezTo>
                    <a:pt x="857" y="496"/>
                    <a:pt x="861" y="510"/>
                    <a:pt x="853" y="516"/>
                  </a:cubicBezTo>
                  <a:cubicBezTo>
                    <a:pt x="828" y="536"/>
                    <a:pt x="828" y="497"/>
                    <a:pt x="823" y="492"/>
                  </a:cubicBezTo>
                  <a:cubicBezTo>
                    <a:pt x="819" y="488"/>
                    <a:pt x="811" y="488"/>
                    <a:pt x="805" y="486"/>
                  </a:cubicBezTo>
                  <a:cubicBezTo>
                    <a:pt x="807" y="492"/>
                    <a:pt x="807" y="499"/>
                    <a:pt x="811" y="504"/>
                  </a:cubicBezTo>
                  <a:cubicBezTo>
                    <a:pt x="816" y="510"/>
                    <a:pt x="825" y="510"/>
                    <a:pt x="829" y="516"/>
                  </a:cubicBezTo>
                  <a:cubicBezTo>
                    <a:pt x="843" y="539"/>
                    <a:pt x="850" y="579"/>
                    <a:pt x="859" y="606"/>
                  </a:cubicBezTo>
                  <a:cubicBezTo>
                    <a:pt x="861" y="613"/>
                    <a:pt x="868" y="617"/>
                    <a:pt x="871" y="624"/>
                  </a:cubicBezTo>
                  <a:cubicBezTo>
                    <a:pt x="871" y="624"/>
                    <a:pt x="886" y="669"/>
                    <a:pt x="889" y="678"/>
                  </a:cubicBezTo>
                  <a:cubicBezTo>
                    <a:pt x="891" y="684"/>
                    <a:pt x="895" y="696"/>
                    <a:pt x="895" y="696"/>
                  </a:cubicBezTo>
                  <a:cubicBezTo>
                    <a:pt x="847" y="712"/>
                    <a:pt x="846" y="719"/>
                    <a:pt x="787" y="726"/>
                  </a:cubicBezTo>
                  <a:cubicBezTo>
                    <a:pt x="771" y="723"/>
                    <a:pt x="751" y="723"/>
                    <a:pt x="739" y="708"/>
                  </a:cubicBezTo>
                  <a:cubicBezTo>
                    <a:pt x="735" y="703"/>
                    <a:pt x="736" y="696"/>
                    <a:pt x="733" y="690"/>
                  </a:cubicBezTo>
                  <a:cubicBezTo>
                    <a:pt x="713" y="649"/>
                    <a:pt x="701" y="604"/>
                    <a:pt x="679" y="564"/>
                  </a:cubicBezTo>
                  <a:cubicBezTo>
                    <a:pt x="656" y="522"/>
                    <a:pt x="645" y="511"/>
                    <a:pt x="607" y="486"/>
                  </a:cubicBezTo>
                  <a:cubicBezTo>
                    <a:pt x="595" y="478"/>
                    <a:pt x="571" y="462"/>
                    <a:pt x="571" y="462"/>
                  </a:cubicBezTo>
                  <a:cubicBezTo>
                    <a:pt x="496" y="481"/>
                    <a:pt x="539" y="475"/>
                    <a:pt x="439" y="468"/>
                  </a:cubicBezTo>
                  <a:cubicBezTo>
                    <a:pt x="429" y="466"/>
                    <a:pt x="419" y="465"/>
                    <a:pt x="409" y="462"/>
                  </a:cubicBezTo>
                  <a:cubicBezTo>
                    <a:pt x="397" y="459"/>
                    <a:pt x="373" y="450"/>
                    <a:pt x="373" y="450"/>
                  </a:cubicBezTo>
                  <a:cubicBezTo>
                    <a:pt x="343" y="406"/>
                    <a:pt x="217" y="414"/>
                    <a:pt x="217" y="414"/>
                  </a:cubicBezTo>
                  <a:cubicBezTo>
                    <a:pt x="176" y="400"/>
                    <a:pt x="220" y="419"/>
                    <a:pt x="187" y="390"/>
                  </a:cubicBezTo>
                  <a:cubicBezTo>
                    <a:pt x="187" y="390"/>
                    <a:pt x="142" y="360"/>
                    <a:pt x="133" y="354"/>
                  </a:cubicBezTo>
                  <a:cubicBezTo>
                    <a:pt x="109" y="338"/>
                    <a:pt x="44" y="324"/>
                    <a:pt x="13" y="318"/>
                  </a:cubicBezTo>
                  <a:cubicBezTo>
                    <a:pt x="0" y="279"/>
                    <a:pt x="15" y="282"/>
                    <a:pt x="55" y="276"/>
                  </a:cubicBezTo>
                  <a:cubicBezTo>
                    <a:pt x="89" y="265"/>
                    <a:pt x="77" y="287"/>
                    <a:pt x="115" y="276"/>
                  </a:cubicBezTo>
                  <a:cubicBezTo>
                    <a:pt x="127" y="272"/>
                    <a:pt x="139" y="268"/>
                    <a:pt x="151" y="264"/>
                  </a:cubicBezTo>
                  <a:cubicBezTo>
                    <a:pt x="157" y="262"/>
                    <a:pt x="169" y="258"/>
                    <a:pt x="169" y="258"/>
                  </a:cubicBezTo>
                  <a:cubicBezTo>
                    <a:pt x="195" y="276"/>
                    <a:pt x="214" y="263"/>
                    <a:pt x="247" y="258"/>
                  </a:cubicBezTo>
                  <a:cubicBezTo>
                    <a:pt x="318" y="268"/>
                    <a:pt x="280" y="255"/>
                    <a:pt x="265" y="300"/>
                  </a:cubicBezTo>
                  <a:cubicBezTo>
                    <a:pt x="281" y="324"/>
                    <a:pt x="288" y="329"/>
                    <a:pt x="271" y="354"/>
                  </a:cubicBezTo>
                  <a:cubicBezTo>
                    <a:pt x="303" y="375"/>
                    <a:pt x="282" y="364"/>
                    <a:pt x="337" y="378"/>
                  </a:cubicBezTo>
                  <a:cubicBezTo>
                    <a:pt x="349" y="381"/>
                    <a:pt x="361" y="386"/>
                    <a:pt x="373" y="390"/>
                  </a:cubicBezTo>
                  <a:cubicBezTo>
                    <a:pt x="379" y="392"/>
                    <a:pt x="391" y="396"/>
                    <a:pt x="391" y="396"/>
                  </a:cubicBezTo>
                  <a:cubicBezTo>
                    <a:pt x="393" y="402"/>
                    <a:pt x="392" y="410"/>
                    <a:pt x="397" y="414"/>
                  </a:cubicBezTo>
                  <a:cubicBezTo>
                    <a:pt x="399" y="415"/>
                    <a:pt x="478" y="447"/>
                    <a:pt x="487" y="450"/>
                  </a:cubicBezTo>
                  <a:cubicBezTo>
                    <a:pt x="532" y="435"/>
                    <a:pt x="473" y="461"/>
                    <a:pt x="511" y="396"/>
                  </a:cubicBezTo>
                  <a:cubicBezTo>
                    <a:pt x="518" y="384"/>
                    <a:pt x="547" y="372"/>
                    <a:pt x="547" y="372"/>
                  </a:cubicBezTo>
                  <a:cubicBezTo>
                    <a:pt x="583" y="381"/>
                    <a:pt x="563" y="375"/>
                    <a:pt x="607" y="390"/>
                  </a:cubicBezTo>
                  <a:cubicBezTo>
                    <a:pt x="613" y="392"/>
                    <a:pt x="625" y="396"/>
                    <a:pt x="625" y="396"/>
                  </a:cubicBezTo>
                  <a:cubicBezTo>
                    <a:pt x="647" y="428"/>
                    <a:pt x="626" y="408"/>
                    <a:pt x="679" y="420"/>
                  </a:cubicBezTo>
                  <a:cubicBezTo>
                    <a:pt x="691" y="423"/>
                    <a:pt x="715" y="432"/>
                    <a:pt x="715" y="432"/>
                  </a:cubicBezTo>
                  <a:cubicBezTo>
                    <a:pt x="770" y="424"/>
                    <a:pt x="744" y="430"/>
                    <a:pt x="793" y="414"/>
                  </a:cubicBezTo>
                  <a:cubicBezTo>
                    <a:pt x="799" y="412"/>
                    <a:pt x="811" y="408"/>
                    <a:pt x="811" y="408"/>
                  </a:cubicBezTo>
                  <a:cubicBezTo>
                    <a:pt x="853" y="422"/>
                    <a:pt x="835" y="424"/>
                    <a:pt x="865" y="414"/>
                  </a:cubicBezTo>
                  <a:cubicBezTo>
                    <a:pt x="869" y="402"/>
                    <a:pt x="873" y="390"/>
                    <a:pt x="877" y="378"/>
                  </a:cubicBezTo>
                  <a:cubicBezTo>
                    <a:pt x="879" y="372"/>
                    <a:pt x="883" y="360"/>
                    <a:pt x="883" y="360"/>
                  </a:cubicBezTo>
                  <a:cubicBezTo>
                    <a:pt x="879" y="320"/>
                    <a:pt x="888" y="278"/>
                    <a:pt x="841" y="294"/>
                  </a:cubicBezTo>
                  <a:cubicBezTo>
                    <a:pt x="819" y="292"/>
                    <a:pt x="796" y="295"/>
                    <a:pt x="775" y="288"/>
                  </a:cubicBezTo>
                  <a:cubicBezTo>
                    <a:pt x="769" y="286"/>
                    <a:pt x="775" y="273"/>
                    <a:pt x="769" y="270"/>
                  </a:cubicBezTo>
                  <a:cubicBezTo>
                    <a:pt x="762" y="266"/>
                    <a:pt x="736" y="286"/>
                    <a:pt x="733" y="288"/>
                  </a:cubicBezTo>
                  <a:cubicBezTo>
                    <a:pt x="708" y="280"/>
                    <a:pt x="694" y="284"/>
                    <a:pt x="685" y="258"/>
                  </a:cubicBezTo>
                  <a:cubicBezTo>
                    <a:pt x="634" y="275"/>
                    <a:pt x="692" y="261"/>
                    <a:pt x="673" y="246"/>
                  </a:cubicBezTo>
                  <a:cubicBezTo>
                    <a:pt x="664" y="238"/>
                    <a:pt x="649" y="242"/>
                    <a:pt x="637" y="240"/>
                  </a:cubicBezTo>
                  <a:cubicBezTo>
                    <a:pt x="643" y="236"/>
                    <a:pt x="649" y="231"/>
                    <a:pt x="655" y="228"/>
                  </a:cubicBezTo>
                  <a:cubicBezTo>
                    <a:pt x="661" y="225"/>
                    <a:pt x="671" y="228"/>
                    <a:pt x="673" y="222"/>
                  </a:cubicBezTo>
                  <a:cubicBezTo>
                    <a:pt x="677" y="205"/>
                    <a:pt x="651" y="201"/>
                    <a:pt x="643" y="198"/>
                  </a:cubicBezTo>
                  <a:cubicBezTo>
                    <a:pt x="639" y="186"/>
                    <a:pt x="635" y="174"/>
                    <a:pt x="631" y="162"/>
                  </a:cubicBezTo>
                  <a:cubicBezTo>
                    <a:pt x="627" y="150"/>
                    <a:pt x="595" y="174"/>
                    <a:pt x="595" y="174"/>
                  </a:cubicBezTo>
                  <a:cubicBezTo>
                    <a:pt x="554" y="147"/>
                    <a:pt x="590" y="166"/>
                    <a:pt x="583" y="180"/>
                  </a:cubicBezTo>
                  <a:cubicBezTo>
                    <a:pt x="580" y="186"/>
                    <a:pt x="571" y="184"/>
                    <a:pt x="565" y="186"/>
                  </a:cubicBezTo>
                  <a:cubicBezTo>
                    <a:pt x="573" y="209"/>
                    <a:pt x="603" y="229"/>
                    <a:pt x="565" y="216"/>
                  </a:cubicBezTo>
                  <a:cubicBezTo>
                    <a:pt x="594" y="259"/>
                    <a:pt x="572" y="214"/>
                    <a:pt x="559" y="240"/>
                  </a:cubicBezTo>
                  <a:cubicBezTo>
                    <a:pt x="555" y="247"/>
                    <a:pt x="575" y="273"/>
                    <a:pt x="577" y="276"/>
                  </a:cubicBezTo>
                  <a:cubicBezTo>
                    <a:pt x="551" y="285"/>
                    <a:pt x="544" y="281"/>
                    <a:pt x="529" y="258"/>
                  </a:cubicBezTo>
                  <a:cubicBezTo>
                    <a:pt x="531" y="252"/>
                    <a:pt x="529" y="243"/>
                    <a:pt x="535" y="240"/>
                  </a:cubicBezTo>
                  <a:cubicBezTo>
                    <a:pt x="542" y="236"/>
                    <a:pt x="578" y="263"/>
                    <a:pt x="535" y="234"/>
                  </a:cubicBezTo>
                  <a:cubicBezTo>
                    <a:pt x="498" y="246"/>
                    <a:pt x="531" y="241"/>
                    <a:pt x="523" y="216"/>
                  </a:cubicBezTo>
                  <a:cubicBezTo>
                    <a:pt x="519" y="202"/>
                    <a:pt x="499" y="180"/>
                    <a:pt x="499" y="180"/>
                  </a:cubicBezTo>
                  <a:cubicBezTo>
                    <a:pt x="485" y="124"/>
                    <a:pt x="452" y="130"/>
                    <a:pt x="409" y="102"/>
                  </a:cubicBezTo>
                  <a:cubicBezTo>
                    <a:pt x="395" y="60"/>
                    <a:pt x="409" y="70"/>
                    <a:pt x="379" y="60"/>
                  </a:cubicBezTo>
                  <a:cubicBezTo>
                    <a:pt x="368" y="28"/>
                    <a:pt x="352" y="42"/>
                    <a:pt x="325" y="24"/>
                  </a:cubicBezTo>
                  <a:cubicBezTo>
                    <a:pt x="306" y="30"/>
                    <a:pt x="301" y="32"/>
                    <a:pt x="301" y="54"/>
                  </a:cubicBezTo>
                  <a:cubicBezTo>
                    <a:pt x="299" y="60"/>
                    <a:pt x="291" y="67"/>
                    <a:pt x="295" y="72"/>
                  </a:cubicBezTo>
                  <a:cubicBezTo>
                    <a:pt x="303" y="84"/>
                    <a:pt x="331" y="96"/>
                    <a:pt x="331" y="96"/>
                  </a:cubicBezTo>
                  <a:cubicBezTo>
                    <a:pt x="333" y="102"/>
                    <a:pt x="343" y="113"/>
                    <a:pt x="337" y="114"/>
                  </a:cubicBezTo>
                  <a:cubicBezTo>
                    <a:pt x="325" y="116"/>
                    <a:pt x="301" y="102"/>
                    <a:pt x="301" y="102"/>
                  </a:cubicBezTo>
                  <a:cubicBezTo>
                    <a:pt x="289" y="137"/>
                    <a:pt x="295" y="110"/>
                    <a:pt x="265" y="90"/>
                  </a:cubicBezTo>
                  <a:cubicBezTo>
                    <a:pt x="300" y="67"/>
                    <a:pt x="271" y="83"/>
                    <a:pt x="259" y="48"/>
                  </a:cubicBezTo>
                  <a:cubicBezTo>
                    <a:pt x="265" y="44"/>
                    <a:pt x="272" y="41"/>
                    <a:pt x="277" y="36"/>
                  </a:cubicBezTo>
                  <a:cubicBezTo>
                    <a:pt x="282" y="31"/>
                    <a:pt x="283" y="23"/>
                    <a:pt x="289" y="18"/>
                  </a:cubicBezTo>
                  <a:cubicBezTo>
                    <a:pt x="307" y="4"/>
                    <a:pt x="339" y="7"/>
                    <a:pt x="361" y="0"/>
                  </a:cubicBezTo>
                  <a:cubicBezTo>
                    <a:pt x="415" y="4"/>
                    <a:pt x="455" y="14"/>
                    <a:pt x="505" y="24"/>
                  </a:cubicBezTo>
                  <a:cubicBezTo>
                    <a:pt x="511" y="28"/>
                    <a:pt x="518" y="31"/>
                    <a:pt x="523" y="36"/>
                  </a:cubicBezTo>
                  <a:cubicBezTo>
                    <a:pt x="528" y="41"/>
                    <a:pt x="529" y="49"/>
                    <a:pt x="535" y="54"/>
                  </a:cubicBezTo>
                  <a:cubicBezTo>
                    <a:pt x="547" y="64"/>
                    <a:pt x="574" y="73"/>
                    <a:pt x="589" y="78"/>
                  </a:cubicBezTo>
                  <a:cubicBezTo>
                    <a:pt x="595" y="76"/>
                    <a:pt x="601" y="71"/>
                    <a:pt x="607" y="72"/>
                  </a:cubicBezTo>
                  <a:cubicBezTo>
                    <a:pt x="620" y="73"/>
                    <a:pt x="643" y="84"/>
                    <a:pt x="643" y="84"/>
                  </a:cubicBezTo>
                  <a:cubicBezTo>
                    <a:pt x="659" y="82"/>
                    <a:pt x="675" y="81"/>
                    <a:pt x="691" y="78"/>
                  </a:cubicBezTo>
                  <a:cubicBezTo>
                    <a:pt x="697" y="77"/>
                    <a:pt x="708" y="66"/>
                    <a:pt x="709" y="72"/>
                  </a:cubicBezTo>
                  <a:cubicBezTo>
                    <a:pt x="711" y="84"/>
                    <a:pt x="701" y="96"/>
                    <a:pt x="697" y="108"/>
                  </a:cubicBezTo>
                  <a:cubicBezTo>
                    <a:pt x="695" y="114"/>
                    <a:pt x="691" y="126"/>
                    <a:pt x="691" y="126"/>
                  </a:cubicBezTo>
                  <a:cubicBezTo>
                    <a:pt x="695" y="132"/>
                    <a:pt x="704" y="137"/>
                    <a:pt x="703" y="144"/>
                  </a:cubicBezTo>
                  <a:cubicBezTo>
                    <a:pt x="702" y="151"/>
                    <a:pt x="688" y="149"/>
                    <a:pt x="685" y="156"/>
                  </a:cubicBezTo>
                  <a:cubicBezTo>
                    <a:pt x="677" y="175"/>
                    <a:pt x="701" y="177"/>
                    <a:pt x="709" y="180"/>
                  </a:cubicBezTo>
                  <a:cubicBezTo>
                    <a:pt x="707" y="174"/>
                    <a:pt x="700" y="168"/>
                    <a:pt x="703" y="162"/>
                  </a:cubicBezTo>
                  <a:cubicBezTo>
                    <a:pt x="705" y="158"/>
                    <a:pt x="759" y="147"/>
                    <a:pt x="769" y="144"/>
                  </a:cubicBezTo>
                  <a:cubicBezTo>
                    <a:pt x="846" y="148"/>
                    <a:pt x="881" y="154"/>
                    <a:pt x="949" y="162"/>
                  </a:cubicBezTo>
                  <a:cubicBezTo>
                    <a:pt x="991" y="154"/>
                    <a:pt x="969" y="159"/>
                    <a:pt x="1015" y="144"/>
                  </a:cubicBezTo>
                  <a:cubicBezTo>
                    <a:pt x="1021" y="142"/>
                    <a:pt x="1033" y="138"/>
                    <a:pt x="1033" y="138"/>
                  </a:cubicBezTo>
                  <a:cubicBezTo>
                    <a:pt x="1024" y="112"/>
                    <a:pt x="1031" y="124"/>
                    <a:pt x="1009" y="10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"/>
            <p:cNvSpPr/>
            <p:nvPr/>
          </p:nvSpPr>
          <p:spPr>
            <a:xfrm>
              <a:off x="1895040" y="2511360"/>
              <a:ext cx="51120" cy="460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10" y="6"/>
                    <a:pt x="0" y="11"/>
                    <a:pt x="2" y="18"/>
                  </a:cubicBezTo>
                  <a:cubicBezTo>
                    <a:pt x="4" y="24"/>
                    <a:pt x="14" y="27"/>
                    <a:pt x="20" y="24"/>
                  </a:cubicBezTo>
                  <a:cubicBezTo>
                    <a:pt x="26" y="21"/>
                    <a:pt x="28" y="12"/>
                    <a:pt x="26" y="6"/>
                  </a:cubicBezTo>
                  <a:cubicBezTo>
                    <a:pt x="25" y="2"/>
                    <a:pt x="18" y="2"/>
                    <a:pt x="14" y="0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"/>
            <p:cNvSpPr/>
            <p:nvPr/>
          </p:nvSpPr>
          <p:spPr>
            <a:xfrm>
              <a:off x="1872360" y="2582280"/>
              <a:ext cx="81720" cy="11304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3" y="0"/>
                  </a:moveTo>
                  <a:cubicBezTo>
                    <a:pt x="0" y="11"/>
                    <a:pt x="8" y="38"/>
                    <a:pt x="15" y="66"/>
                  </a:cubicBezTo>
                  <a:cubicBezTo>
                    <a:pt x="21" y="64"/>
                    <a:pt x="29" y="65"/>
                    <a:pt x="33" y="60"/>
                  </a:cubicBezTo>
                  <a:cubicBezTo>
                    <a:pt x="40" y="50"/>
                    <a:pt x="45" y="24"/>
                    <a:pt x="45" y="24"/>
                  </a:cubicBezTo>
                  <a:cubicBezTo>
                    <a:pt x="43" y="18"/>
                    <a:pt x="45" y="6"/>
                    <a:pt x="39" y="6"/>
                  </a:cubicBezTo>
                  <a:cubicBezTo>
                    <a:pt x="32" y="6"/>
                    <a:pt x="32" y="29"/>
                    <a:pt x="27" y="24"/>
                  </a:cubicBezTo>
                  <a:cubicBezTo>
                    <a:pt x="21" y="18"/>
                    <a:pt x="31" y="8"/>
                    <a:pt x="33" y="0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"/>
            <p:cNvSpPr/>
            <p:nvPr/>
          </p:nvSpPr>
          <p:spPr>
            <a:xfrm>
              <a:off x="2057040" y="2665080"/>
              <a:ext cx="249480" cy="155520"/>
            </a:xfrm>
            <a:custGeom>
              <a:avLst/>
              <a:gdLst/>
              <a:ahLst/>
              <a:rect l="l" t="t" r="r" b="b"/>
              <a:pathLst>
                <a:path w="138" h="90">
                  <a:moveTo>
                    <a:pt x="94" y="0"/>
                  </a:moveTo>
                  <a:cubicBezTo>
                    <a:pt x="87" y="26"/>
                    <a:pt x="90" y="39"/>
                    <a:pt x="64" y="48"/>
                  </a:cubicBezTo>
                  <a:cubicBezTo>
                    <a:pt x="52" y="46"/>
                    <a:pt x="40" y="42"/>
                    <a:pt x="28" y="42"/>
                  </a:cubicBezTo>
                  <a:cubicBezTo>
                    <a:pt x="9" y="42"/>
                    <a:pt x="0" y="52"/>
                    <a:pt x="22" y="66"/>
                  </a:cubicBezTo>
                  <a:cubicBezTo>
                    <a:pt x="33" y="73"/>
                    <a:pt x="47" y="71"/>
                    <a:pt x="58" y="78"/>
                  </a:cubicBezTo>
                  <a:cubicBezTo>
                    <a:pt x="64" y="82"/>
                    <a:pt x="70" y="86"/>
                    <a:pt x="76" y="90"/>
                  </a:cubicBezTo>
                  <a:cubicBezTo>
                    <a:pt x="82" y="88"/>
                    <a:pt x="90" y="89"/>
                    <a:pt x="94" y="84"/>
                  </a:cubicBezTo>
                  <a:cubicBezTo>
                    <a:pt x="100" y="76"/>
                    <a:pt x="103" y="64"/>
                    <a:pt x="100" y="54"/>
                  </a:cubicBezTo>
                  <a:cubicBezTo>
                    <a:pt x="98" y="45"/>
                    <a:pt x="57" y="34"/>
                    <a:pt x="100" y="48"/>
                  </a:cubicBezTo>
                  <a:cubicBezTo>
                    <a:pt x="138" y="23"/>
                    <a:pt x="128" y="17"/>
                    <a:pt x="94" y="0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0"/>
            <p:cNvSpPr/>
            <p:nvPr/>
          </p:nvSpPr>
          <p:spPr>
            <a:xfrm>
              <a:off x="1177200" y="2730600"/>
              <a:ext cx="294840" cy="110880"/>
            </a:xfrm>
            <a:custGeom>
              <a:avLst/>
              <a:gdLst/>
              <a:ahLst/>
              <a:rect l="l" t="t" r="r" b="b"/>
              <a:pathLst>
                <a:path w="162" h="66">
                  <a:moveTo>
                    <a:pt x="150" y="18"/>
                  </a:moveTo>
                  <a:cubicBezTo>
                    <a:pt x="128" y="11"/>
                    <a:pt x="106" y="7"/>
                    <a:pt x="84" y="0"/>
                  </a:cubicBezTo>
                  <a:cubicBezTo>
                    <a:pt x="56" y="9"/>
                    <a:pt x="28" y="15"/>
                    <a:pt x="0" y="24"/>
                  </a:cubicBezTo>
                  <a:cubicBezTo>
                    <a:pt x="8" y="49"/>
                    <a:pt x="21" y="44"/>
                    <a:pt x="36" y="66"/>
                  </a:cubicBezTo>
                  <a:cubicBezTo>
                    <a:pt x="42" y="64"/>
                    <a:pt x="48" y="63"/>
                    <a:pt x="54" y="60"/>
                  </a:cubicBezTo>
                  <a:cubicBezTo>
                    <a:pt x="60" y="57"/>
                    <a:pt x="65" y="51"/>
                    <a:pt x="72" y="48"/>
                  </a:cubicBezTo>
                  <a:cubicBezTo>
                    <a:pt x="84" y="43"/>
                    <a:pt x="108" y="36"/>
                    <a:pt x="108" y="36"/>
                  </a:cubicBezTo>
                  <a:cubicBezTo>
                    <a:pt x="136" y="45"/>
                    <a:pt x="142" y="38"/>
                    <a:pt x="162" y="18"/>
                  </a:cubicBezTo>
                  <a:cubicBezTo>
                    <a:pt x="140" y="4"/>
                    <a:pt x="141" y="0"/>
                    <a:pt x="150" y="18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2981160" y="3712320"/>
              <a:ext cx="479880" cy="351360"/>
            </a:xfrm>
            <a:custGeom>
              <a:avLst/>
              <a:gdLst/>
              <a:ahLst/>
              <a:rect l="l" t="t" r="r" b="b"/>
              <a:pathLst>
                <a:path w="264" h="204">
                  <a:moveTo>
                    <a:pt x="246" y="129"/>
                  </a:moveTo>
                  <a:cubicBezTo>
                    <a:pt x="255" y="103"/>
                    <a:pt x="251" y="96"/>
                    <a:pt x="228" y="81"/>
                  </a:cubicBezTo>
                  <a:cubicBezTo>
                    <a:pt x="174" y="0"/>
                    <a:pt x="238" y="79"/>
                    <a:pt x="168" y="33"/>
                  </a:cubicBezTo>
                  <a:cubicBezTo>
                    <a:pt x="156" y="25"/>
                    <a:pt x="132" y="9"/>
                    <a:pt x="132" y="9"/>
                  </a:cubicBezTo>
                  <a:cubicBezTo>
                    <a:pt x="102" y="29"/>
                    <a:pt x="67" y="24"/>
                    <a:pt x="36" y="45"/>
                  </a:cubicBezTo>
                  <a:cubicBezTo>
                    <a:pt x="27" y="71"/>
                    <a:pt x="15" y="91"/>
                    <a:pt x="6" y="117"/>
                  </a:cubicBezTo>
                  <a:cubicBezTo>
                    <a:pt x="4" y="123"/>
                    <a:pt x="0" y="135"/>
                    <a:pt x="0" y="135"/>
                  </a:cubicBezTo>
                  <a:cubicBezTo>
                    <a:pt x="67" y="179"/>
                    <a:pt x="73" y="172"/>
                    <a:pt x="156" y="189"/>
                  </a:cubicBezTo>
                  <a:cubicBezTo>
                    <a:pt x="235" y="184"/>
                    <a:pt x="245" y="204"/>
                    <a:pt x="264" y="147"/>
                  </a:cubicBezTo>
                  <a:cubicBezTo>
                    <a:pt x="250" y="105"/>
                    <a:pt x="256" y="99"/>
                    <a:pt x="246" y="129"/>
                  </a:cubicBezTo>
                  <a:close/>
                </a:path>
              </a:pathLst>
            </a:cu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2"/>
            <p:cNvSpPr/>
            <p:nvPr/>
          </p:nvSpPr>
          <p:spPr>
            <a:xfrm>
              <a:off x="973080" y="3635640"/>
              <a:ext cx="603720" cy="228240"/>
            </a:xfrm>
            <a:custGeom>
              <a:avLst/>
              <a:gdLst/>
              <a:ahLst/>
              <a:rect l="l" t="t" r="r" b="b"/>
              <a:pathLst>
                <a:path w="331" h="132">
                  <a:moveTo>
                    <a:pt x="310" y="0"/>
                  </a:moveTo>
                  <a:cubicBezTo>
                    <a:pt x="272" y="26"/>
                    <a:pt x="309" y="6"/>
                    <a:pt x="232" y="6"/>
                  </a:cubicBezTo>
                  <a:cubicBezTo>
                    <a:pt x="195" y="6"/>
                    <a:pt x="123" y="14"/>
                    <a:pt x="82" y="18"/>
                  </a:cubicBezTo>
                  <a:cubicBezTo>
                    <a:pt x="28" y="32"/>
                    <a:pt x="50" y="25"/>
                    <a:pt x="16" y="36"/>
                  </a:cubicBezTo>
                  <a:cubicBezTo>
                    <a:pt x="0" y="60"/>
                    <a:pt x="1" y="48"/>
                    <a:pt x="10" y="78"/>
                  </a:cubicBezTo>
                  <a:cubicBezTo>
                    <a:pt x="25" y="129"/>
                    <a:pt x="88" y="126"/>
                    <a:pt x="130" y="132"/>
                  </a:cubicBezTo>
                  <a:cubicBezTo>
                    <a:pt x="188" y="118"/>
                    <a:pt x="254" y="112"/>
                    <a:pt x="304" y="78"/>
                  </a:cubicBezTo>
                  <a:cubicBezTo>
                    <a:pt x="316" y="60"/>
                    <a:pt x="331" y="41"/>
                    <a:pt x="316" y="18"/>
                  </a:cubicBezTo>
                  <a:cubicBezTo>
                    <a:pt x="312" y="12"/>
                    <a:pt x="300" y="13"/>
                    <a:pt x="298" y="6"/>
                  </a:cubicBezTo>
                  <a:cubicBezTo>
                    <a:pt x="297" y="2"/>
                    <a:pt x="306" y="2"/>
                    <a:pt x="310" y="0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3352680" y="2422800"/>
              <a:ext cx="1232280" cy="937800"/>
            </a:xfrm>
            <a:custGeom>
              <a:avLst/>
              <a:gdLst/>
              <a:ahLst/>
              <a:rect l="l" t="t" r="r" b="b"/>
              <a:pathLst>
                <a:path w="678" h="544">
                  <a:moveTo>
                    <a:pt x="144" y="69"/>
                  </a:moveTo>
                  <a:cubicBezTo>
                    <a:pt x="196" y="86"/>
                    <a:pt x="169" y="84"/>
                    <a:pt x="210" y="111"/>
                  </a:cubicBezTo>
                  <a:cubicBezTo>
                    <a:pt x="221" y="144"/>
                    <a:pt x="203" y="126"/>
                    <a:pt x="192" y="159"/>
                  </a:cubicBezTo>
                  <a:cubicBezTo>
                    <a:pt x="194" y="169"/>
                    <a:pt x="191" y="182"/>
                    <a:pt x="198" y="189"/>
                  </a:cubicBezTo>
                  <a:cubicBezTo>
                    <a:pt x="209" y="200"/>
                    <a:pt x="267" y="211"/>
                    <a:pt x="288" y="225"/>
                  </a:cubicBezTo>
                  <a:cubicBezTo>
                    <a:pt x="316" y="216"/>
                    <a:pt x="312" y="208"/>
                    <a:pt x="306" y="183"/>
                  </a:cubicBezTo>
                  <a:cubicBezTo>
                    <a:pt x="301" y="163"/>
                    <a:pt x="294" y="123"/>
                    <a:pt x="294" y="123"/>
                  </a:cubicBezTo>
                  <a:cubicBezTo>
                    <a:pt x="305" y="116"/>
                    <a:pt x="320" y="113"/>
                    <a:pt x="330" y="105"/>
                  </a:cubicBezTo>
                  <a:cubicBezTo>
                    <a:pt x="369" y="74"/>
                    <a:pt x="315" y="96"/>
                    <a:pt x="360" y="81"/>
                  </a:cubicBezTo>
                  <a:cubicBezTo>
                    <a:pt x="364" y="75"/>
                    <a:pt x="366" y="68"/>
                    <a:pt x="372" y="63"/>
                  </a:cubicBezTo>
                  <a:cubicBezTo>
                    <a:pt x="377" y="59"/>
                    <a:pt x="386" y="61"/>
                    <a:pt x="390" y="57"/>
                  </a:cubicBezTo>
                  <a:cubicBezTo>
                    <a:pt x="395" y="52"/>
                    <a:pt x="411" y="11"/>
                    <a:pt x="414" y="3"/>
                  </a:cubicBezTo>
                  <a:cubicBezTo>
                    <a:pt x="420" y="5"/>
                    <a:pt x="426" y="9"/>
                    <a:pt x="432" y="9"/>
                  </a:cubicBezTo>
                  <a:cubicBezTo>
                    <a:pt x="438" y="9"/>
                    <a:pt x="444" y="0"/>
                    <a:pt x="450" y="3"/>
                  </a:cubicBezTo>
                  <a:cubicBezTo>
                    <a:pt x="456" y="6"/>
                    <a:pt x="454" y="15"/>
                    <a:pt x="456" y="21"/>
                  </a:cubicBezTo>
                  <a:cubicBezTo>
                    <a:pt x="463" y="45"/>
                    <a:pt x="465" y="81"/>
                    <a:pt x="486" y="99"/>
                  </a:cubicBezTo>
                  <a:cubicBezTo>
                    <a:pt x="510" y="120"/>
                    <a:pt x="533" y="124"/>
                    <a:pt x="558" y="141"/>
                  </a:cubicBezTo>
                  <a:cubicBezTo>
                    <a:pt x="572" y="163"/>
                    <a:pt x="585" y="163"/>
                    <a:pt x="606" y="177"/>
                  </a:cubicBezTo>
                  <a:cubicBezTo>
                    <a:pt x="620" y="198"/>
                    <a:pt x="630" y="205"/>
                    <a:pt x="654" y="213"/>
                  </a:cubicBezTo>
                  <a:cubicBezTo>
                    <a:pt x="658" y="226"/>
                    <a:pt x="671" y="236"/>
                    <a:pt x="672" y="249"/>
                  </a:cubicBezTo>
                  <a:cubicBezTo>
                    <a:pt x="678" y="308"/>
                    <a:pt x="630" y="397"/>
                    <a:pt x="582" y="429"/>
                  </a:cubicBezTo>
                  <a:cubicBezTo>
                    <a:pt x="562" y="459"/>
                    <a:pt x="542" y="489"/>
                    <a:pt x="522" y="519"/>
                  </a:cubicBezTo>
                  <a:cubicBezTo>
                    <a:pt x="518" y="524"/>
                    <a:pt x="510" y="522"/>
                    <a:pt x="504" y="525"/>
                  </a:cubicBezTo>
                  <a:cubicBezTo>
                    <a:pt x="498" y="528"/>
                    <a:pt x="492" y="533"/>
                    <a:pt x="486" y="537"/>
                  </a:cubicBezTo>
                  <a:cubicBezTo>
                    <a:pt x="446" y="511"/>
                    <a:pt x="430" y="544"/>
                    <a:pt x="384" y="513"/>
                  </a:cubicBezTo>
                  <a:cubicBezTo>
                    <a:pt x="370" y="470"/>
                    <a:pt x="384" y="473"/>
                    <a:pt x="342" y="483"/>
                  </a:cubicBezTo>
                  <a:cubicBezTo>
                    <a:pt x="336" y="485"/>
                    <a:pt x="330" y="487"/>
                    <a:pt x="324" y="489"/>
                  </a:cubicBezTo>
                  <a:cubicBezTo>
                    <a:pt x="259" y="467"/>
                    <a:pt x="312" y="479"/>
                    <a:pt x="264" y="447"/>
                  </a:cubicBezTo>
                  <a:cubicBezTo>
                    <a:pt x="253" y="413"/>
                    <a:pt x="239" y="402"/>
                    <a:pt x="204" y="393"/>
                  </a:cubicBezTo>
                  <a:cubicBezTo>
                    <a:pt x="196" y="395"/>
                    <a:pt x="187" y="394"/>
                    <a:pt x="180" y="399"/>
                  </a:cubicBezTo>
                  <a:cubicBezTo>
                    <a:pt x="174" y="403"/>
                    <a:pt x="175" y="416"/>
                    <a:pt x="168" y="417"/>
                  </a:cubicBezTo>
                  <a:cubicBezTo>
                    <a:pt x="152" y="420"/>
                    <a:pt x="136" y="413"/>
                    <a:pt x="120" y="411"/>
                  </a:cubicBezTo>
                  <a:cubicBezTo>
                    <a:pt x="94" y="402"/>
                    <a:pt x="74" y="390"/>
                    <a:pt x="48" y="381"/>
                  </a:cubicBezTo>
                  <a:cubicBezTo>
                    <a:pt x="36" y="363"/>
                    <a:pt x="19" y="348"/>
                    <a:pt x="12" y="327"/>
                  </a:cubicBezTo>
                  <a:cubicBezTo>
                    <a:pt x="8" y="315"/>
                    <a:pt x="0" y="291"/>
                    <a:pt x="0" y="291"/>
                  </a:cubicBezTo>
                  <a:cubicBezTo>
                    <a:pt x="4" y="285"/>
                    <a:pt x="6" y="278"/>
                    <a:pt x="12" y="273"/>
                  </a:cubicBezTo>
                  <a:cubicBezTo>
                    <a:pt x="17" y="269"/>
                    <a:pt x="26" y="271"/>
                    <a:pt x="30" y="267"/>
                  </a:cubicBezTo>
                  <a:cubicBezTo>
                    <a:pt x="40" y="257"/>
                    <a:pt x="46" y="243"/>
                    <a:pt x="54" y="231"/>
                  </a:cubicBezTo>
                  <a:cubicBezTo>
                    <a:pt x="62" y="219"/>
                    <a:pt x="90" y="207"/>
                    <a:pt x="90" y="207"/>
                  </a:cubicBezTo>
                  <a:cubicBezTo>
                    <a:pt x="94" y="201"/>
                    <a:pt x="97" y="194"/>
                    <a:pt x="102" y="189"/>
                  </a:cubicBezTo>
                  <a:cubicBezTo>
                    <a:pt x="107" y="184"/>
                    <a:pt x="115" y="183"/>
                    <a:pt x="120" y="177"/>
                  </a:cubicBezTo>
                  <a:cubicBezTo>
                    <a:pt x="153" y="136"/>
                    <a:pt x="92" y="181"/>
                    <a:pt x="144" y="147"/>
                  </a:cubicBezTo>
                  <a:cubicBezTo>
                    <a:pt x="135" y="121"/>
                    <a:pt x="142" y="100"/>
                    <a:pt x="150" y="75"/>
                  </a:cubicBezTo>
                  <a:cubicBezTo>
                    <a:pt x="108" y="61"/>
                    <a:pt x="146" y="72"/>
                    <a:pt x="150" y="81"/>
                  </a:cubicBezTo>
                  <a:cubicBezTo>
                    <a:pt x="152" y="87"/>
                    <a:pt x="147" y="105"/>
                    <a:pt x="144" y="99"/>
                  </a:cubicBezTo>
                  <a:cubicBezTo>
                    <a:pt x="140" y="90"/>
                    <a:pt x="144" y="79"/>
                    <a:pt x="144" y="69"/>
                  </a:cubicBezTo>
                  <a:close/>
                </a:path>
              </a:pathLst>
            </a:custGeom>
            <a:solidFill>
              <a:srgbClr val="66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4"/>
            <p:cNvSpPr/>
            <p:nvPr/>
          </p:nvSpPr>
          <p:spPr>
            <a:xfrm>
              <a:off x="4531680" y="2932200"/>
              <a:ext cx="1146600" cy="579960"/>
            </a:xfrm>
            <a:custGeom>
              <a:avLst/>
              <a:gdLst/>
              <a:ahLst/>
              <a:rect l="l" t="t" r="r" b="b"/>
              <a:pathLst>
                <a:path w="630" h="336">
                  <a:moveTo>
                    <a:pt x="0" y="264"/>
                  </a:moveTo>
                  <a:cubicBezTo>
                    <a:pt x="43" y="235"/>
                    <a:pt x="0" y="198"/>
                    <a:pt x="54" y="180"/>
                  </a:cubicBezTo>
                  <a:cubicBezTo>
                    <a:pt x="65" y="147"/>
                    <a:pt x="69" y="109"/>
                    <a:pt x="84" y="78"/>
                  </a:cubicBezTo>
                  <a:cubicBezTo>
                    <a:pt x="87" y="72"/>
                    <a:pt x="93" y="67"/>
                    <a:pt x="96" y="60"/>
                  </a:cubicBezTo>
                  <a:cubicBezTo>
                    <a:pt x="101" y="48"/>
                    <a:pt x="104" y="36"/>
                    <a:pt x="108" y="24"/>
                  </a:cubicBezTo>
                  <a:cubicBezTo>
                    <a:pt x="114" y="5"/>
                    <a:pt x="162" y="0"/>
                    <a:pt x="162" y="0"/>
                  </a:cubicBezTo>
                  <a:cubicBezTo>
                    <a:pt x="172" y="2"/>
                    <a:pt x="183" y="2"/>
                    <a:pt x="192" y="6"/>
                  </a:cubicBezTo>
                  <a:cubicBezTo>
                    <a:pt x="205" y="12"/>
                    <a:pt x="228" y="30"/>
                    <a:pt x="228" y="30"/>
                  </a:cubicBezTo>
                  <a:cubicBezTo>
                    <a:pt x="231" y="40"/>
                    <a:pt x="236" y="60"/>
                    <a:pt x="246" y="66"/>
                  </a:cubicBezTo>
                  <a:cubicBezTo>
                    <a:pt x="257" y="73"/>
                    <a:pt x="282" y="78"/>
                    <a:pt x="282" y="78"/>
                  </a:cubicBezTo>
                  <a:cubicBezTo>
                    <a:pt x="301" y="107"/>
                    <a:pt x="335" y="110"/>
                    <a:pt x="366" y="120"/>
                  </a:cubicBezTo>
                  <a:cubicBezTo>
                    <a:pt x="378" y="124"/>
                    <a:pt x="390" y="128"/>
                    <a:pt x="402" y="132"/>
                  </a:cubicBezTo>
                  <a:cubicBezTo>
                    <a:pt x="408" y="134"/>
                    <a:pt x="420" y="138"/>
                    <a:pt x="420" y="138"/>
                  </a:cubicBezTo>
                  <a:cubicBezTo>
                    <a:pt x="459" y="177"/>
                    <a:pt x="493" y="180"/>
                    <a:pt x="546" y="186"/>
                  </a:cubicBezTo>
                  <a:cubicBezTo>
                    <a:pt x="561" y="191"/>
                    <a:pt x="570" y="192"/>
                    <a:pt x="582" y="204"/>
                  </a:cubicBezTo>
                  <a:cubicBezTo>
                    <a:pt x="587" y="209"/>
                    <a:pt x="588" y="218"/>
                    <a:pt x="594" y="222"/>
                  </a:cubicBezTo>
                  <a:cubicBezTo>
                    <a:pt x="605" y="229"/>
                    <a:pt x="630" y="234"/>
                    <a:pt x="630" y="234"/>
                  </a:cubicBezTo>
                  <a:cubicBezTo>
                    <a:pt x="617" y="273"/>
                    <a:pt x="593" y="265"/>
                    <a:pt x="552" y="270"/>
                  </a:cubicBezTo>
                  <a:cubicBezTo>
                    <a:pt x="548" y="282"/>
                    <a:pt x="552" y="309"/>
                    <a:pt x="540" y="306"/>
                  </a:cubicBezTo>
                  <a:cubicBezTo>
                    <a:pt x="516" y="300"/>
                    <a:pt x="502" y="292"/>
                    <a:pt x="480" y="282"/>
                  </a:cubicBezTo>
                  <a:cubicBezTo>
                    <a:pt x="461" y="274"/>
                    <a:pt x="426" y="270"/>
                    <a:pt x="408" y="258"/>
                  </a:cubicBezTo>
                  <a:cubicBezTo>
                    <a:pt x="397" y="251"/>
                    <a:pt x="340" y="217"/>
                    <a:pt x="336" y="216"/>
                  </a:cubicBezTo>
                  <a:cubicBezTo>
                    <a:pt x="302" y="205"/>
                    <a:pt x="268" y="197"/>
                    <a:pt x="234" y="186"/>
                  </a:cubicBezTo>
                  <a:cubicBezTo>
                    <a:pt x="228" y="187"/>
                    <a:pt x="199" y="194"/>
                    <a:pt x="192" y="198"/>
                  </a:cubicBezTo>
                  <a:cubicBezTo>
                    <a:pt x="179" y="205"/>
                    <a:pt x="156" y="222"/>
                    <a:pt x="156" y="222"/>
                  </a:cubicBezTo>
                  <a:cubicBezTo>
                    <a:pt x="134" y="288"/>
                    <a:pt x="171" y="190"/>
                    <a:pt x="132" y="252"/>
                  </a:cubicBezTo>
                  <a:cubicBezTo>
                    <a:pt x="124" y="265"/>
                    <a:pt x="114" y="312"/>
                    <a:pt x="102" y="324"/>
                  </a:cubicBezTo>
                  <a:cubicBezTo>
                    <a:pt x="90" y="336"/>
                    <a:pt x="70" y="333"/>
                    <a:pt x="54" y="336"/>
                  </a:cubicBezTo>
                  <a:cubicBezTo>
                    <a:pt x="50" y="330"/>
                    <a:pt x="42" y="325"/>
                    <a:pt x="42" y="318"/>
                  </a:cubicBezTo>
                  <a:cubicBezTo>
                    <a:pt x="42" y="305"/>
                    <a:pt x="54" y="282"/>
                    <a:pt x="54" y="282"/>
                  </a:cubicBezTo>
                  <a:cubicBezTo>
                    <a:pt x="42" y="278"/>
                    <a:pt x="14" y="282"/>
                    <a:pt x="18" y="270"/>
                  </a:cubicBezTo>
                  <a:cubicBezTo>
                    <a:pt x="31" y="232"/>
                    <a:pt x="43" y="234"/>
                    <a:pt x="24" y="234"/>
                  </a:cubicBezTo>
                  <a:cubicBezTo>
                    <a:pt x="22" y="220"/>
                    <a:pt x="18" y="206"/>
                    <a:pt x="18" y="192"/>
                  </a:cubicBezTo>
                  <a:cubicBezTo>
                    <a:pt x="18" y="182"/>
                    <a:pt x="24" y="212"/>
                    <a:pt x="24" y="222"/>
                  </a:cubicBezTo>
                  <a:cubicBezTo>
                    <a:pt x="24" y="246"/>
                    <a:pt x="16" y="248"/>
                    <a:pt x="0" y="264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5"/>
            <p:cNvSpPr/>
            <p:nvPr/>
          </p:nvSpPr>
          <p:spPr>
            <a:xfrm>
              <a:off x="4741200" y="3218400"/>
              <a:ext cx="357840" cy="685800"/>
            </a:xfrm>
            <a:custGeom>
              <a:avLst/>
              <a:gdLst/>
              <a:ahLst/>
              <a:rect l="l" t="t" r="r" b="b"/>
              <a:pathLst>
                <a:path w="198" h="399">
                  <a:moveTo>
                    <a:pt x="180" y="39"/>
                  </a:moveTo>
                  <a:cubicBezTo>
                    <a:pt x="175" y="90"/>
                    <a:pt x="168" y="134"/>
                    <a:pt x="156" y="183"/>
                  </a:cubicBezTo>
                  <a:cubicBezTo>
                    <a:pt x="143" y="303"/>
                    <a:pt x="156" y="261"/>
                    <a:pt x="138" y="315"/>
                  </a:cubicBezTo>
                  <a:cubicBezTo>
                    <a:pt x="149" y="384"/>
                    <a:pt x="135" y="386"/>
                    <a:pt x="72" y="399"/>
                  </a:cubicBezTo>
                  <a:cubicBezTo>
                    <a:pt x="30" y="385"/>
                    <a:pt x="50" y="357"/>
                    <a:pt x="36" y="327"/>
                  </a:cubicBezTo>
                  <a:cubicBezTo>
                    <a:pt x="30" y="314"/>
                    <a:pt x="17" y="305"/>
                    <a:pt x="12" y="291"/>
                  </a:cubicBezTo>
                  <a:cubicBezTo>
                    <a:pt x="10" y="285"/>
                    <a:pt x="8" y="279"/>
                    <a:pt x="6" y="273"/>
                  </a:cubicBezTo>
                  <a:cubicBezTo>
                    <a:pt x="1" y="233"/>
                    <a:pt x="0" y="214"/>
                    <a:pt x="12" y="177"/>
                  </a:cubicBezTo>
                  <a:cubicBezTo>
                    <a:pt x="6" y="159"/>
                    <a:pt x="11" y="94"/>
                    <a:pt x="24" y="81"/>
                  </a:cubicBezTo>
                  <a:cubicBezTo>
                    <a:pt x="34" y="71"/>
                    <a:pt x="60" y="57"/>
                    <a:pt x="60" y="57"/>
                  </a:cubicBezTo>
                  <a:cubicBezTo>
                    <a:pt x="70" y="27"/>
                    <a:pt x="60" y="41"/>
                    <a:pt x="102" y="27"/>
                  </a:cubicBezTo>
                  <a:cubicBezTo>
                    <a:pt x="108" y="25"/>
                    <a:pt x="120" y="21"/>
                    <a:pt x="120" y="21"/>
                  </a:cubicBezTo>
                  <a:cubicBezTo>
                    <a:pt x="132" y="25"/>
                    <a:pt x="144" y="29"/>
                    <a:pt x="156" y="33"/>
                  </a:cubicBezTo>
                  <a:cubicBezTo>
                    <a:pt x="162" y="35"/>
                    <a:pt x="174" y="39"/>
                    <a:pt x="174" y="39"/>
                  </a:cubicBezTo>
                  <a:cubicBezTo>
                    <a:pt x="176" y="47"/>
                    <a:pt x="175" y="56"/>
                    <a:pt x="180" y="63"/>
                  </a:cubicBezTo>
                  <a:cubicBezTo>
                    <a:pt x="184" y="69"/>
                    <a:pt x="198" y="75"/>
                    <a:pt x="198" y="75"/>
                  </a:cubicBezTo>
                  <a:cubicBezTo>
                    <a:pt x="190" y="67"/>
                    <a:pt x="185" y="47"/>
                    <a:pt x="174" y="51"/>
                  </a:cubicBezTo>
                  <a:cubicBezTo>
                    <a:pt x="164" y="54"/>
                    <a:pt x="182" y="71"/>
                    <a:pt x="180" y="81"/>
                  </a:cubicBezTo>
                  <a:cubicBezTo>
                    <a:pt x="180" y="81"/>
                    <a:pt x="149" y="112"/>
                    <a:pt x="168" y="93"/>
                  </a:cubicBezTo>
                  <a:cubicBezTo>
                    <a:pt x="166" y="95"/>
                    <a:pt x="160" y="101"/>
                    <a:pt x="162" y="99"/>
                  </a:cubicBezTo>
                  <a:cubicBezTo>
                    <a:pt x="166" y="95"/>
                    <a:pt x="170" y="91"/>
                    <a:pt x="174" y="87"/>
                  </a:cubicBezTo>
                  <a:cubicBezTo>
                    <a:pt x="185" y="0"/>
                    <a:pt x="181" y="42"/>
                    <a:pt x="174" y="69"/>
                  </a:cubicBezTo>
                  <a:cubicBezTo>
                    <a:pt x="172" y="75"/>
                    <a:pt x="170" y="81"/>
                    <a:pt x="168" y="87"/>
                  </a:cubicBezTo>
                  <a:cubicBezTo>
                    <a:pt x="170" y="93"/>
                    <a:pt x="175" y="99"/>
                    <a:pt x="174" y="105"/>
                  </a:cubicBezTo>
                  <a:cubicBezTo>
                    <a:pt x="169" y="149"/>
                    <a:pt x="148" y="134"/>
                    <a:pt x="174" y="147"/>
                  </a:cubicBezTo>
                  <a:lnTo>
                    <a:pt x="144" y="123"/>
                  </a:lnTo>
                </a:path>
              </a:pathLst>
            </a:custGeom>
            <a:solidFill>
              <a:srgbClr val="33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6"/>
            <p:cNvSpPr/>
            <p:nvPr/>
          </p:nvSpPr>
          <p:spPr>
            <a:xfrm>
              <a:off x="6892200" y="2553480"/>
              <a:ext cx="335160" cy="2034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56" y="60"/>
                  </a:moveTo>
                  <a:cubicBezTo>
                    <a:pt x="150" y="28"/>
                    <a:pt x="147" y="18"/>
                    <a:pt x="120" y="0"/>
                  </a:cubicBezTo>
                  <a:cubicBezTo>
                    <a:pt x="86" y="6"/>
                    <a:pt x="57" y="19"/>
                    <a:pt x="24" y="30"/>
                  </a:cubicBezTo>
                  <a:cubicBezTo>
                    <a:pt x="10" y="72"/>
                    <a:pt x="0" y="62"/>
                    <a:pt x="30" y="72"/>
                  </a:cubicBezTo>
                  <a:cubicBezTo>
                    <a:pt x="72" y="58"/>
                    <a:pt x="54" y="56"/>
                    <a:pt x="84" y="66"/>
                  </a:cubicBezTo>
                  <a:cubicBezTo>
                    <a:pt x="89" y="80"/>
                    <a:pt x="85" y="99"/>
                    <a:pt x="96" y="108"/>
                  </a:cubicBezTo>
                  <a:cubicBezTo>
                    <a:pt x="106" y="116"/>
                    <a:pt x="132" y="120"/>
                    <a:pt x="132" y="120"/>
                  </a:cubicBezTo>
                  <a:cubicBezTo>
                    <a:pt x="161" y="110"/>
                    <a:pt x="177" y="115"/>
                    <a:pt x="156" y="84"/>
                  </a:cubicBezTo>
                  <a:cubicBezTo>
                    <a:pt x="159" y="73"/>
                    <a:pt x="185" y="16"/>
                    <a:pt x="156" y="60"/>
                  </a:cubicBez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7"/>
            <p:cNvSpPr/>
            <p:nvPr/>
          </p:nvSpPr>
          <p:spPr>
            <a:xfrm>
              <a:off x="7099920" y="2730600"/>
              <a:ext cx="173160" cy="18252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53" y="0"/>
                  </a:moveTo>
                  <a:cubicBezTo>
                    <a:pt x="49" y="6"/>
                    <a:pt x="47" y="14"/>
                    <a:pt x="41" y="18"/>
                  </a:cubicBezTo>
                  <a:cubicBezTo>
                    <a:pt x="30" y="25"/>
                    <a:pt x="5" y="30"/>
                    <a:pt x="5" y="30"/>
                  </a:cubicBezTo>
                  <a:cubicBezTo>
                    <a:pt x="14" y="67"/>
                    <a:pt x="0" y="73"/>
                    <a:pt x="23" y="108"/>
                  </a:cubicBezTo>
                  <a:cubicBezTo>
                    <a:pt x="49" y="101"/>
                    <a:pt x="72" y="99"/>
                    <a:pt x="95" y="84"/>
                  </a:cubicBezTo>
                  <a:cubicBezTo>
                    <a:pt x="90" y="47"/>
                    <a:pt x="94" y="32"/>
                    <a:pt x="65" y="12"/>
                  </a:cubicBezTo>
                  <a:cubicBezTo>
                    <a:pt x="41" y="20"/>
                    <a:pt x="45" y="24"/>
                    <a:pt x="53" y="0"/>
                  </a:cubicBez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8"/>
            <p:cNvSpPr/>
            <p:nvPr/>
          </p:nvSpPr>
          <p:spPr>
            <a:xfrm>
              <a:off x="7284240" y="2730600"/>
              <a:ext cx="502920" cy="342000"/>
            </a:xfrm>
            <a:custGeom>
              <a:avLst/>
              <a:gdLst/>
              <a:ahLst/>
              <a:rect l="l" t="t" r="r" b="b"/>
              <a:pathLst>
                <a:path w="276" h="201">
                  <a:moveTo>
                    <a:pt x="210" y="0"/>
                  </a:moveTo>
                  <a:cubicBezTo>
                    <a:pt x="212" y="6"/>
                    <a:pt x="211" y="14"/>
                    <a:pt x="216" y="18"/>
                  </a:cubicBezTo>
                  <a:cubicBezTo>
                    <a:pt x="226" y="25"/>
                    <a:pt x="252" y="30"/>
                    <a:pt x="252" y="30"/>
                  </a:cubicBezTo>
                  <a:cubicBezTo>
                    <a:pt x="265" y="68"/>
                    <a:pt x="276" y="72"/>
                    <a:pt x="240" y="96"/>
                  </a:cubicBezTo>
                  <a:cubicBezTo>
                    <a:pt x="197" y="82"/>
                    <a:pt x="243" y="90"/>
                    <a:pt x="216" y="108"/>
                  </a:cubicBezTo>
                  <a:cubicBezTo>
                    <a:pt x="208" y="114"/>
                    <a:pt x="196" y="111"/>
                    <a:pt x="186" y="114"/>
                  </a:cubicBezTo>
                  <a:cubicBezTo>
                    <a:pt x="150" y="124"/>
                    <a:pt x="157" y="121"/>
                    <a:pt x="132" y="138"/>
                  </a:cubicBezTo>
                  <a:cubicBezTo>
                    <a:pt x="126" y="136"/>
                    <a:pt x="120" y="135"/>
                    <a:pt x="114" y="132"/>
                  </a:cubicBezTo>
                  <a:cubicBezTo>
                    <a:pt x="108" y="129"/>
                    <a:pt x="103" y="118"/>
                    <a:pt x="96" y="120"/>
                  </a:cubicBezTo>
                  <a:cubicBezTo>
                    <a:pt x="90" y="122"/>
                    <a:pt x="94" y="134"/>
                    <a:pt x="90" y="138"/>
                  </a:cubicBezTo>
                  <a:cubicBezTo>
                    <a:pt x="86" y="142"/>
                    <a:pt x="78" y="142"/>
                    <a:pt x="72" y="144"/>
                  </a:cubicBezTo>
                  <a:cubicBezTo>
                    <a:pt x="32" y="131"/>
                    <a:pt x="72" y="148"/>
                    <a:pt x="30" y="162"/>
                  </a:cubicBezTo>
                  <a:cubicBezTo>
                    <a:pt x="20" y="201"/>
                    <a:pt x="10" y="193"/>
                    <a:pt x="0" y="162"/>
                  </a:cubicBezTo>
                  <a:cubicBezTo>
                    <a:pt x="2" y="156"/>
                    <a:pt x="1" y="148"/>
                    <a:pt x="6" y="144"/>
                  </a:cubicBezTo>
                  <a:cubicBezTo>
                    <a:pt x="16" y="137"/>
                    <a:pt x="42" y="132"/>
                    <a:pt x="42" y="132"/>
                  </a:cubicBezTo>
                  <a:cubicBezTo>
                    <a:pt x="63" y="68"/>
                    <a:pt x="79" y="79"/>
                    <a:pt x="150" y="72"/>
                  </a:cubicBezTo>
                  <a:cubicBezTo>
                    <a:pt x="164" y="30"/>
                    <a:pt x="150" y="32"/>
                    <a:pt x="180" y="42"/>
                  </a:cubicBezTo>
                  <a:cubicBezTo>
                    <a:pt x="191" y="26"/>
                    <a:pt x="210" y="19"/>
                    <a:pt x="210" y="0"/>
                  </a:cubicBezTo>
                  <a:close/>
                </a:path>
              </a:pathLst>
            </a:cu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9"/>
            <p:cNvSpPr/>
            <p:nvPr/>
          </p:nvSpPr>
          <p:spPr>
            <a:xfrm>
              <a:off x="5501520" y="2468880"/>
              <a:ext cx="1497240" cy="1168200"/>
            </a:xfrm>
            <a:custGeom>
              <a:avLst/>
              <a:gdLst/>
              <a:ahLst/>
              <a:rect l="l" t="t" r="r" b="b"/>
              <a:pathLst>
                <a:path w="822" h="679">
                  <a:moveTo>
                    <a:pt x="793" y="72"/>
                  </a:moveTo>
                  <a:cubicBezTo>
                    <a:pt x="784" y="59"/>
                    <a:pt x="776" y="26"/>
                    <a:pt x="763" y="18"/>
                  </a:cubicBezTo>
                  <a:cubicBezTo>
                    <a:pt x="752" y="11"/>
                    <a:pt x="739" y="10"/>
                    <a:pt x="727" y="6"/>
                  </a:cubicBezTo>
                  <a:cubicBezTo>
                    <a:pt x="721" y="4"/>
                    <a:pt x="709" y="0"/>
                    <a:pt x="709" y="0"/>
                  </a:cubicBezTo>
                  <a:cubicBezTo>
                    <a:pt x="634" y="7"/>
                    <a:pt x="619" y="22"/>
                    <a:pt x="559" y="42"/>
                  </a:cubicBezTo>
                  <a:cubicBezTo>
                    <a:pt x="547" y="77"/>
                    <a:pt x="529" y="73"/>
                    <a:pt x="493" y="78"/>
                  </a:cubicBezTo>
                  <a:cubicBezTo>
                    <a:pt x="448" y="63"/>
                    <a:pt x="473" y="58"/>
                    <a:pt x="415" y="66"/>
                  </a:cubicBezTo>
                  <a:cubicBezTo>
                    <a:pt x="411" y="72"/>
                    <a:pt x="398" y="79"/>
                    <a:pt x="403" y="84"/>
                  </a:cubicBezTo>
                  <a:cubicBezTo>
                    <a:pt x="408" y="89"/>
                    <a:pt x="427" y="75"/>
                    <a:pt x="421" y="72"/>
                  </a:cubicBezTo>
                  <a:cubicBezTo>
                    <a:pt x="412" y="67"/>
                    <a:pt x="401" y="76"/>
                    <a:pt x="391" y="78"/>
                  </a:cubicBezTo>
                  <a:cubicBezTo>
                    <a:pt x="349" y="73"/>
                    <a:pt x="306" y="70"/>
                    <a:pt x="265" y="60"/>
                  </a:cubicBezTo>
                  <a:cubicBezTo>
                    <a:pt x="253" y="62"/>
                    <a:pt x="240" y="61"/>
                    <a:pt x="229" y="66"/>
                  </a:cubicBezTo>
                  <a:cubicBezTo>
                    <a:pt x="223" y="69"/>
                    <a:pt x="222" y="79"/>
                    <a:pt x="217" y="84"/>
                  </a:cubicBezTo>
                  <a:cubicBezTo>
                    <a:pt x="205" y="96"/>
                    <a:pt x="196" y="97"/>
                    <a:pt x="181" y="102"/>
                  </a:cubicBezTo>
                  <a:cubicBezTo>
                    <a:pt x="145" y="93"/>
                    <a:pt x="114" y="78"/>
                    <a:pt x="79" y="66"/>
                  </a:cubicBezTo>
                  <a:cubicBezTo>
                    <a:pt x="69" y="68"/>
                    <a:pt x="59" y="69"/>
                    <a:pt x="49" y="72"/>
                  </a:cubicBezTo>
                  <a:cubicBezTo>
                    <a:pt x="37" y="75"/>
                    <a:pt x="13" y="84"/>
                    <a:pt x="13" y="84"/>
                  </a:cubicBezTo>
                  <a:cubicBezTo>
                    <a:pt x="9" y="90"/>
                    <a:pt x="0" y="95"/>
                    <a:pt x="1" y="102"/>
                  </a:cubicBezTo>
                  <a:cubicBezTo>
                    <a:pt x="2" y="109"/>
                    <a:pt x="14" y="109"/>
                    <a:pt x="19" y="114"/>
                  </a:cubicBezTo>
                  <a:cubicBezTo>
                    <a:pt x="46" y="141"/>
                    <a:pt x="14" y="126"/>
                    <a:pt x="49" y="138"/>
                  </a:cubicBezTo>
                  <a:cubicBezTo>
                    <a:pt x="76" y="129"/>
                    <a:pt x="100" y="135"/>
                    <a:pt x="127" y="144"/>
                  </a:cubicBezTo>
                  <a:cubicBezTo>
                    <a:pt x="131" y="150"/>
                    <a:pt x="133" y="157"/>
                    <a:pt x="139" y="162"/>
                  </a:cubicBezTo>
                  <a:cubicBezTo>
                    <a:pt x="144" y="166"/>
                    <a:pt x="153" y="163"/>
                    <a:pt x="157" y="168"/>
                  </a:cubicBezTo>
                  <a:cubicBezTo>
                    <a:pt x="164" y="178"/>
                    <a:pt x="169" y="204"/>
                    <a:pt x="169" y="204"/>
                  </a:cubicBezTo>
                  <a:cubicBezTo>
                    <a:pt x="167" y="210"/>
                    <a:pt x="167" y="217"/>
                    <a:pt x="163" y="222"/>
                  </a:cubicBezTo>
                  <a:cubicBezTo>
                    <a:pt x="158" y="228"/>
                    <a:pt x="149" y="228"/>
                    <a:pt x="145" y="234"/>
                  </a:cubicBezTo>
                  <a:cubicBezTo>
                    <a:pt x="138" y="245"/>
                    <a:pt x="133" y="270"/>
                    <a:pt x="133" y="270"/>
                  </a:cubicBezTo>
                  <a:cubicBezTo>
                    <a:pt x="136" y="294"/>
                    <a:pt x="128" y="325"/>
                    <a:pt x="145" y="342"/>
                  </a:cubicBezTo>
                  <a:cubicBezTo>
                    <a:pt x="155" y="352"/>
                    <a:pt x="181" y="366"/>
                    <a:pt x="181" y="366"/>
                  </a:cubicBezTo>
                  <a:cubicBezTo>
                    <a:pt x="185" y="372"/>
                    <a:pt x="188" y="379"/>
                    <a:pt x="193" y="384"/>
                  </a:cubicBezTo>
                  <a:cubicBezTo>
                    <a:pt x="204" y="393"/>
                    <a:pt x="229" y="408"/>
                    <a:pt x="229" y="408"/>
                  </a:cubicBezTo>
                  <a:cubicBezTo>
                    <a:pt x="248" y="437"/>
                    <a:pt x="280" y="463"/>
                    <a:pt x="313" y="474"/>
                  </a:cubicBezTo>
                  <a:cubicBezTo>
                    <a:pt x="344" y="464"/>
                    <a:pt x="340" y="456"/>
                    <a:pt x="361" y="438"/>
                  </a:cubicBezTo>
                  <a:cubicBezTo>
                    <a:pt x="372" y="429"/>
                    <a:pt x="397" y="414"/>
                    <a:pt x="397" y="414"/>
                  </a:cubicBezTo>
                  <a:cubicBezTo>
                    <a:pt x="440" y="428"/>
                    <a:pt x="422" y="419"/>
                    <a:pt x="451" y="438"/>
                  </a:cubicBezTo>
                  <a:cubicBezTo>
                    <a:pt x="447" y="488"/>
                    <a:pt x="460" y="520"/>
                    <a:pt x="421" y="546"/>
                  </a:cubicBezTo>
                  <a:cubicBezTo>
                    <a:pt x="404" y="571"/>
                    <a:pt x="388" y="590"/>
                    <a:pt x="379" y="618"/>
                  </a:cubicBezTo>
                  <a:cubicBezTo>
                    <a:pt x="381" y="626"/>
                    <a:pt x="378" y="637"/>
                    <a:pt x="385" y="642"/>
                  </a:cubicBezTo>
                  <a:cubicBezTo>
                    <a:pt x="401" y="654"/>
                    <a:pt x="427" y="600"/>
                    <a:pt x="427" y="600"/>
                  </a:cubicBezTo>
                  <a:cubicBezTo>
                    <a:pt x="443" y="602"/>
                    <a:pt x="462" y="597"/>
                    <a:pt x="475" y="606"/>
                  </a:cubicBezTo>
                  <a:cubicBezTo>
                    <a:pt x="485" y="613"/>
                    <a:pt x="487" y="642"/>
                    <a:pt x="487" y="642"/>
                  </a:cubicBezTo>
                  <a:cubicBezTo>
                    <a:pt x="485" y="648"/>
                    <a:pt x="486" y="656"/>
                    <a:pt x="481" y="660"/>
                  </a:cubicBezTo>
                  <a:cubicBezTo>
                    <a:pt x="457" y="676"/>
                    <a:pt x="433" y="654"/>
                    <a:pt x="469" y="678"/>
                  </a:cubicBezTo>
                  <a:cubicBezTo>
                    <a:pt x="485" y="676"/>
                    <a:pt x="502" y="679"/>
                    <a:pt x="517" y="672"/>
                  </a:cubicBezTo>
                  <a:cubicBezTo>
                    <a:pt x="523" y="669"/>
                    <a:pt x="526" y="660"/>
                    <a:pt x="523" y="654"/>
                  </a:cubicBezTo>
                  <a:cubicBezTo>
                    <a:pt x="520" y="648"/>
                    <a:pt x="511" y="650"/>
                    <a:pt x="505" y="648"/>
                  </a:cubicBezTo>
                  <a:cubicBezTo>
                    <a:pt x="499" y="629"/>
                    <a:pt x="486" y="606"/>
                    <a:pt x="523" y="594"/>
                  </a:cubicBezTo>
                  <a:cubicBezTo>
                    <a:pt x="535" y="590"/>
                    <a:pt x="559" y="582"/>
                    <a:pt x="559" y="582"/>
                  </a:cubicBezTo>
                  <a:cubicBezTo>
                    <a:pt x="583" y="546"/>
                    <a:pt x="561" y="569"/>
                    <a:pt x="631" y="558"/>
                  </a:cubicBezTo>
                  <a:cubicBezTo>
                    <a:pt x="651" y="555"/>
                    <a:pt x="666" y="540"/>
                    <a:pt x="685" y="534"/>
                  </a:cubicBezTo>
                  <a:cubicBezTo>
                    <a:pt x="702" y="508"/>
                    <a:pt x="715" y="466"/>
                    <a:pt x="745" y="456"/>
                  </a:cubicBezTo>
                  <a:cubicBezTo>
                    <a:pt x="759" y="435"/>
                    <a:pt x="759" y="422"/>
                    <a:pt x="781" y="408"/>
                  </a:cubicBezTo>
                  <a:cubicBezTo>
                    <a:pt x="803" y="375"/>
                    <a:pt x="780" y="388"/>
                    <a:pt x="769" y="354"/>
                  </a:cubicBezTo>
                  <a:cubicBezTo>
                    <a:pt x="786" y="329"/>
                    <a:pt x="782" y="322"/>
                    <a:pt x="757" y="306"/>
                  </a:cubicBezTo>
                  <a:cubicBezTo>
                    <a:pt x="747" y="276"/>
                    <a:pt x="761" y="257"/>
                    <a:pt x="727" y="246"/>
                  </a:cubicBezTo>
                  <a:cubicBezTo>
                    <a:pt x="735" y="222"/>
                    <a:pt x="739" y="212"/>
                    <a:pt x="763" y="204"/>
                  </a:cubicBezTo>
                  <a:cubicBezTo>
                    <a:pt x="779" y="155"/>
                    <a:pt x="751" y="224"/>
                    <a:pt x="805" y="180"/>
                  </a:cubicBezTo>
                  <a:cubicBezTo>
                    <a:pt x="822" y="166"/>
                    <a:pt x="791" y="159"/>
                    <a:pt x="781" y="156"/>
                  </a:cubicBezTo>
                  <a:cubicBezTo>
                    <a:pt x="769" y="160"/>
                    <a:pt x="757" y="164"/>
                    <a:pt x="745" y="168"/>
                  </a:cubicBezTo>
                  <a:cubicBezTo>
                    <a:pt x="739" y="170"/>
                    <a:pt x="727" y="174"/>
                    <a:pt x="727" y="174"/>
                  </a:cubicBezTo>
                  <a:cubicBezTo>
                    <a:pt x="719" y="172"/>
                    <a:pt x="708" y="174"/>
                    <a:pt x="703" y="168"/>
                  </a:cubicBezTo>
                  <a:cubicBezTo>
                    <a:pt x="695" y="158"/>
                    <a:pt x="691" y="132"/>
                    <a:pt x="691" y="132"/>
                  </a:cubicBezTo>
                  <a:cubicBezTo>
                    <a:pt x="714" y="124"/>
                    <a:pt x="716" y="110"/>
                    <a:pt x="739" y="102"/>
                  </a:cubicBezTo>
                  <a:cubicBezTo>
                    <a:pt x="743" y="96"/>
                    <a:pt x="745" y="87"/>
                    <a:pt x="751" y="84"/>
                  </a:cubicBezTo>
                  <a:cubicBezTo>
                    <a:pt x="762" y="79"/>
                    <a:pt x="778" y="86"/>
                    <a:pt x="787" y="78"/>
                  </a:cubicBezTo>
                  <a:cubicBezTo>
                    <a:pt x="792" y="74"/>
                    <a:pt x="777" y="64"/>
                    <a:pt x="781" y="60"/>
                  </a:cubicBezTo>
                  <a:cubicBezTo>
                    <a:pt x="785" y="56"/>
                    <a:pt x="789" y="68"/>
                    <a:pt x="793" y="72"/>
                  </a:cubicBez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20"/>
            <p:cNvSpPr/>
            <p:nvPr/>
          </p:nvSpPr>
          <p:spPr>
            <a:xfrm>
              <a:off x="5821560" y="2768760"/>
              <a:ext cx="131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i Ch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21"/>
            <p:cNvSpPr/>
            <p:nvPr/>
          </p:nvSpPr>
          <p:spPr>
            <a:xfrm>
              <a:off x="6890400" y="285516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674760" y="2246040"/>
              <a:ext cx="87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h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23"/>
            <p:cNvSpPr/>
            <p:nvPr/>
          </p:nvSpPr>
          <p:spPr>
            <a:xfrm>
              <a:off x="7446240" y="2578320"/>
              <a:ext cx="105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amoto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24"/>
            <p:cNvSpPr/>
            <p:nvPr/>
          </p:nvSpPr>
          <p:spPr>
            <a:xfrm>
              <a:off x="4297320" y="3132000"/>
              <a:ext cx="18284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sha’ 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4754520" y="3593520"/>
              <a:ext cx="113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luky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26"/>
            <p:cNvSpPr/>
            <p:nvPr/>
          </p:nvSpPr>
          <p:spPr>
            <a:xfrm>
              <a:off x="2194560" y="2061720"/>
              <a:ext cx="174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var Kingd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27"/>
            <p:cNvSpPr/>
            <p:nvPr/>
          </p:nvSpPr>
          <p:spPr>
            <a:xfrm>
              <a:off x="731160" y="1840680"/>
              <a:ext cx="127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nkish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ingd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1222200" y="36853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h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29"/>
            <p:cNvSpPr/>
            <p:nvPr/>
          </p:nvSpPr>
          <p:spPr>
            <a:xfrm>
              <a:off x="3148920" y="3870000"/>
              <a:ext cx="8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x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30"/>
            <p:cNvSpPr/>
            <p:nvPr/>
          </p:nvSpPr>
          <p:spPr>
            <a:xfrm>
              <a:off x="3566160" y="2670840"/>
              <a:ext cx="11883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ssanid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31"/>
            <p:cNvSpPr/>
            <p:nvPr/>
          </p:nvSpPr>
          <p:spPr>
            <a:xfrm>
              <a:off x="1655280" y="2670840"/>
              <a:ext cx="21848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yzantine 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 Box 32"/>
          <p:cNvSpPr/>
          <p:nvPr/>
        </p:nvSpPr>
        <p:spPr>
          <a:xfrm>
            <a:off x="457200" y="4851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States and Empires in 600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BB02-46A9-48F3-8651-5ED8739C693D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2"/>
          <p:cNvGrpSpPr/>
          <p:nvPr/>
        </p:nvGrpSpPr>
        <p:grpSpPr>
          <a:xfrm>
            <a:off x="444600" y="471600"/>
            <a:ext cx="8229600" cy="5257800"/>
            <a:chOff x="444600" y="471600"/>
            <a:chExt cx="8229600" cy="5257800"/>
          </a:xfrm>
        </p:grpSpPr>
        <p:pic>
          <p:nvPicPr>
            <p:cNvPr id="804" name="Picture 3" descr=""/>
            <p:cNvPicPr/>
            <p:nvPr/>
          </p:nvPicPr>
          <p:blipFill>
            <a:blip r:embed="rId1"/>
            <a:srcRect l="0" t="0" r="12235" b="18018"/>
            <a:stretch/>
          </p:blipFill>
          <p:spPr>
            <a:xfrm>
              <a:off x="444600" y="471600"/>
              <a:ext cx="822960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Freeform 4"/>
            <p:cNvSpPr/>
            <p:nvPr/>
          </p:nvSpPr>
          <p:spPr>
            <a:xfrm>
              <a:off x="930240" y="3622680"/>
              <a:ext cx="596880" cy="330120"/>
            </a:xfrm>
            <a:custGeom>
              <a:avLst/>
              <a:gdLst/>
              <a:ahLst/>
              <a:rect l="l" t="t" r="r" b="b"/>
              <a:pathLst>
                <a:path w="325" h="186">
                  <a:moveTo>
                    <a:pt x="227" y="24"/>
                  </a:moveTo>
                  <a:cubicBezTo>
                    <a:pt x="152" y="15"/>
                    <a:pt x="81" y="21"/>
                    <a:pt x="17" y="64"/>
                  </a:cubicBezTo>
                  <a:cubicBezTo>
                    <a:pt x="7" y="92"/>
                    <a:pt x="0" y="137"/>
                    <a:pt x="33" y="154"/>
                  </a:cubicBezTo>
                  <a:cubicBezTo>
                    <a:pt x="38" y="156"/>
                    <a:pt x="92" y="173"/>
                    <a:pt x="106" y="178"/>
                  </a:cubicBezTo>
                  <a:cubicBezTo>
                    <a:pt x="114" y="181"/>
                    <a:pt x="130" y="186"/>
                    <a:pt x="130" y="186"/>
                  </a:cubicBezTo>
                  <a:cubicBezTo>
                    <a:pt x="185" y="173"/>
                    <a:pt x="238" y="160"/>
                    <a:pt x="292" y="145"/>
                  </a:cubicBezTo>
                  <a:cubicBezTo>
                    <a:pt x="298" y="140"/>
                    <a:pt x="305" y="136"/>
                    <a:pt x="309" y="129"/>
                  </a:cubicBezTo>
                  <a:cubicBezTo>
                    <a:pt x="317" y="114"/>
                    <a:pt x="325" y="81"/>
                    <a:pt x="325" y="81"/>
                  </a:cubicBezTo>
                  <a:cubicBezTo>
                    <a:pt x="314" y="34"/>
                    <a:pt x="301" y="45"/>
                    <a:pt x="276" y="8"/>
                  </a:cubicBezTo>
                  <a:cubicBezTo>
                    <a:pt x="238" y="17"/>
                    <a:pt x="229" y="5"/>
                    <a:pt x="195" y="16"/>
                  </a:cubicBezTo>
                  <a:cubicBezTo>
                    <a:pt x="168" y="7"/>
                    <a:pt x="171" y="0"/>
                    <a:pt x="171" y="16"/>
                  </a:cubicBezTo>
                  <a:cubicBezTo>
                    <a:pt x="190" y="19"/>
                    <a:pt x="208" y="21"/>
                    <a:pt x="227" y="24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5"/>
            <p:cNvSpPr/>
            <p:nvPr/>
          </p:nvSpPr>
          <p:spPr>
            <a:xfrm>
              <a:off x="1417320" y="373068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h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>
              <a:off x="1312920" y="1927080"/>
              <a:ext cx="825480" cy="750960"/>
            </a:xfrm>
            <a:custGeom>
              <a:avLst/>
              <a:gdLst/>
              <a:ahLst/>
              <a:rect l="l" t="t" r="r" b="b"/>
              <a:pathLst>
                <a:path w="448" h="419">
                  <a:moveTo>
                    <a:pt x="375" y="13"/>
                  </a:moveTo>
                  <a:cubicBezTo>
                    <a:pt x="370" y="29"/>
                    <a:pt x="364" y="46"/>
                    <a:pt x="359" y="62"/>
                  </a:cubicBezTo>
                  <a:cubicBezTo>
                    <a:pt x="356" y="71"/>
                    <a:pt x="369" y="79"/>
                    <a:pt x="375" y="87"/>
                  </a:cubicBezTo>
                  <a:cubicBezTo>
                    <a:pt x="393" y="109"/>
                    <a:pt x="408" y="122"/>
                    <a:pt x="416" y="151"/>
                  </a:cubicBezTo>
                  <a:cubicBezTo>
                    <a:pt x="441" y="238"/>
                    <a:pt x="402" y="116"/>
                    <a:pt x="440" y="233"/>
                  </a:cubicBezTo>
                  <a:cubicBezTo>
                    <a:pt x="443" y="241"/>
                    <a:pt x="448" y="257"/>
                    <a:pt x="448" y="257"/>
                  </a:cubicBezTo>
                  <a:cubicBezTo>
                    <a:pt x="443" y="265"/>
                    <a:pt x="439" y="274"/>
                    <a:pt x="432" y="281"/>
                  </a:cubicBezTo>
                  <a:cubicBezTo>
                    <a:pt x="425" y="288"/>
                    <a:pt x="411" y="288"/>
                    <a:pt x="408" y="297"/>
                  </a:cubicBezTo>
                  <a:cubicBezTo>
                    <a:pt x="406" y="303"/>
                    <a:pt x="421" y="346"/>
                    <a:pt x="424" y="354"/>
                  </a:cubicBezTo>
                  <a:cubicBezTo>
                    <a:pt x="421" y="362"/>
                    <a:pt x="422" y="373"/>
                    <a:pt x="416" y="379"/>
                  </a:cubicBezTo>
                  <a:cubicBezTo>
                    <a:pt x="387" y="409"/>
                    <a:pt x="373" y="360"/>
                    <a:pt x="359" y="346"/>
                  </a:cubicBezTo>
                  <a:cubicBezTo>
                    <a:pt x="343" y="330"/>
                    <a:pt x="331" y="329"/>
                    <a:pt x="311" y="322"/>
                  </a:cubicBezTo>
                  <a:cubicBezTo>
                    <a:pt x="282" y="349"/>
                    <a:pt x="301" y="336"/>
                    <a:pt x="246" y="354"/>
                  </a:cubicBezTo>
                  <a:cubicBezTo>
                    <a:pt x="238" y="357"/>
                    <a:pt x="221" y="362"/>
                    <a:pt x="221" y="362"/>
                  </a:cubicBezTo>
                  <a:cubicBezTo>
                    <a:pt x="186" y="339"/>
                    <a:pt x="178" y="337"/>
                    <a:pt x="165" y="379"/>
                  </a:cubicBezTo>
                  <a:cubicBezTo>
                    <a:pt x="168" y="387"/>
                    <a:pt x="177" y="396"/>
                    <a:pt x="173" y="403"/>
                  </a:cubicBezTo>
                  <a:cubicBezTo>
                    <a:pt x="169" y="411"/>
                    <a:pt x="157" y="409"/>
                    <a:pt x="148" y="411"/>
                  </a:cubicBezTo>
                  <a:cubicBezTo>
                    <a:pt x="132" y="414"/>
                    <a:pt x="116" y="416"/>
                    <a:pt x="100" y="419"/>
                  </a:cubicBezTo>
                  <a:cubicBezTo>
                    <a:pt x="60" y="409"/>
                    <a:pt x="55" y="401"/>
                    <a:pt x="43" y="362"/>
                  </a:cubicBezTo>
                  <a:cubicBezTo>
                    <a:pt x="112" y="316"/>
                    <a:pt x="54" y="242"/>
                    <a:pt x="10" y="200"/>
                  </a:cubicBezTo>
                  <a:cubicBezTo>
                    <a:pt x="72" y="180"/>
                    <a:pt x="0" y="209"/>
                    <a:pt x="51" y="168"/>
                  </a:cubicBezTo>
                  <a:cubicBezTo>
                    <a:pt x="66" y="156"/>
                    <a:pt x="89" y="156"/>
                    <a:pt x="108" y="151"/>
                  </a:cubicBezTo>
                  <a:cubicBezTo>
                    <a:pt x="139" y="104"/>
                    <a:pt x="106" y="144"/>
                    <a:pt x="148" y="119"/>
                  </a:cubicBezTo>
                  <a:cubicBezTo>
                    <a:pt x="155" y="115"/>
                    <a:pt x="158" y="106"/>
                    <a:pt x="165" y="103"/>
                  </a:cubicBezTo>
                  <a:cubicBezTo>
                    <a:pt x="180" y="96"/>
                    <a:pt x="197" y="92"/>
                    <a:pt x="213" y="87"/>
                  </a:cubicBezTo>
                  <a:cubicBezTo>
                    <a:pt x="221" y="84"/>
                    <a:pt x="238" y="78"/>
                    <a:pt x="238" y="78"/>
                  </a:cubicBezTo>
                  <a:cubicBezTo>
                    <a:pt x="249" y="46"/>
                    <a:pt x="263" y="40"/>
                    <a:pt x="294" y="30"/>
                  </a:cubicBezTo>
                  <a:cubicBezTo>
                    <a:pt x="297" y="22"/>
                    <a:pt x="294" y="8"/>
                    <a:pt x="302" y="5"/>
                  </a:cubicBezTo>
                  <a:cubicBezTo>
                    <a:pt x="318" y="0"/>
                    <a:pt x="334" y="13"/>
                    <a:pt x="351" y="13"/>
                  </a:cubicBezTo>
                  <a:cubicBezTo>
                    <a:pt x="359" y="13"/>
                    <a:pt x="367" y="5"/>
                    <a:pt x="375" y="5"/>
                  </a:cubicBezTo>
                  <a:cubicBezTo>
                    <a:pt x="378" y="5"/>
                    <a:pt x="375" y="10"/>
                    <a:pt x="375" y="13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7"/>
            <p:cNvSpPr/>
            <p:nvPr/>
          </p:nvSpPr>
          <p:spPr>
            <a:xfrm>
              <a:off x="1770840" y="1927080"/>
              <a:ext cx="10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oling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"/>
            <p:cNvSpPr/>
            <p:nvPr/>
          </p:nvSpPr>
          <p:spPr>
            <a:xfrm>
              <a:off x="2093760" y="2517840"/>
              <a:ext cx="1300320" cy="442800"/>
            </a:xfrm>
            <a:custGeom>
              <a:avLst/>
              <a:gdLst/>
              <a:ahLst/>
              <a:rect l="l" t="t" r="r" b="b"/>
              <a:pathLst>
                <a:path w="707" h="248">
                  <a:moveTo>
                    <a:pt x="536" y="211"/>
                  </a:moveTo>
                  <a:cubicBezTo>
                    <a:pt x="574" y="186"/>
                    <a:pt x="568" y="208"/>
                    <a:pt x="609" y="195"/>
                  </a:cubicBezTo>
                  <a:cubicBezTo>
                    <a:pt x="614" y="189"/>
                    <a:pt x="618" y="182"/>
                    <a:pt x="625" y="178"/>
                  </a:cubicBezTo>
                  <a:cubicBezTo>
                    <a:pt x="640" y="170"/>
                    <a:pt x="673" y="162"/>
                    <a:pt x="673" y="162"/>
                  </a:cubicBezTo>
                  <a:cubicBezTo>
                    <a:pt x="707" y="130"/>
                    <a:pt x="697" y="114"/>
                    <a:pt x="690" y="65"/>
                  </a:cubicBezTo>
                  <a:cubicBezTo>
                    <a:pt x="674" y="70"/>
                    <a:pt x="658" y="84"/>
                    <a:pt x="641" y="81"/>
                  </a:cubicBezTo>
                  <a:cubicBezTo>
                    <a:pt x="614" y="76"/>
                    <a:pt x="560" y="65"/>
                    <a:pt x="560" y="65"/>
                  </a:cubicBezTo>
                  <a:cubicBezTo>
                    <a:pt x="521" y="73"/>
                    <a:pt x="500" y="64"/>
                    <a:pt x="463" y="73"/>
                  </a:cubicBezTo>
                  <a:cubicBezTo>
                    <a:pt x="415" y="61"/>
                    <a:pt x="373" y="78"/>
                    <a:pt x="333" y="105"/>
                  </a:cubicBezTo>
                  <a:cubicBezTo>
                    <a:pt x="351" y="50"/>
                    <a:pt x="361" y="69"/>
                    <a:pt x="333" y="40"/>
                  </a:cubicBezTo>
                  <a:cubicBezTo>
                    <a:pt x="277" y="55"/>
                    <a:pt x="308" y="57"/>
                    <a:pt x="308" y="24"/>
                  </a:cubicBezTo>
                  <a:cubicBezTo>
                    <a:pt x="308" y="16"/>
                    <a:pt x="303" y="8"/>
                    <a:pt x="300" y="0"/>
                  </a:cubicBezTo>
                  <a:cubicBezTo>
                    <a:pt x="244" y="11"/>
                    <a:pt x="263" y="13"/>
                    <a:pt x="227" y="49"/>
                  </a:cubicBezTo>
                  <a:cubicBezTo>
                    <a:pt x="191" y="35"/>
                    <a:pt x="191" y="53"/>
                    <a:pt x="154" y="40"/>
                  </a:cubicBezTo>
                  <a:cubicBezTo>
                    <a:pt x="124" y="72"/>
                    <a:pt x="153" y="61"/>
                    <a:pt x="138" y="105"/>
                  </a:cubicBezTo>
                  <a:cubicBezTo>
                    <a:pt x="130" y="100"/>
                    <a:pt x="121" y="82"/>
                    <a:pt x="114" y="89"/>
                  </a:cubicBezTo>
                  <a:cubicBezTo>
                    <a:pt x="107" y="96"/>
                    <a:pt x="130" y="103"/>
                    <a:pt x="130" y="113"/>
                  </a:cubicBezTo>
                  <a:cubicBezTo>
                    <a:pt x="130" y="135"/>
                    <a:pt x="76" y="137"/>
                    <a:pt x="73" y="138"/>
                  </a:cubicBezTo>
                  <a:cubicBezTo>
                    <a:pt x="60" y="176"/>
                    <a:pt x="39" y="170"/>
                    <a:pt x="0" y="178"/>
                  </a:cubicBezTo>
                  <a:cubicBezTo>
                    <a:pt x="25" y="205"/>
                    <a:pt x="20" y="215"/>
                    <a:pt x="57" y="203"/>
                  </a:cubicBezTo>
                  <a:cubicBezTo>
                    <a:pt x="54" y="195"/>
                    <a:pt x="46" y="186"/>
                    <a:pt x="49" y="178"/>
                  </a:cubicBezTo>
                  <a:cubicBezTo>
                    <a:pt x="52" y="169"/>
                    <a:pt x="66" y="169"/>
                    <a:pt x="73" y="162"/>
                  </a:cubicBezTo>
                  <a:cubicBezTo>
                    <a:pt x="80" y="155"/>
                    <a:pt x="81" y="143"/>
                    <a:pt x="89" y="138"/>
                  </a:cubicBezTo>
                  <a:cubicBezTo>
                    <a:pt x="111" y="125"/>
                    <a:pt x="138" y="122"/>
                    <a:pt x="162" y="113"/>
                  </a:cubicBezTo>
                  <a:cubicBezTo>
                    <a:pt x="176" y="156"/>
                    <a:pt x="183" y="171"/>
                    <a:pt x="227" y="186"/>
                  </a:cubicBezTo>
                  <a:cubicBezTo>
                    <a:pt x="246" y="205"/>
                    <a:pt x="294" y="222"/>
                    <a:pt x="252" y="178"/>
                  </a:cubicBezTo>
                  <a:cubicBezTo>
                    <a:pt x="243" y="151"/>
                    <a:pt x="228" y="140"/>
                    <a:pt x="219" y="113"/>
                  </a:cubicBezTo>
                  <a:cubicBezTo>
                    <a:pt x="263" y="99"/>
                    <a:pt x="233" y="87"/>
                    <a:pt x="276" y="73"/>
                  </a:cubicBezTo>
                  <a:cubicBezTo>
                    <a:pt x="330" y="91"/>
                    <a:pt x="292" y="104"/>
                    <a:pt x="317" y="146"/>
                  </a:cubicBezTo>
                  <a:cubicBezTo>
                    <a:pt x="322" y="154"/>
                    <a:pt x="333" y="157"/>
                    <a:pt x="341" y="162"/>
                  </a:cubicBezTo>
                  <a:cubicBezTo>
                    <a:pt x="333" y="165"/>
                    <a:pt x="325" y="170"/>
                    <a:pt x="317" y="170"/>
                  </a:cubicBezTo>
                  <a:cubicBezTo>
                    <a:pt x="308" y="170"/>
                    <a:pt x="292" y="153"/>
                    <a:pt x="292" y="162"/>
                  </a:cubicBezTo>
                  <a:cubicBezTo>
                    <a:pt x="292" y="184"/>
                    <a:pt x="338" y="192"/>
                    <a:pt x="349" y="195"/>
                  </a:cubicBezTo>
                  <a:cubicBezTo>
                    <a:pt x="384" y="248"/>
                    <a:pt x="343" y="203"/>
                    <a:pt x="390" y="203"/>
                  </a:cubicBezTo>
                  <a:cubicBezTo>
                    <a:pt x="400" y="203"/>
                    <a:pt x="405" y="215"/>
                    <a:pt x="414" y="219"/>
                  </a:cubicBezTo>
                  <a:cubicBezTo>
                    <a:pt x="422" y="223"/>
                    <a:pt x="430" y="224"/>
                    <a:pt x="438" y="227"/>
                  </a:cubicBezTo>
                  <a:cubicBezTo>
                    <a:pt x="457" y="224"/>
                    <a:pt x="476" y="219"/>
                    <a:pt x="495" y="219"/>
                  </a:cubicBezTo>
                  <a:cubicBezTo>
                    <a:pt x="503" y="219"/>
                    <a:pt x="511" y="229"/>
                    <a:pt x="519" y="227"/>
                  </a:cubicBezTo>
                  <a:cubicBezTo>
                    <a:pt x="527" y="226"/>
                    <a:pt x="529" y="215"/>
                    <a:pt x="536" y="211"/>
                  </a:cubicBezTo>
                  <a:cubicBezTo>
                    <a:pt x="543" y="207"/>
                    <a:pt x="560" y="203"/>
                    <a:pt x="560" y="203"/>
                  </a:cubicBezTo>
                  <a:cubicBezTo>
                    <a:pt x="560" y="203"/>
                    <a:pt x="544" y="208"/>
                    <a:pt x="536" y="211"/>
                  </a:cubicBezTo>
                  <a:close/>
                </a:path>
              </a:pathLst>
            </a:custGeom>
            <a:solidFill>
              <a:srgbClr val="d600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9"/>
            <p:cNvSpPr/>
            <p:nvPr/>
          </p:nvSpPr>
          <p:spPr>
            <a:xfrm>
              <a:off x="2560680" y="2273400"/>
              <a:ext cx="13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yzan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0"/>
            <p:cNvSpPr/>
            <p:nvPr/>
          </p:nvSpPr>
          <p:spPr>
            <a:xfrm>
              <a:off x="974880" y="2444760"/>
              <a:ext cx="3840120" cy="1577880"/>
            </a:xfrm>
            <a:custGeom>
              <a:avLst/>
              <a:gdLst/>
              <a:ahLst/>
              <a:rect l="l" t="t" r="r" b="b"/>
              <a:pathLst>
                <a:path w="2089" h="881">
                  <a:moveTo>
                    <a:pt x="1083" y="273"/>
                  </a:moveTo>
                  <a:cubicBezTo>
                    <a:pt x="1111" y="315"/>
                    <a:pt x="1097" y="287"/>
                    <a:pt x="1140" y="273"/>
                  </a:cubicBezTo>
                  <a:cubicBezTo>
                    <a:pt x="1166" y="235"/>
                    <a:pt x="1144" y="255"/>
                    <a:pt x="1197" y="240"/>
                  </a:cubicBezTo>
                  <a:cubicBezTo>
                    <a:pt x="1213" y="235"/>
                    <a:pt x="1245" y="224"/>
                    <a:pt x="1245" y="224"/>
                  </a:cubicBezTo>
                  <a:cubicBezTo>
                    <a:pt x="1265" y="206"/>
                    <a:pt x="1268" y="187"/>
                    <a:pt x="1286" y="167"/>
                  </a:cubicBezTo>
                  <a:cubicBezTo>
                    <a:pt x="1273" y="129"/>
                    <a:pt x="1241" y="126"/>
                    <a:pt x="1286" y="111"/>
                  </a:cubicBezTo>
                  <a:cubicBezTo>
                    <a:pt x="1322" y="123"/>
                    <a:pt x="1314" y="139"/>
                    <a:pt x="1351" y="151"/>
                  </a:cubicBezTo>
                  <a:cubicBezTo>
                    <a:pt x="1359" y="148"/>
                    <a:pt x="1367" y="147"/>
                    <a:pt x="1375" y="143"/>
                  </a:cubicBezTo>
                  <a:cubicBezTo>
                    <a:pt x="1384" y="139"/>
                    <a:pt x="1390" y="127"/>
                    <a:pt x="1400" y="127"/>
                  </a:cubicBezTo>
                  <a:cubicBezTo>
                    <a:pt x="1417" y="127"/>
                    <a:pt x="1448" y="143"/>
                    <a:pt x="1448" y="143"/>
                  </a:cubicBezTo>
                  <a:cubicBezTo>
                    <a:pt x="1445" y="167"/>
                    <a:pt x="1436" y="192"/>
                    <a:pt x="1440" y="216"/>
                  </a:cubicBezTo>
                  <a:cubicBezTo>
                    <a:pt x="1442" y="225"/>
                    <a:pt x="1458" y="225"/>
                    <a:pt x="1464" y="232"/>
                  </a:cubicBezTo>
                  <a:cubicBezTo>
                    <a:pt x="1499" y="276"/>
                    <a:pt x="1426" y="249"/>
                    <a:pt x="1521" y="265"/>
                  </a:cubicBezTo>
                  <a:cubicBezTo>
                    <a:pt x="1529" y="270"/>
                    <a:pt x="1538" y="287"/>
                    <a:pt x="1546" y="281"/>
                  </a:cubicBezTo>
                  <a:cubicBezTo>
                    <a:pt x="1559" y="270"/>
                    <a:pt x="1562" y="232"/>
                    <a:pt x="1562" y="232"/>
                  </a:cubicBezTo>
                  <a:cubicBezTo>
                    <a:pt x="1549" y="192"/>
                    <a:pt x="1531" y="208"/>
                    <a:pt x="1546" y="167"/>
                  </a:cubicBezTo>
                  <a:cubicBezTo>
                    <a:pt x="1535" y="137"/>
                    <a:pt x="1504" y="111"/>
                    <a:pt x="1554" y="127"/>
                  </a:cubicBezTo>
                  <a:cubicBezTo>
                    <a:pt x="1601" y="96"/>
                    <a:pt x="1620" y="60"/>
                    <a:pt x="1675" y="46"/>
                  </a:cubicBezTo>
                  <a:cubicBezTo>
                    <a:pt x="1689" y="49"/>
                    <a:pt x="1707" y="43"/>
                    <a:pt x="1716" y="54"/>
                  </a:cubicBezTo>
                  <a:cubicBezTo>
                    <a:pt x="1727" y="67"/>
                    <a:pt x="1717" y="88"/>
                    <a:pt x="1724" y="103"/>
                  </a:cubicBezTo>
                  <a:cubicBezTo>
                    <a:pt x="1728" y="112"/>
                    <a:pt x="1740" y="114"/>
                    <a:pt x="1748" y="119"/>
                  </a:cubicBezTo>
                  <a:cubicBezTo>
                    <a:pt x="1764" y="166"/>
                    <a:pt x="1782" y="139"/>
                    <a:pt x="1813" y="119"/>
                  </a:cubicBezTo>
                  <a:cubicBezTo>
                    <a:pt x="1830" y="93"/>
                    <a:pt x="1850" y="82"/>
                    <a:pt x="1878" y="70"/>
                  </a:cubicBezTo>
                  <a:cubicBezTo>
                    <a:pt x="1894" y="63"/>
                    <a:pt x="1927" y="54"/>
                    <a:pt x="1927" y="54"/>
                  </a:cubicBezTo>
                  <a:cubicBezTo>
                    <a:pt x="1945" y="26"/>
                    <a:pt x="1952" y="15"/>
                    <a:pt x="1984" y="5"/>
                  </a:cubicBezTo>
                  <a:cubicBezTo>
                    <a:pt x="2006" y="8"/>
                    <a:pt x="2031" y="0"/>
                    <a:pt x="2049" y="13"/>
                  </a:cubicBezTo>
                  <a:cubicBezTo>
                    <a:pt x="2063" y="23"/>
                    <a:pt x="2051" y="52"/>
                    <a:pt x="2065" y="62"/>
                  </a:cubicBezTo>
                  <a:cubicBezTo>
                    <a:pt x="2073" y="67"/>
                    <a:pt x="2081" y="73"/>
                    <a:pt x="2089" y="78"/>
                  </a:cubicBezTo>
                  <a:cubicBezTo>
                    <a:pt x="2043" y="108"/>
                    <a:pt x="2063" y="109"/>
                    <a:pt x="2000" y="119"/>
                  </a:cubicBezTo>
                  <a:cubicBezTo>
                    <a:pt x="1964" y="131"/>
                    <a:pt x="1971" y="144"/>
                    <a:pt x="1951" y="176"/>
                  </a:cubicBezTo>
                  <a:cubicBezTo>
                    <a:pt x="1954" y="184"/>
                    <a:pt x="1960" y="192"/>
                    <a:pt x="1959" y="200"/>
                  </a:cubicBezTo>
                  <a:cubicBezTo>
                    <a:pt x="1957" y="217"/>
                    <a:pt x="1943" y="249"/>
                    <a:pt x="1943" y="249"/>
                  </a:cubicBezTo>
                  <a:cubicBezTo>
                    <a:pt x="1948" y="265"/>
                    <a:pt x="1954" y="281"/>
                    <a:pt x="1959" y="297"/>
                  </a:cubicBezTo>
                  <a:cubicBezTo>
                    <a:pt x="1962" y="306"/>
                    <a:pt x="1947" y="313"/>
                    <a:pt x="1943" y="322"/>
                  </a:cubicBezTo>
                  <a:cubicBezTo>
                    <a:pt x="1939" y="330"/>
                    <a:pt x="1930" y="353"/>
                    <a:pt x="1935" y="346"/>
                  </a:cubicBezTo>
                  <a:cubicBezTo>
                    <a:pt x="1940" y="338"/>
                    <a:pt x="1951" y="322"/>
                    <a:pt x="1951" y="322"/>
                  </a:cubicBezTo>
                  <a:cubicBezTo>
                    <a:pt x="2000" y="332"/>
                    <a:pt x="2015" y="331"/>
                    <a:pt x="1984" y="378"/>
                  </a:cubicBezTo>
                  <a:cubicBezTo>
                    <a:pt x="1982" y="388"/>
                    <a:pt x="1966" y="467"/>
                    <a:pt x="1959" y="476"/>
                  </a:cubicBezTo>
                  <a:cubicBezTo>
                    <a:pt x="1954" y="483"/>
                    <a:pt x="1943" y="481"/>
                    <a:pt x="1935" y="484"/>
                  </a:cubicBezTo>
                  <a:cubicBezTo>
                    <a:pt x="1923" y="521"/>
                    <a:pt x="1910" y="540"/>
                    <a:pt x="1902" y="581"/>
                  </a:cubicBezTo>
                  <a:cubicBezTo>
                    <a:pt x="1883" y="578"/>
                    <a:pt x="1864" y="577"/>
                    <a:pt x="1846" y="573"/>
                  </a:cubicBezTo>
                  <a:cubicBezTo>
                    <a:pt x="1829" y="569"/>
                    <a:pt x="1797" y="557"/>
                    <a:pt x="1797" y="557"/>
                  </a:cubicBezTo>
                  <a:cubicBezTo>
                    <a:pt x="1748" y="573"/>
                    <a:pt x="1693" y="556"/>
                    <a:pt x="1643" y="549"/>
                  </a:cubicBezTo>
                  <a:cubicBezTo>
                    <a:pt x="1641" y="546"/>
                    <a:pt x="1620" y="508"/>
                    <a:pt x="1610" y="508"/>
                  </a:cubicBezTo>
                  <a:cubicBezTo>
                    <a:pt x="1593" y="508"/>
                    <a:pt x="1562" y="524"/>
                    <a:pt x="1562" y="524"/>
                  </a:cubicBezTo>
                  <a:cubicBezTo>
                    <a:pt x="1554" y="521"/>
                    <a:pt x="1543" y="522"/>
                    <a:pt x="1537" y="516"/>
                  </a:cubicBezTo>
                  <a:cubicBezTo>
                    <a:pt x="1523" y="503"/>
                    <a:pt x="1505" y="468"/>
                    <a:pt x="1505" y="468"/>
                  </a:cubicBezTo>
                  <a:cubicBezTo>
                    <a:pt x="1491" y="411"/>
                    <a:pt x="1481" y="426"/>
                    <a:pt x="1424" y="435"/>
                  </a:cubicBezTo>
                  <a:cubicBezTo>
                    <a:pt x="1437" y="488"/>
                    <a:pt x="1439" y="460"/>
                    <a:pt x="1473" y="492"/>
                  </a:cubicBezTo>
                  <a:cubicBezTo>
                    <a:pt x="1488" y="538"/>
                    <a:pt x="1484" y="557"/>
                    <a:pt x="1521" y="581"/>
                  </a:cubicBezTo>
                  <a:cubicBezTo>
                    <a:pt x="1531" y="613"/>
                    <a:pt x="1524" y="618"/>
                    <a:pt x="1570" y="597"/>
                  </a:cubicBezTo>
                  <a:cubicBezTo>
                    <a:pt x="1588" y="589"/>
                    <a:pt x="1619" y="565"/>
                    <a:pt x="1619" y="565"/>
                  </a:cubicBezTo>
                  <a:cubicBezTo>
                    <a:pt x="1660" y="592"/>
                    <a:pt x="1639" y="614"/>
                    <a:pt x="1683" y="597"/>
                  </a:cubicBezTo>
                  <a:cubicBezTo>
                    <a:pt x="1701" y="650"/>
                    <a:pt x="1716" y="673"/>
                    <a:pt x="1651" y="695"/>
                  </a:cubicBezTo>
                  <a:cubicBezTo>
                    <a:pt x="1630" y="759"/>
                    <a:pt x="1651" y="738"/>
                    <a:pt x="1586" y="760"/>
                  </a:cubicBezTo>
                  <a:cubicBezTo>
                    <a:pt x="1570" y="766"/>
                    <a:pt x="1537" y="776"/>
                    <a:pt x="1537" y="776"/>
                  </a:cubicBezTo>
                  <a:cubicBezTo>
                    <a:pt x="1491" y="807"/>
                    <a:pt x="1460" y="816"/>
                    <a:pt x="1408" y="833"/>
                  </a:cubicBezTo>
                  <a:cubicBezTo>
                    <a:pt x="1373" y="866"/>
                    <a:pt x="1413" y="834"/>
                    <a:pt x="1351" y="857"/>
                  </a:cubicBezTo>
                  <a:cubicBezTo>
                    <a:pt x="1342" y="860"/>
                    <a:pt x="1335" y="869"/>
                    <a:pt x="1326" y="873"/>
                  </a:cubicBezTo>
                  <a:cubicBezTo>
                    <a:pt x="1318" y="877"/>
                    <a:pt x="1310" y="878"/>
                    <a:pt x="1302" y="881"/>
                  </a:cubicBezTo>
                  <a:cubicBezTo>
                    <a:pt x="1283" y="824"/>
                    <a:pt x="1319" y="787"/>
                    <a:pt x="1270" y="735"/>
                  </a:cubicBezTo>
                  <a:cubicBezTo>
                    <a:pt x="1253" y="683"/>
                    <a:pt x="1277" y="734"/>
                    <a:pt x="1237" y="703"/>
                  </a:cubicBezTo>
                  <a:cubicBezTo>
                    <a:pt x="1223" y="692"/>
                    <a:pt x="1217" y="675"/>
                    <a:pt x="1205" y="662"/>
                  </a:cubicBezTo>
                  <a:cubicBezTo>
                    <a:pt x="1202" y="643"/>
                    <a:pt x="1206" y="623"/>
                    <a:pt x="1197" y="606"/>
                  </a:cubicBezTo>
                  <a:cubicBezTo>
                    <a:pt x="1193" y="598"/>
                    <a:pt x="1179" y="603"/>
                    <a:pt x="1172" y="597"/>
                  </a:cubicBezTo>
                  <a:cubicBezTo>
                    <a:pt x="1165" y="591"/>
                    <a:pt x="1160" y="582"/>
                    <a:pt x="1156" y="573"/>
                  </a:cubicBezTo>
                  <a:cubicBezTo>
                    <a:pt x="1123" y="498"/>
                    <a:pt x="1155" y="545"/>
                    <a:pt x="1099" y="492"/>
                  </a:cubicBezTo>
                  <a:cubicBezTo>
                    <a:pt x="1091" y="495"/>
                    <a:pt x="1076" y="492"/>
                    <a:pt x="1075" y="500"/>
                  </a:cubicBezTo>
                  <a:cubicBezTo>
                    <a:pt x="1070" y="532"/>
                    <a:pt x="1095" y="549"/>
                    <a:pt x="1107" y="573"/>
                  </a:cubicBezTo>
                  <a:cubicBezTo>
                    <a:pt x="1119" y="596"/>
                    <a:pt x="1124" y="622"/>
                    <a:pt x="1132" y="646"/>
                  </a:cubicBezTo>
                  <a:cubicBezTo>
                    <a:pt x="1138" y="664"/>
                    <a:pt x="1094" y="641"/>
                    <a:pt x="1075" y="638"/>
                  </a:cubicBezTo>
                  <a:cubicBezTo>
                    <a:pt x="1044" y="648"/>
                    <a:pt x="1018" y="639"/>
                    <a:pt x="986" y="630"/>
                  </a:cubicBezTo>
                  <a:cubicBezTo>
                    <a:pt x="969" y="626"/>
                    <a:pt x="937" y="614"/>
                    <a:pt x="937" y="614"/>
                  </a:cubicBezTo>
                  <a:cubicBezTo>
                    <a:pt x="911" y="586"/>
                    <a:pt x="899" y="534"/>
                    <a:pt x="864" y="516"/>
                  </a:cubicBezTo>
                  <a:cubicBezTo>
                    <a:pt x="822" y="495"/>
                    <a:pt x="780" y="497"/>
                    <a:pt x="734" y="492"/>
                  </a:cubicBezTo>
                  <a:cubicBezTo>
                    <a:pt x="726" y="489"/>
                    <a:pt x="718" y="483"/>
                    <a:pt x="710" y="484"/>
                  </a:cubicBezTo>
                  <a:cubicBezTo>
                    <a:pt x="675" y="488"/>
                    <a:pt x="593" y="519"/>
                    <a:pt x="556" y="533"/>
                  </a:cubicBezTo>
                  <a:cubicBezTo>
                    <a:pt x="494" y="511"/>
                    <a:pt x="577" y="539"/>
                    <a:pt x="491" y="516"/>
                  </a:cubicBezTo>
                  <a:cubicBezTo>
                    <a:pt x="474" y="512"/>
                    <a:pt x="442" y="500"/>
                    <a:pt x="442" y="500"/>
                  </a:cubicBezTo>
                  <a:cubicBezTo>
                    <a:pt x="387" y="464"/>
                    <a:pt x="408" y="482"/>
                    <a:pt x="377" y="451"/>
                  </a:cubicBezTo>
                  <a:cubicBezTo>
                    <a:pt x="299" y="454"/>
                    <a:pt x="220" y="453"/>
                    <a:pt x="142" y="460"/>
                  </a:cubicBezTo>
                  <a:cubicBezTo>
                    <a:pt x="103" y="463"/>
                    <a:pt x="67" y="479"/>
                    <a:pt x="28" y="484"/>
                  </a:cubicBezTo>
                  <a:cubicBezTo>
                    <a:pt x="20" y="481"/>
                    <a:pt x="8" y="484"/>
                    <a:pt x="4" y="476"/>
                  </a:cubicBezTo>
                  <a:cubicBezTo>
                    <a:pt x="0" y="468"/>
                    <a:pt x="10" y="459"/>
                    <a:pt x="12" y="451"/>
                  </a:cubicBezTo>
                  <a:cubicBezTo>
                    <a:pt x="24" y="401"/>
                    <a:pt x="8" y="422"/>
                    <a:pt x="37" y="395"/>
                  </a:cubicBezTo>
                  <a:cubicBezTo>
                    <a:pt x="49" y="358"/>
                    <a:pt x="65" y="366"/>
                    <a:pt x="77" y="330"/>
                  </a:cubicBezTo>
                  <a:cubicBezTo>
                    <a:pt x="87" y="268"/>
                    <a:pt x="81" y="266"/>
                    <a:pt x="142" y="281"/>
                  </a:cubicBezTo>
                  <a:cubicBezTo>
                    <a:pt x="173" y="301"/>
                    <a:pt x="195" y="309"/>
                    <a:pt x="231" y="297"/>
                  </a:cubicBezTo>
                  <a:cubicBezTo>
                    <a:pt x="270" y="261"/>
                    <a:pt x="320" y="248"/>
                    <a:pt x="369" y="232"/>
                  </a:cubicBezTo>
                  <a:cubicBezTo>
                    <a:pt x="407" y="258"/>
                    <a:pt x="409" y="246"/>
                    <a:pt x="450" y="232"/>
                  </a:cubicBezTo>
                  <a:cubicBezTo>
                    <a:pt x="486" y="244"/>
                    <a:pt x="502" y="250"/>
                    <a:pt x="540" y="240"/>
                  </a:cubicBezTo>
                  <a:cubicBezTo>
                    <a:pt x="527" y="277"/>
                    <a:pt x="520" y="306"/>
                    <a:pt x="499" y="338"/>
                  </a:cubicBezTo>
                  <a:cubicBezTo>
                    <a:pt x="575" y="349"/>
                    <a:pt x="536" y="340"/>
                    <a:pt x="604" y="362"/>
                  </a:cubicBezTo>
                  <a:cubicBezTo>
                    <a:pt x="612" y="365"/>
                    <a:pt x="629" y="370"/>
                    <a:pt x="629" y="370"/>
                  </a:cubicBezTo>
                  <a:cubicBezTo>
                    <a:pt x="634" y="376"/>
                    <a:pt x="638" y="383"/>
                    <a:pt x="645" y="387"/>
                  </a:cubicBezTo>
                  <a:cubicBezTo>
                    <a:pt x="652" y="391"/>
                    <a:pt x="663" y="389"/>
                    <a:pt x="669" y="395"/>
                  </a:cubicBezTo>
                  <a:cubicBezTo>
                    <a:pt x="675" y="401"/>
                    <a:pt x="672" y="412"/>
                    <a:pt x="677" y="419"/>
                  </a:cubicBezTo>
                  <a:cubicBezTo>
                    <a:pt x="691" y="436"/>
                    <a:pt x="715" y="438"/>
                    <a:pt x="734" y="443"/>
                  </a:cubicBezTo>
                  <a:cubicBezTo>
                    <a:pt x="748" y="401"/>
                    <a:pt x="728" y="377"/>
                    <a:pt x="775" y="362"/>
                  </a:cubicBezTo>
                  <a:cubicBezTo>
                    <a:pt x="816" y="335"/>
                    <a:pt x="782" y="347"/>
                    <a:pt x="824" y="362"/>
                  </a:cubicBezTo>
                  <a:cubicBezTo>
                    <a:pt x="837" y="367"/>
                    <a:pt x="851" y="367"/>
                    <a:pt x="864" y="370"/>
                  </a:cubicBezTo>
                  <a:cubicBezTo>
                    <a:pt x="908" y="416"/>
                    <a:pt x="948" y="419"/>
                    <a:pt x="1010" y="427"/>
                  </a:cubicBezTo>
                  <a:cubicBezTo>
                    <a:pt x="1074" y="406"/>
                    <a:pt x="1042" y="414"/>
                    <a:pt x="1107" y="403"/>
                  </a:cubicBezTo>
                  <a:cubicBezTo>
                    <a:pt x="1127" y="346"/>
                    <a:pt x="1129" y="370"/>
                    <a:pt x="1116" y="330"/>
                  </a:cubicBezTo>
                  <a:cubicBezTo>
                    <a:pt x="1119" y="322"/>
                    <a:pt x="1118" y="311"/>
                    <a:pt x="1124" y="305"/>
                  </a:cubicBezTo>
                  <a:cubicBezTo>
                    <a:pt x="1137" y="291"/>
                    <a:pt x="1172" y="273"/>
                    <a:pt x="1172" y="273"/>
                  </a:cubicBezTo>
                  <a:cubicBezTo>
                    <a:pt x="1172" y="283"/>
                    <a:pt x="1174" y="293"/>
                    <a:pt x="1171" y="302"/>
                  </a:cubicBezTo>
                  <a:cubicBezTo>
                    <a:pt x="1168" y="310"/>
                    <a:pt x="1156" y="322"/>
                    <a:pt x="1156" y="322"/>
                  </a:cubicBezTo>
                  <a:lnTo>
                    <a:pt x="1171" y="254"/>
                  </a:lnTo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11"/>
            <p:cNvSpPr/>
            <p:nvPr/>
          </p:nvSpPr>
          <p:spPr>
            <a:xfrm>
              <a:off x="3092400" y="28749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basid Cali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2"/>
            <p:cNvSpPr/>
            <p:nvPr/>
          </p:nvSpPr>
          <p:spPr>
            <a:xfrm>
              <a:off x="3063960" y="3852720"/>
              <a:ext cx="336600" cy="347760"/>
            </a:xfrm>
            <a:custGeom>
              <a:avLst/>
              <a:gdLst/>
              <a:ahLst/>
              <a:rect l="l" t="t" r="r" b="b"/>
              <a:pathLst>
                <a:path w="183" h="195">
                  <a:moveTo>
                    <a:pt x="90" y="0"/>
                  </a:moveTo>
                  <a:cubicBezTo>
                    <a:pt x="82" y="5"/>
                    <a:pt x="75" y="12"/>
                    <a:pt x="66" y="16"/>
                  </a:cubicBezTo>
                  <a:cubicBezTo>
                    <a:pt x="58" y="20"/>
                    <a:pt x="47" y="18"/>
                    <a:pt x="41" y="24"/>
                  </a:cubicBezTo>
                  <a:cubicBezTo>
                    <a:pt x="14" y="51"/>
                    <a:pt x="11" y="67"/>
                    <a:pt x="1" y="97"/>
                  </a:cubicBezTo>
                  <a:cubicBezTo>
                    <a:pt x="13" y="191"/>
                    <a:pt x="0" y="143"/>
                    <a:pt x="49" y="195"/>
                  </a:cubicBezTo>
                  <a:cubicBezTo>
                    <a:pt x="96" y="188"/>
                    <a:pt x="117" y="187"/>
                    <a:pt x="155" y="162"/>
                  </a:cubicBezTo>
                  <a:cubicBezTo>
                    <a:pt x="177" y="96"/>
                    <a:pt x="183" y="121"/>
                    <a:pt x="131" y="81"/>
                  </a:cubicBezTo>
                  <a:cubicBezTo>
                    <a:pt x="125" y="76"/>
                    <a:pt x="120" y="70"/>
                    <a:pt x="114" y="65"/>
                  </a:cubicBezTo>
                  <a:cubicBezTo>
                    <a:pt x="106" y="41"/>
                    <a:pt x="90" y="24"/>
                    <a:pt x="90" y="0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3"/>
            <p:cNvSpPr/>
            <p:nvPr/>
          </p:nvSpPr>
          <p:spPr>
            <a:xfrm>
              <a:off x="2386080" y="3905280"/>
              <a:ext cx="88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x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"/>
            <p:cNvSpPr/>
            <p:nvPr/>
          </p:nvSpPr>
          <p:spPr>
            <a:xfrm>
              <a:off x="4518000" y="3054240"/>
              <a:ext cx="1038240" cy="581040"/>
            </a:xfrm>
            <a:custGeom>
              <a:avLst/>
              <a:gdLst/>
              <a:ahLst/>
              <a:rect l="l" t="t" r="r" b="b"/>
              <a:pathLst>
                <a:path w="565" h="324">
                  <a:moveTo>
                    <a:pt x="21" y="276"/>
                  </a:moveTo>
                  <a:cubicBezTo>
                    <a:pt x="41" y="255"/>
                    <a:pt x="39" y="235"/>
                    <a:pt x="54" y="211"/>
                  </a:cubicBezTo>
                  <a:cubicBezTo>
                    <a:pt x="77" y="173"/>
                    <a:pt x="65" y="217"/>
                    <a:pt x="86" y="170"/>
                  </a:cubicBezTo>
                  <a:cubicBezTo>
                    <a:pt x="101" y="135"/>
                    <a:pt x="105" y="81"/>
                    <a:pt x="127" y="48"/>
                  </a:cubicBezTo>
                  <a:cubicBezTo>
                    <a:pt x="148" y="17"/>
                    <a:pt x="140" y="33"/>
                    <a:pt x="151" y="0"/>
                  </a:cubicBezTo>
                  <a:cubicBezTo>
                    <a:pt x="199" y="12"/>
                    <a:pt x="174" y="5"/>
                    <a:pt x="232" y="24"/>
                  </a:cubicBezTo>
                  <a:cubicBezTo>
                    <a:pt x="248" y="29"/>
                    <a:pt x="281" y="40"/>
                    <a:pt x="281" y="40"/>
                  </a:cubicBezTo>
                  <a:cubicBezTo>
                    <a:pt x="296" y="88"/>
                    <a:pt x="277" y="45"/>
                    <a:pt x="313" y="81"/>
                  </a:cubicBezTo>
                  <a:cubicBezTo>
                    <a:pt x="320" y="88"/>
                    <a:pt x="321" y="100"/>
                    <a:pt x="329" y="105"/>
                  </a:cubicBezTo>
                  <a:cubicBezTo>
                    <a:pt x="378" y="135"/>
                    <a:pt x="447" y="129"/>
                    <a:pt x="500" y="146"/>
                  </a:cubicBezTo>
                  <a:cubicBezTo>
                    <a:pt x="516" y="157"/>
                    <a:pt x="542" y="160"/>
                    <a:pt x="548" y="178"/>
                  </a:cubicBezTo>
                  <a:cubicBezTo>
                    <a:pt x="554" y="194"/>
                    <a:pt x="565" y="227"/>
                    <a:pt x="565" y="227"/>
                  </a:cubicBezTo>
                  <a:cubicBezTo>
                    <a:pt x="556" y="254"/>
                    <a:pt x="543" y="263"/>
                    <a:pt x="524" y="284"/>
                  </a:cubicBezTo>
                  <a:cubicBezTo>
                    <a:pt x="499" y="280"/>
                    <a:pt x="468" y="285"/>
                    <a:pt x="451" y="267"/>
                  </a:cubicBezTo>
                  <a:cubicBezTo>
                    <a:pt x="445" y="261"/>
                    <a:pt x="450" y="248"/>
                    <a:pt x="443" y="243"/>
                  </a:cubicBezTo>
                  <a:cubicBezTo>
                    <a:pt x="429" y="233"/>
                    <a:pt x="394" y="227"/>
                    <a:pt x="394" y="227"/>
                  </a:cubicBezTo>
                  <a:cubicBezTo>
                    <a:pt x="356" y="202"/>
                    <a:pt x="378" y="214"/>
                    <a:pt x="321" y="194"/>
                  </a:cubicBezTo>
                  <a:cubicBezTo>
                    <a:pt x="313" y="191"/>
                    <a:pt x="297" y="186"/>
                    <a:pt x="297" y="186"/>
                  </a:cubicBezTo>
                  <a:cubicBezTo>
                    <a:pt x="270" y="189"/>
                    <a:pt x="243" y="189"/>
                    <a:pt x="216" y="194"/>
                  </a:cubicBezTo>
                  <a:cubicBezTo>
                    <a:pt x="199" y="197"/>
                    <a:pt x="183" y="205"/>
                    <a:pt x="167" y="211"/>
                  </a:cubicBezTo>
                  <a:cubicBezTo>
                    <a:pt x="159" y="214"/>
                    <a:pt x="143" y="219"/>
                    <a:pt x="143" y="219"/>
                  </a:cubicBezTo>
                  <a:cubicBezTo>
                    <a:pt x="133" y="233"/>
                    <a:pt x="119" y="244"/>
                    <a:pt x="110" y="259"/>
                  </a:cubicBezTo>
                  <a:cubicBezTo>
                    <a:pt x="90" y="292"/>
                    <a:pt x="99" y="299"/>
                    <a:pt x="62" y="324"/>
                  </a:cubicBezTo>
                  <a:cubicBezTo>
                    <a:pt x="0" y="309"/>
                    <a:pt x="29" y="310"/>
                    <a:pt x="29" y="267"/>
                  </a:cubicBezTo>
                  <a:cubicBezTo>
                    <a:pt x="29" y="263"/>
                    <a:pt x="24" y="273"/>
                    <a:pt x="21" y="276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15"/>
            <p:cNvSpPr/>
            <p:nvPr/>
          </p:nvSpPr>
          <p:spPr>
            <a:xfrm>
              <a:off x="4943520" y="2703600"/>
              <a:ext cx="132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rjara-Pratih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6"/>
            <p:cNvSpPr/>
            <p:nvPr/>
          </p:nvSpPr>
          <p:spPr>
            <a:xfrm>
              <a:off x="5765760" y="2576520"/>
              <a:ext cx="1168560" cy="1198440"/>
            </a:xfrm>
            <a:custGeom>
              <a:avLst/>
              <a:gdLst/>
              <a:ahLst/>
              <a:rect l="l" t="t" r="r" b="b"/>
              <a:pathLst>
                <a:path w="637" h="669">
                  <a:moveTo>
                    <a:pt x="600" y="57"/>
                  </a:moveTo>
                  <a:cubicBezTo>
                    <a:pt x="585" y="48"/>
                    <a:pt x="575" y="32"/>
                    <a:pt x="559" y="24"/>
                  </a:cubicBezTo>
                  <a:cubicBezTo>
                    <a:pt x="544" y="16"/>
                    <a:pt x="511" y="8"/>
                    <a:pt x="511" y="8"/>
                  </a:cubicBezTo>
                  <a:cubicBezTo>
                    <a:pt x="503" y="11"/>
                    <a:pt x="495" y="17"/>
                    <a:pt x="486" y="16"/>
                  </a:cubicBezTo>
                  <a:cubicBezTo>
                    <a:pt x="469" y="14"/>
                    <a:pt x="438" y="0"/>
                    <a:pt x="438" y="0"/>
                  </a:cubicBezTo>
                  <a:cubicBezTo>
                    <a:pt x="422" y="5"/>
                    <a:pt x="405" y="11"/>
                    <a:pt x="389" y="16"/>
                  </a:cubicBezTo>
                  <a:cubicBezTo>
                    <a:pt x="362" y="25"/>
                    <a:pt x="352" y="48"/>
                    <a:pt x="324" y="57"/>
                  </a:cubicBezTo>
                  <a:cubicBezTo>
                    <a:pt x="288" y="33"/>
                    <a:pt x="262" y="42"/>
                    <a:pt x="227" y="65"/>
                  </a:cubicBezTo>
                  <a:cubicBezTo>
                    <a:pt x="221" y="81"/>
                    <a:pt x="221" y="100"/>
                    <a:pt x="210" y="114"/>
                  </a:cubicBezTo>
                  <a:cubicBezTo>
                    <a:pt x="193" y="135"/>
                    <a:pt x="153" y="140"/>
                    <a:pt x="129" y="146"/>
                  </a:cubicBezTo>
                  <a:cubicBezTo>
                    <a:pt x="114" y="101"/>
                    <a:pt x="75" y="111"/>
                    <a:pt x="32" y="97"/>
                  </a:cubicBezTo>
                  <a:cubicBezTo>
                    <a:pt x="23" y="107"/>
                    <a:pt x="0" y="121"/>
                    <a:pt x="24" y="138"/>
                  </a:cubicBezTo>
                  <a:cubicBezTo>
                    <a:pt x="38" y="148"/>
                    <a:pt x="72" y="154"/>
                    <a:pt x="72" y="154"/>
                  </a:cubicBezTo>
                  <a:cubicBezTo>
                    <a:pt x="103" y="183"/>
                    <a:pt x="102" y="223"/>
                    <a:pt x="137" y="260"/>
                  </a:cubicBezTo>
                  <a:cubicBezTo>
                    <a:pt x="150" y="300"/>
                    <a:pt x="156" y="339"/>
                    <a:pt x="162" y="381"/>
                  </a:cubicBezTo>
                  <a:cubicBezTo>
                    <a:pt x="155" y="403"/>
                    <a:pt x="149" y="434"/>
                    <a:pt x="137" y="454"/>
                  </a:cubicBezTo>
                  <a:cubicBezTo>
                    <a:pt x="133" y="461"/>
                    <a:pt x="114" y="468"/>
                    <a:pt x="121" y="471"/>
                  </a:cubicBezTo>
                  <a:cubicBezTo>
                    <a:pt x="131" y="476"/>
                    <a:pt x="143" y="464"/>
                    <a:pt x="154" y="462"/>
                  </a:cubicBezTo>
                  <a:cubicBezTo>
                    <a:pt x="175" y="458"/>
                    <a:pt x="197" y="457"/>
                    <a:pt x="218" y="454"/>
                  </a:cubicBezTo>
                  <a:cubicBezTo>
                    <a:pt x="240" y="459"/>
                    <a:pt x="256" y="457"/>
                    <a:pt x="267" y="479"/>
                  </a:cubicBezTo>
                  <a:cubicBezTo>
                    <a:pt x="274" y="494"/>
                    <a:pt x="283" y="527"/>
                    <a:pt x="283" y="527"/>
                  </a:cubicBezTo>
                  <a:cubicBezTo>
                    <a:pt x="263" y="548"/>
                    <a:pt x="252" y="567"/>
                    <a:pt x="227" y="584"/>
                  </a:cubicBezTo>
                  <a:cubicBezTo>
                    <a:pt x="224" y="595"/>
                    <a:pt x="212" y="608"/>
                    <a:pt x="218" y="617"/>
                  </a:cubicBezTo>
                  <a:cubicBezTo>
                    <a:pt x="223" y="624"/>
                    <a:pt x="235" y="612"/>
                    <a:pt x="243" y="608"/>
                  </a:cubicBezTo>
                  <a:cubicBezTo>
                    <a:pt x="260" y="599"/>
                    <a:pt x="291" y="576"/>
                    <a:pt x="291" y="576"/>
                  </a:cubicBezTo>
                  <a:cubicBezTo>
                    <a:pt x="307" y="620"/>
                    <a:pt x="337" y="610"/>
                    <a:pt x="291" y="625"/>
                  </a:cubicBezTo>
                  <a:cubicBezTo>
                    <a:pt x="307" y="669"/>
                    <a:pt x="319" y="645"/>
                    <a:pt x="356" y="633"/>
                  </a:cubicBezTo>
                  <a:cubicBezTo>
                    <a:pt x="351" y="625"/>
                    <a:pt x="348" y="614"/>
                    <a:pt x="340" y="608"/>
                  </a:cubicBezTo>
                  <a:cubicBezTo>
                    <a:pt x="333" y="603"/>
                    <a:pt x="320" y="608"/>
                    <a:pt x="316" y="600"/>
                  </a:cubicBezTo>
                  <a:cubicBezTo>
                    <a:pt x="304" y="576"/>
                    <a:pt x="362" y="559"/>
                    <a:pt x="373" y="552"/>
                  </a:cubicBezTo>
                  <a:cubicBezTo>
                    <a:pt x="405" y="563"/>
                    <a:pt x="415" y="558"/>
                    <a:pt x="438" y="535"/>
                  </a:cubicBezTo>
                  <a:cubicBezTo>
                    <a:pt x="454" y="488"/>
                    <a:pt x="474" y="515"/>
                    <a:pt x="511" y="527"/>
                  </a:cubicBezTo>
                  <a:cubicBezTo>
                    <a:pt x="552" y="500"/>
                    <a:pt x="546" y="470"/>
                    <a:pt x="584" y="446"/>
                  </a:cubicBezTo>
                  <a:cubicBezTo>
                    <a:pt x="602" y="391"/>
                    <a:pt x="588" y="410"/>
                    <a:pt x="616" y="381"/>
                  </a:cubicBezTo>
                  <a:cubicBezTo>
                    <a:pt x="607" y="337"/>
                    <a:pt x="592" y="329"/>
                    <a:pt x="616" y="292"/>
                  </a:cubicBezTo>
                  <a:cubicBezTo>
                    <a:pt x="605" y="258"/>
                    <a:pt x="572" y="242"/>
                    <a:pt x="551" y="211"/>
                  </a:cubicBezTo>
                  <a:cubicBezTo>
                    <a:pt x="607" y="193"/>
                    <a:pt x="588" y="208"/>
                    <a:pt x="616" y="178"/>
                  </a:cubicBezTo>
                  <a:cubicBezTo>
                    <a:pt x="622" y="161"/>
                    <a:pt x="637" y="142"/>
                    <a:pt x="600" y="146"/>
                  </a:cubicBezTo>
                  <a:cubicBezTo>
                    <a:pt x="583" y="148"/>
                    <a:pt x="551" y="162"/>
                    <a:pt x="551" y="162"/>
                  </a:cubicBezTo>
                  <a:cubicBezTo>
                    <a:pt x="540" y="159"/>
                    <a:pt x="528" y="161"/>
                    <a:pt x="519" y="154"/>
                  </a:cubicBezTo>
                  <a:cubicBezTo>
                    <a:pt x="487" y="128"/>
                    <a:pt x="533" y="103"/>
                    <a:pt x="551" y="97"/>
                  </a:cubicBezTo>
                  <a:cubicBezTo>
                    <a:pt x="560" y="84"/>
                    <a:pt x="569" y="66"/>
                    <a:pt x="584" y="57"/>
                  </a:cubicBezTo>
                  <a:cubicBezTo>
                    <a:pt x="628" y="31"/>
                    <a:pt x="606" y="51"/>
                    <a:pt x="600" y="57"/>
                  </a:cubicBez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17"/>
            <p:cNvSpPr/>
            <p:nvPr/>
          </p:nvSpPr>
          <p:spPr>
            <a:xfrm>
              <a:off x="6004080" y="2703600"/>
              <a:ext cx="114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ng Ch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8"/>
            <p:cNvSpPr/>
            <p:nvPr/>
          </p:nvSpPr>
          <p:spPr>
            <a:xfrm>
              <a:off x="5708520" y="4246560"/>
              <a:ext cx="895320" cy="663480"/>
            </a:xfrm>
            <a:custGeom>
              <a:avLst/>
              <a:gdLst/>
              <a:ahLst/>
              <a:rect l="l" t="t" r="r" b="b"/>
              <a:pathLst>
                <a:path w="488" h="369">
                  <a:moveTo>
                    <a:pt x="112" y="166"/>
                  </a:moveTo>
                  <a:cubicBezTo>
                    <a:pt x="115" y="167"/>
                    <a:pt x="158" y="180"/>
                    <a:pt x="161" y="183"/>
                  </a:cubicBezTo>
                  <a:cubicBezTo>
                    <a:pt x="174" y="197"/>
                    <a:pt x="187" y="213"/>
                    <a:pt x="193" y="231"/>
                  </a:cubicBezTo>
                  <a:cubicBezTo>
                    <a:pt x="199" y="247"/>
                    <a:pt x="196" y="270"/>
                    <a:pt x="210" y="280"/>
                  </a:cubicBezTo>
                  <a:cubicBezTo>
                    <a:pt x="241" y="301"/>
                    <a:pt x="225" y="293"/>
                    <a:pt x="258" y="304"/>
                  </a:cubicBezTo>
                  <a:cubicBezTo>
                    <a:pt x="261" y="312"/>
                    <a:pt x="260" y="323"/>
                    <a:pt x="266" y="329"/>
                  </a:cubicBezTo>
                  <a:cubicBezTo>
                    <a:pt x="280" y="343"/>
                    <a:pt x="363" y="353"/>
                    <a:pt x="388" y="361"/>
                  </a:cubicBezTo>
                  <a:cubicBezTo>
                    <a:pt x="396" y="358"/>
                    <a:pt x="404" y="352"/>
                    <a:pt x="412" y="353"/>
                  </a:cubicBezTo>
                  <a:cubicBezTo>
                    <a:pt x="429" y="355"/>
                    <a:pt x="461" y="369"/>
                    <a:pt x="461" y="369"/>
                  </a:cubicBezTo>
                  <a:cubicBezTo>
                    <a:pt x="469" y="366"/>
                    <a:pt x="483" y="369"/>
                    <a:pt x="486" y="361"/>
                  </a:cubicBezTo>
                  <a:cubicBezTo>
                    <a:pt x="488" y="354"/>
                    <a:pt x="476" y="348"/>
                    <a:pt x="469" y="345"/>
                  </a:cubicBezTo>
                  <a:cubicBezTo>
                    <a:pt x="446" y="334"/>
                    <a:pt x="420" y="328"/>
                    <a:pt x="396" y="320"/>
                  </a:cubicBezTo>
                  <a:cubicBezTo>
                    <a:pt x="388" y="317"/>
                    <a:pt x="372" y="312"/>
                    <a:pt x="372" y="312"/>
                  </a:cubicBezTo>
                  <a:cubicBezTo>
                    <a:pt x="364" y="315"/>
                    <a:pt x="356" y="321"/>
                    <a:pt x="348" y="320"/>
                  </a:cubicBezTo>
                  <a:cubicBezTo>
                    <a:pt x="331" y="318"/>
                    <a:pt x="299" y="304"/>
                    <a:pt x="299" y="304"/>
                  </a:cubicBezTo>
                  <a:cubicBezTo>
                    <a:pt x="249" y="337"/>
                    <a:pt x="283" y="324"/>
                    <a:pt x="283" y="239"/>
                  </a:cubicBezTo>
                  <a:cubicBezTo>
                    <a:pt x="283" y="228"/>
                    <a:pt x="278" y="218"/>
                    <a:pt x="275" y="207"/>
                  </a:cubicBezTo>
                  <a:cubicBezTo>
                    <a:pt x="267" y="210"/>
                    <a:pt x="258" y="218"/>
                    <a:pt x="250" y="215"/>
                  </a:cubicBezTo>
                  <a:cubicBezTo>
                    <a:pt x="241" y="212"/>
                    <a:pt x="240" y="199"/>
                    <a:pt x="234" y="191"/>
                  </a:cubicBezTo>
                  <a:cubicBezTo>
                    <a:pt x="215" y="167"/>
                    <a:pt x="206" y="151"/>
                    <a:pt x="177" y="142"/>
                  </a:cubicBezTo>
                  <a:cubicBezTo>
                    <a:pt x="192" y="98"/>
                    <a:pt x="182" y="127"/>
                    <a:pt x="226" y="142"/>
                  </a:cubicBezTo>
                  <a:cubicBezTo>
                    <a:pt x="240" y="101"/>
                    <a:pt x="228" y="68"/>
                    <a:pt x="193" y="45"/>
                  </a:cubicBezTo>
                  <a:cubicBezTo>
                    <a:pt x="182" y="11"/>
                    <a:pt x="172" y="0"/>
                    <a:pt x="137" y="12"/>
                  </a:cubicBezTo>
                  <a:cubicBezTo>
                    <a:pt x="144" y="48"/>
                    <a:pt x="158" y="67"/>
                    <a:pt x="169" y="101"/>
                  </a:cubicBezTo>
                  <a:cubicBezTo>
                    <a:pt x="166" y="109"/>
                    <a:pt x="169" y="124"/>
                    <a:pt x="161" y="126"/>
                  </a:cubicBezTo>
                  <a:cubicBezTo>
                    <a:pt x="152" y="129"/>
                    <a:pt x="144" y="116"/>
                    <a:pt x="137" y="110"/>
                  </a:cubicBezTo>
                  <a:cubicBezTo>
                    <a:pt x="102" y="82"/>
                    <a:pt x="104" y="61"/>
                    <a:pt x="56" y="45"/>
                  </a:cubicBezTo>
                  <a:cubicBezTo>
                    <a:pt x="42" y="48"/>
                    <a:pt x="24" y="42"/>
                    <a:pt x="15" y="53"/>
                  </a:cubicBezTo>
                  <a:cubicBezTo>
                    <a:pt x="0" y="73"/>
                    <a:pt x="55" y="85"/>
                    <a:pt x="56" y="85"/>
                  </a:cubicBezTo>
                  <a:cubicBezTo>
                    <a:pt x="100" y="114"/>
                    <a:pt x="75" y="141"/>
                    <a:pt x="129" y="158"/>
                  </a:cubicBezTo>
                  <a:cubicBezTo>
                    <a:pt x="137" y="153"/>
                    <a:pt x="153" y="142"/>
                    <a:pt x="153" y="142"/>
                  </a:cubicBezTo>
                  <a:cubicBezTo>
                    <a:pt x="163" y="172"/>
                    <a:pt x="157" y="158"/>
                    <a:pt x="169" y="183"/>
                  </a:cubicBezTo>
                  <a:lnTo>
                    <a:pt x="112" y="166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9"/>
            <p:cNvSpPr/>
            <p:nvPr/>
          </p:nvSpPr>
          <p:spPr>
            <a:xfrm>
              <a:off x="6324480" y="4419720"/>
              <a:ext cx="123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rivijay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0"/>
            <p:cNvSpPr/>
            <p:nvPr/>
          </p:nvSpPr>
          <p:spPr>
            <a:xfrm>
              <a:off x="6853320" y="2433600"/>
              <a:ext cx="355680" cy="303120"/>
            </a:xfrm>
            <a:custGeom>
              <a:avLst/>
              <a:gdLst/>
              <a:ahLst/>
              <a:rect l="l" t="t" r="r" b="b"/>
              <a:pathLst>
                <a:path w="194" h="170">
                  <a:moveTo>
                    <a:pt x="0" y="81"/>
                  </a:moveTo>
                  <a:cubicBezTo>
                    <a:pt x="14" y="37"/>
                    <a:pt x="63" y="14"/>
                    <a:pt x="105" y="0"/>
                  </a:cubicBezTo>
                  <a:cubicBezTo>
                    <a:pt x="119" y="3"/>
                    <a:pt x="135" y="0"/>
                    <a:pt x="146" y="8"/>
                  </a:cubicBezTo>
                  <a:cubicBezTo>
                    <a:pt x="161" y="20"/>
                    <a:pt x="178" y="56"/>
                    <a:pt x="178" y="56"/>
                  </a:cubicBezTo>
                  <a:cubicBezTo>
                    <a:pt x="194" y="106"/>
                    <a:pt x="171" y="71"/>
                    <a:pt x="154" y="121"/>
                  </a:cubicBezTo>
                  <a:cubicBezTo>
                    <a:pt x="157" y="129"/>
                    <a:pt x="168" y="140"/>
                    <a:pt x="162" y="146"/>
                  </a:cubicBezTo>
                  <a:cubicBezTo>
                    <a:pt x="150" y="158"/>
                    <a:pt x="129" y="157"/>
                    <a:pt x="113" y="162"/>
                  </a:cubicBezTo>
                  <a:cubicBezTo>
                    <a:pt x="105" y="165"/>
                    <a:pt x="89" y="170"/>
                    <a:pt x="89" y="170"/>
                  </a:cubicBezTo>
                  <a:cubicBezTo>
                    <a:pt x="100" y="137"/>
                    <a:pt x="99" y="124"/>
                    <a:pt x="65" y="113"/>
                  </a:cubicBezTo>
                  <a:cubicBezTo>
                    <a:pt x="21" y="127"/>
                    <a:pt x="23" y="159"/>
                    <a:pt x="8" y="113"/>
                  </a:cubicBezTo>
                  <a:cubicBezTo>
                    <a:pt x="29" y="82"/>
                    <a:pt x="33" y="92"/>
                    <a:pt x="0" y="81"/>
                  </a:cubicBezTo>
                  <a:close/>
                </a:path>
              </a:pathLst>
            </a:custGeom>
            <a:solidFill>
              <a:srgbClr val="ff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21"/>
            <p:cNvSpPr/>
            <p:nvPr/>
          </p:nvSpPr>
          <p:spPr>
            <a:xfrm>
              <a:off x="7029000" y="227016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h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2"/>
            <p:cNvSpPr/>
            <p:nvPr/>
          </p:nvSpPr>
          <p:spPr>
            <a:xfrm>
              <a:off x="7043760" y="2709720"/>
              <a:ext cx="195120" cy="282600"/>
            </a:xfrm>
            <a:custGeom>
              <a:avLst/>
              <a:gdLst/>
              <a:ahLst/>
              <a:rect l="l" t="t" r="r" b="b"/>
              <a:pathLst>
                <a:path w="107" h="158">
                  <a:moveTo>
                    <a:pt x="1" y="0"/>
                  </a:moveTo>
                  <a:cubicBezTo>
                    <a:pt x="4" y="16"/>
                    <a:pt x="9" y="32"/>
                    <a:pt x="9" y="48"/>
                  </a:cubicBezTo>
                  <a:cubicBezTo>
                    <a:pt x="9" y="57"/>
                    <a:pt x="0" y="64"/>
                    <a:pt x="1" y="73"/>
                  </a:cubicBezTo>
                  <a:cubicBezTo>
                    <a:pt x="3" y="86"/>
                    <a:pt x="25" y="104"/>
                    <a:pt x="34" y="113"/>
                  </a:cubicBezTo>
                  <a:cubicBezTo>
                    <a:pt x="37" y="127"/>
                    <a:pt x="31" y="146"/>
                    <a:pt x="42" y="154"/>
                  </a:cubicBezTo>
                  <a:cubicBezTo>
                    <a:pt x="48" y="158"/>
                    <a:pt x="97" y="141"/>
                    <a:pt x="107" y="138"/>
                  </a:cubicBezTo>
                  <a:cubicBezTo>
                    <a:pt x="83" y="70"/>
                    <a:pt x="107" y="155"/>
                    <a:pt x="107" y="89"/>
                  </a:cubicBezTo>
                  <a:cubicBezTo>
                    <a:pt x="107" y="59"/>
                    <a:pt x="80" y="47"/>
                    <a:pt x="58" y="40"/>
                  </a:cubicBezTo>
                  <a:cubicBezTo>
                    <a:pt x="49" y="5"/>
                    <a:pt x="39" y="8"/>
                    <a:pt x="58" y="8"/>
                  </a:cubicBez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23"/>
            <p:cNvSpPr/>
            <p:nvPr/>
          </p:nvSpPr>
          <p:spPr>
            <a:xfrm>
              <a:off x="7029360" y="2701800"/>
              <a:ext cx="7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4"/>
            <p:cNvSpPr/>
            <p:nvPr/>
          </p:nvSpPr>
          <p:spPr>
            <a:xfrm>
              <a:off x="7277040" y="2712960"/>
              <a:ext cx="530280" cy="461880"/>
            </a:xfrm>
            <a:custGeom>
              <a:avLst/>
              <a:gdLst/>
              <a:ahLst/>
              <a:rect l="l" t="t" r="r" b="b"/>
              <a:pathLst>
                <a:path w="288" h="257">
                  <a:moveTo>
                    <a:pt x="239" y="29"/>
                  </a:moveTo>
                  <a:cubicBezTo>
                    <a:pt x="247" y="26"/>
                    <a:pt x="256" y="17"/>
                    <a:pt x="264" y="21"/>
                  </a:cubicBezTo>
                  <a:cubicBezTo>
                    <a:pt x="288" y="33"/>
                    <a:pt x="258" y="81"/>
                    <a:pt x="255" y="94"/>
                  </a:cubicBezTo>
                  <a:cubicBezTo>
                    <a:pt x="251" y="107"/>
                    <a:pt x="257" y="125"/>
                    <a:pt x="247" y="135"/>
                  </a:cubicBezTo>
                  <a:cubicBezTo>
                    <a:pt x="235" y="147"/>
                    <a:pt x="199" y="151"/>
                    <a:pt x="199" y="151"/>
                  </a:cubicBezTo>
                  <a:cubicBezTo>
                    <a:pt x="158" y="189"/>
                    <a:pt x="114" y="199"/>
                    <a:pt x="61" y="208"/>
                  </a:cubicBezTo>
                  <a:cubicBezTo>
                    <a:pt x="31" y="236"/>
                    <a:pt x="32" y="257"/>
                    <a:pt x="4" y="216"/>
                  </a:cubicBezTo>
                  <a:cubicBezTo>
                    <a:pt x="19" y="170"/>
                    <a:pt x="0" y="200"/>
                    <a:pt x="36" y="200"/>
                  </a:cubicBezTo>
                  <a:cubicBezTo>
                    <a:pt x="45" y="200"/>
                    <a:pt x="53" y="194"/>
                    <a:pt x="61" y="191"/>
                  </a:cubicBezTo>
                  <a:cubicBezTo>
                    <a:pt x="64" y="180"/>
                    <a:pt x="60" y="166"/>
                    <a:pt x="69" y="159"/>
                  </a:cubicBezTo>
                  <a:cubicBezTo>
                    <a:pt x="76" y="154"/>
                    <a:pt x="85" y="171"/>
                    <a:pt x="93" y="167"/>
                  </a:cubicBezTo>
                  <a:cubicBezTo>
                    <a:pt x="101" y="163"/>
                    <a:pt x="95" y="149"/>
                    <a:pt x="101" y="143"/>
                  </a:cubicBezTo>
                  <a:cubicBezTo>
                    <a:pt x="107" y="137"/>
                    <a:pt x="118" y="138"/>
                    <a:pt x="126" y="135"/>
                  </a:cubicBezTo>
                  <a:cubicBezTo>
                    <a:pt x="129" y="127"/>
                    <a:pt x="127" y="115"/>
                    <a:pt x="134" y="110"/>
                  </a:cubicBezTo>
                  <a:cubicBezTo>
                    <a:pt x="148" y="100"/>
                    <a:pt x="182" y="94"/>
                    <a:pt x="182" y="94"/>
                  </a:cubicBezTo>
                  <a:cubicBezTo>
                    <a:pt x="188" y="89"/>
                    <a:pt x="195" y="85"/>
                    <a:pt x="199" y="78"/>
                  </a:cubicBezTo>
                  <a:cubicBezTo>
                    <a:pt x="204" y="71"/>
                    <a:pt x="201" y="59"/>
                    <a:pt x="207" y="53"/>
                  </a:cubicBezTo>
                  <a:cubicBezTo>
                    <a:pt x="258" y="0"/>
                    <a:pt x="212" y="83"/>
                    <a:pt x="239" y="29"/>
                  </a:cubicBezTo>
                  <a:close/>
                </a:path>
              </a:pathLst>
            </a:custGeom>
            <a:solidFill>
              <a:srgbClr val="cc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"/>
            <p:cNvSpPr/>
            <p:nvPr/>
          </p:nvSpPr>
          <p:spPr>
            <a:xfrm>
              <a:off x="1092240" y="2585880"/>
              <a:ext cx="474480" cy="333360"/>
            </a:xfrm>
            <a:custGeom>
              <a:avLst/>
              <a:gdLst/>
              <a:ahLst/>
              <a:rect l="l" t="t" r="r" b="b"/>
              <a:pathLst>
                <a:path w="258" h="181">
                  <a:moveTo>
                    <a:pt x="157" y="0"/>
                  </a:moveTo>
                  <a:cubicBezTo>
                    <a:pt x="160" y="8"/>
                    <a:pt x="169" y="16"/>
                    <a:pt x="165" y="23"/>
                  </a:cubicBezTo>
                  <a:cubicBezTo>
                    <a:pt x="161" y="30"/>
                    <a:pt x="150" y="29"/>
                    <a:pt x="142" y="30"/>
                  </a:cubicBezTo>
                  <a:cubicBezTo>
                    <a:pt x="123" y="33"/>
                    <a:pt x="42" y="43"/>
                    <a:pt x="23" y="45"/>
                  </a:cubicBezTo>
                  <a:cubicBezTo>
                    <a:pt x="20" y="55"/>
                    <a:pt x="19" y="66"/>
                    <a:pt x="15" y="75"/>
                  </a:cubicBezTo>
                  <a:cubicBezTo>
                    <a:pt x="11" y="83"/>
                    <a:pt x="0" y="89"/>
                    <a:pt x="0" y="98"/>
                  </a:cubicBezTo>
                  <a:cubicBezTo>
                    <a:pt x="0" y="108"/>
                    <a:pt x="35" y="140"/>
                    <a:pt x="38" y="143"/>
                  </a:cubicBezTo>
                  <a:cubicBezTo>
                    <a:pt x="30" y="145"/>
                    <a:pt x="15" y="142"/>
                    <a:pt x="15" y="150"/>
                  </a:cubicBezTo>
                  <a:cubicBezTo>
                    <a:pt x="15" y="159"/>
                    <a:pt x="29" y="164"/>
                    <a:pt x="38" y="165"/>
                  </a:cubicBezTo>
                  <a:cubicBezTo>
                    <a:pt x="48" y="166"/>
                    <a:pt x="58" y="160"/>
                    <a:pt x="68" y="157"/>
                  </a:cubicBezTo>
                  <a:cubicBezTo>
                    <a:pt x="103" y="181"/>
                    <a:pt x="81" y="175"/>
                    <a:pt x="135" y="157"/>
                  </a:cubicBezTo>
                  <a:cubicBezTo>
                    <a:pt x="142" y="155"/>
                    <a:pt x="157" y="150"/>
                    <a:pt x="157" y="150"/>
                  </a:cubicBezTo>
                  <a:cubicBezTo>
                    <a:pt x="165" y="152"/>
                    <a:pt x="172" y="159"/>
                    <a:pt x="180" y="157"/>
                  </a:cubicBezTo>
                  <a:cubicBezTo>
                    <a:pt x="197" y="152"/>
                    <a:pt x="225" y="128"/>
                    <a:pt x="225" y="128"/>
                  </a:cubicBezTo>
                  <a:cubicBezTo>
                    <a:pt x="236" y="92"/>
                    <a:pt x="258" y="68"/>
                    <a:pt x="210" y="53"/>
                  </a:cubicBezTo>
                  <a:cubicBezTo>
                    <a:pt x="198" y="34"/>
                    <a:pt x="197" y="23"/>
                    <a:pt x="172" y="23"/>
                  </a:cubicBezTo>
                  <a:cubicBezTo>
                    <a:pt x="164" y="23"/>
                    <a:pt x="154" y="36"/>
                    <a:pt x="150" y="30"/>
                  </a:cubicBezTo>
                  <a:cubicBezTo>
                    <a:pt x="144" y="21"/>
                    <a:pt x="155" y="10"/>
                    <a:pt x="157" y="0"/>
                  </a:cubicBez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6"/>
            <p:cNvSpPr/>
            <p:nvPr/>
          </p:nvSpPr>
          <p:spPr>
            <a:xfrm>
              <a:off x="6318360" y="4429080"/>
              <a:ext cx="109440" cy="13356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15" y="0"/>
                  </a:moveTo>
                  <a:cubicBezTo>
                    <a:pt x="27" y="39"/>
                    <a:pt x="35" y="16"/>
                    <a:pt x="60" y="52"/>
                  </a:cubicBezTo>
                  <a:cubicBezTo>
                    <a:pt x="28" y="73"/>
                    <a:pt x="21" y="68"/>
                    <a:pt x="0" y="37"/>
                  </a:cubicBezTo>
                  <a:cubicBezTo>
                    <a:pt x="28" y="18"/>
                    <a:pt x="25" y="30"/>
                    <a:pt x="15" y="0"/>
                  </a:cubicBez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27"/>
            <p:cNvSpPr/>
            <p:nvPr/>
          </p:nvSpPr>
          <p:spPr>
            <a:xfrm>
              <a:off x="557280" y="2322360"/>
              <a:ext cx="1411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doba Cali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28"/>
            <p:cNvSpPr/>
            <p:nvPr/>
          </p:nvSpPr>
          <p:spPr>
            <a:xfrm>
              <a:off x="7394400" y="284940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ian J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29"/>
          <p:cNvSpPr/>
          <p:nvPr/>
        </p:nvSpPr>
        <p:spPr>
          <a:xfrm>
            <a:off x="457200" y="4863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States and Empires in 800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2AC4-1CC3-423C-9347-B46DEC9E88BA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1"/>
          <a:srcRect l="0" t="0" r="1101" b="5666"/>
          <a:stretch/>
        </p:blipFill>
        <p:spPr>
          <a:xfrm>
            <a:off x="463680" y="447840"/>
            <a:ext cx="8223120" cy="5267160"/>
          </a:xfrm>
          <a:prstGeom prst="rect">
            <a:avLst/>
          </a:prstGeom>
          <a:ln w="0">
            <a:noFill/>
          </a:ln>
        </p:spPr>
      </p:pic>
      <p:sp>
        <p:nvSpPr>
          <p:cNvPr id="833" name="Freeform 4"/>
          <p:cNvSpPr/>
          <p:nvPr/>
        </p:nvSpPr>
        <p:spPr>
          <a:xfrm>
            <a:off x="709560" y="3156120"/>
            <a:ext cx="866880" cy="434880"/>
          </a:xfrm>
          <a:custGeom>
            <a:avLst/>
            <a:gdLst/>
            <a:ahLst/>
            <a:rect l="l" t="t" r="r" b="b"/>
            <a:pathLst>
              <a:path w="557" h="283">
                <a:moveTo>
                  <a:pt x="42" y="44"/>
                </a:moveTo>
                <a:cubicBezTo>
                  <a:pt x="176" y="0"/>
                  <a:pt x="324" y="36"/>
                  <a:pt x="462" y="44"/>
                </a:cubicBezTo>
                <a:cubicBezTo>
                  <a:pt x="501" y="57"/>
                  <a:pt x="499" y="71"/>
                  <a:pt x="526" y="99"/>
                </a:cubicBezTo>
                <a:cubicBezTo>
                  <a:pt x="557" y="182"/>
                  <a:pt x="472" y="177"/>
                  <a:pt x="417" y="190"/>
                </a:cubicBezTo>
                <a:cubicBezTo>
                  <a:pt x="369" y="202"/>
                  <a:pt x="317" y="221"/>
                  <a:pt x="270" y="236"/>
                </a:cubicBezTo>
                <a:cubicBezTo>
                  <a:pt x="261" y="242"/>
                  <a:pt x="253" y="250"/>
                  <a:pt x="243" y="254"/>
                </a:cubicBezTo>
                <a:cubicBezTo>
                  <a:pt x="225" y="262"/>
                  <a:pt x="188" y="272"/>
                  <a:pt x="188" y="272"/>
                </a:cubicBezTo>
                <a:cubicBezTo>
                  <a:pt x="136" y="255"/>
                  <a:pt x="158" y="258"/>
                  <a:pt x="69" y="272"/>
                </a:cubicBezTo>
                <a:cubicBezTo>
                  <a:pt x="0" y="283"/>
                  <a:pt x="45" y="282"/>
                  <a:pt x="51" y="282"/>
                </a:cubicBezTo>
                <a:cubicBezTo>
                  <a:pt x="32" y="256"/>
                  <a:pt x="15" y="249"/>
                  <a:pt x="5" y="218"/>
                </a:cubicBezTo>
                <a:cubicBezTo>
                  <a:pt x="8" y="209"/>
                  <a:pt x="11" y="199"/>
                  <a:pt x="14" y="190"/>
                </a:cubicBezTo>
                <a:cubicBezTo>
                  <a:pt x="18" y="178"/>
                  <a:pt x="20" y="166"/>
                  <a:pt x="24" y="154"/>
                </a:cubicBezTo>
                <a:cubicBezTo>
                  <a:pt x="30" y="136"/>
                  <a:pt x="42" y="99"/>
                  <a:pt x="42" y="99"/>
                </a:cubicBezTo>
                <a:cubicBezTo>
                  <a:pt x="39" y="90"/>
                  <a:pt x="33" y="81"/>
                  <a:pt x="33" y="71"/>
                </a:cubicBezTo>
                <a:cubicBezTo>
                  <a:pt x="33" y="62"/>
                  <a:pt x="42" y="44"/>
                  <a:pt x="42" y="44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5"/>
          <p:cNvSpPr/>
          <p:nvPr/>
        </p:nvSpPr>
        <p:spPr>
          <a:xfrm>
            <a:off x="1608120" y="3645000"/>
            <a:ext cx="144360" cy="190440"/>
          </a:xfrm>
          <a:custGeom>
            <a:avLst/>
            <a:gdLst/>
            <a:ahLst/>
            <a:rect l="l" t="t" r="r" b="b"/>
            <a:pathLst>
              <a:path w="92" h="121">
                <a:moveTo>
                  <a:pt x="50" y="119"/>
                </a:moveTo>
                <a:cubicBezTo>
                  <a:pt x="85" y="66"/>
                  <a:pt x="92" y="23"/>
                  <a:pt x="23" y="0"/>
                </a:cubicBezTo>
                <a:cubicBezTo>
                  <a:pt x="20" y="27"/>
                  <a:pt x="18" y="55"/>
                  <a:pt x="13" y="82"/>
                </a:cubicBezTo>
                <a:cubicBezTo>
                  <a:pt x="11" y="92"/>
                  <a:pt x="0" y="101"/>
                  <a:pt x="4" y="110"/>
                </a:cubicBezTo>
                <a:cubicBezTo>
                  <a:pt x="10" y="121"/>
                  <a:pt x="39" y="119"/>
                  <a:pt x="50" y="11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6"/>
          <p:cNvSpPr/>
          <p:nvPr/>
        </p:nvSpPr>
        <p:spPr>
          <a:xfrm>
            <a:off x="1457280" y="3562200"/>
            <a:ext cx="217440" cy="263520"/>
          </a:xfrm>
          <a:custGeom>
            <a:avLst/>
            <a:gdLst/>
            <a:ahLst/>
            <a:rect l="l" t="t" r="r" b="b"/>
            <a:pathLst>
              <a:path w="139" h="171">
                <a:moveTo>
                  <a:pt x="110" y="137"/>
                </a:moveTo>
                <a:cubicBezTo>
                  <a:pt x="100" y="33"/>
                  <a:pt x="116" y="28"/>
                  <a:pt x="28" y="0"/>
                </a:cubicBezTo>
                <a:cubicBezTo>
                  <a:pt x="0" y="30"/>
                  <a:pt x="4" y="105"/>
                  <a:pt x="28" y="128"/>
                </a:cubicBezTo>
                <a:cubicBezTo>
                  <a:pt x="35" y="135"/>
                  <a:pt x="47" y="134"/>
                  <a:pt x="56" y="137"/>
                </a:cubicBezTo>
                <a:cubicBezTo>
                  <a:pt x="62" y="146"/>
                  <a:pt x="63" y="163"/>
                  <a:pt x="74" y="165"/>
                </a:cubicBezTo>
                <a:cubicBezTo>
                  <a:pt x="100" y="171"/>
                  <a:pt x="106" y="131"/>
                  <a:pt x="110" y="119"/>
                </a:cubicBezTo>
                <a:cubicBezTo>
                  <a:pt x="101" y="52"/>
                  <a:pt x="123" y="55"/>
                  <a:pt x="92" y="55"/>
                </a:cubicBezTo>
                <a:cubicBezTo>
                  <a:pt x="105" y="52"/>
                  <a:pt x="122" y="37"/>
                  <a:pt x="131" y="46"/>
                </a:cubicBezTo>
                <a:cubicBezTo>
                  <a:pt x="139" y="54"/>
                  <a:pt x="112" y="67"/>
                  <a:pt x="101" y="64"/>
                </a:cubicBezTo>
                <a:cubicBezTo>
                  <a:pt x="92" y="62"/>
                  <a:pt x="97" y="45"/>
                  <a:pt x="92" y="37"/>
                </a:cubicBezTo>
                <a:cubicBezTo>
                  <a:pt x="90" y="35"/>
                  <a:pt x="86" y="37"/>
                  <a:pt x="83" y="37"/>
                </a:cubicBezTo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"/>
          <p:cNvSpPr/>
          <p:nvPr/>
        </p:nvSpPr>
        <p:spPr>
          <a:xfrm>
            <a:off x="2454120" y="4681440"/>
            <a:ext cx="169920" cy="177840"/>
          </a:xfrm>
          <a:custGeom>
            <a:avLst/>
            <a:gdLst/>
            <a:ahLst/>
            <a:rect l="l" t="t" r="r" b="b"/>
            <a:pathLst>
              <a:path w="109" h="115">
                <a:moveTo>
                  <a:pt x="66" y="42"/>
                </a:moveTo>
                <a:cubicBezTo>
                  <a:pt x="32" y="10"/>
                  <a:pt x="30" y="0"/>
                  <a:pt x="2" y="42"/>
                </a:cubicBezTo>
                <a:cubicBezTo>
                  <a:pt x="5" y="59"/>
                  <a:pt x="0" y="115"/>
                  <a:pt x="38" y="115"/>
                </a:cubicBezTo>
                <a:cubicBezTo>
                  <a:pt x="57" y="115"/>
                  <a:pt x="93" y="97"/>
                  <a:pt x="93" y="97"/>
                </a:cubicBezTo>
                <a:cubicBezTo>
                  <a:pt x="107" y="56"/>
                  <a:pt x="109" y="47"/>
                  <a:pt x="66" y="33"/>
                </a:cubicBezTo>
                <a:cubicBezTo>
                  <a:pt x="39" y="7"/>
                  <a:pt x="42" y="8"/>
                  <a:pt x="66" y="42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"/>
          <p:cNvSpPr/>
          <p:nvPr/>
        </p:nvSpPr>
        <p:spPr>
          <a:xfrm>
            <a:off x="2739960" y="3332160"/>
            <a:ext cx="372960" cy="398520"/>
          </a:xfrm>
          <a:custGeom>
            <a:avLst/>
            <a:gdLst/>
            <a:ahLst/>
            <a:rect l="l" t="t" r="r" b="b"/>
            <a:pathLst>
              <a:path w="239" h="259">
                <a:moveTo>
                  <a:pt x="111" y="12"/>
                </a:moveTo>
                <a:cubicBezTo>
                  <a:pt x="89" y="81"/>
                  <a:pt x="121" y="0"/>
                  <a:pt x="75" y="58"/>
                </a:cubicBezTo>
                <a:cubicBezTo>
                  <a:pt x="69" y="65"/>
                  <a:pt x="71" y="77"/>
                  <a:pt x="66" y="85"/>
                </a:cubicBezTo>
                <a:cubicBezTo>
                  <a:pt x="61" y="93"/>
                  <a:pt x="53" y="98"/>
                  <a:pt x="47" y="104"/>
                </a:cubicBezTo>
                <a:cubicBezTo>
                  <a:pt x="28" y="161"/>
                  <a:pt x="0" y="216"/>
                  <a:pt x="66" y="259"/>
                </a:cubicBezTo>
                <a:cubicBezTo>
                  <a:pt x="106" y="249"/>
                  <a:pt x="145" y="236"/>
                  <a:pt x="184" y="222"/>
                </a:cubicBezTo>
                <a:cubicBezTo>
                  <a:pt x="212" y="195"/>
                  <a:pt x="226" y="197"/>
                  <a:pt x="239" y="158"/>
                </a:cubicBezTo>
                <a:cubicBezTo>
                  <a:pt x="222" y="106"/>
                  <a:pt x="212" y="76"/>
                  <a:pt x="157" y="58"/>
                </a:cubicBezTo>
                <a:cubicBezTo>
                  <a:pt x="133" y="21"/>
                  <a:pt x="148" y="36"/>
                  <a:pt x="111" y="12"/>
                </a:cubicBez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"/>
          <p:cNvSpPr/>
          <p:nvPr/>
        </p:nvSpPr>
        <p:spPr>
          <a:xfrm>
            <a:off x="1550880" y="911160"/>
            <a:ext cx="992160" cy="760320"/>
          </a:xfrm>
          <a:custGeom>
            <a:avLst/>
            <a:gdLst/>
            <a:ahLst/>
            <a:rect l="l" t="t" r="r" b="b"/>
            <a:pathLst>
              <a:path w="636" h="493">
                <a:moveTo>
                  <a:pt x="617" y="301"/>
                </a:moveTo>
                <a:cubicBezTo>
                  <a:pt x="602" y="255"/>
                  <a:pt x="587" y="210"/>
                  <a:pt x="572" y="164"/>
                </a:cubicBezTo>
                <a:cubicBezTo>
                  <a:pt x="569" y="155"/>
                  <a:pt x="553" y="158"/>
                  <a:pt x="544" y="155"/>
                </a:cubicBezTo>
                <a:cubicBezTo>
                  <a:pt x="523" y="91"/>
                  <a:pt x="544" y="106"/>
                  <a:pt x="498" y="91"/>
                </a:cubicBezTo>
                <a:cubicBezTo>
                  <a:pt x="489" y="94"/>
                  <a:pt x="478" y="93"/>
                  <a:pt x="471" y="100"/>
                </a:cubicBezTo>
                <a:cubicBezTo>
                  <a:pt x="464" y="107"/>
                  <a:pt x="470" y="122"/>
                  <a:pt x="462" y="127"/>
                </a:cubicBezTo>
                <a:cubicBezTo>
                  <a:pt x="449" y="136"/>
                  <a:pt x="431" y="134"/>
                  <a:pt x="416" y="137"/>
                </a:cubicBezTo>
                <a:cubicBezTo>
                  <a:pt x="383" y="102"/>
                  <a:pt x="364" y="61"/>
                  <a:pt x="316" y="45"/>
                </a:cubicBezTo>
                <a:cubicBezTo>
                  <a:pt x="268" y="0"/>
                  <a:pt x="271" y="53"/>
                  <a:pt x="242" y="82"/>
                </a:cubicBezTo>
                <a:cubicBezTo>
                  <a:pt x="239" y="91"/>
                  <a:pt x="240" y="102"/>
                  <a:pt x="233" y="109"/>
                </a:cubicBezTo>
                <a:cubicBezTo>
                  <a:pt x="226" y="116"/>
                  <a:pt x="211" y="110"/>
                  <a:pt x="206" y="118"/>
                </a:cubicBezTo>
                <a:cubicBezTo>
                  <a:pt x="195" y="134"/>
                  <a:pt x="206" y="167"/>
                  <a:pt x="188" y="173"/>
                </a:cubicBezTo>
                <a:cubicBezTo>
                  <a:pt x="170" y="179"/>
                  <a:pt x="133" y="191"/>
                  <a:pt x="133" y="191"/>
                </a:cubicBezTo>
                <a:cubicBezTo>
                  <a:pt x="110" y="214"/>
                  <a:pt x="91" y="227"/>
                  <a:pt x="60" y="237"/>
                </a:cubicBezTo>
                <a:cubicBezTo>
                  <a:pt x="0" y="294"/>
                  <a:pt x="60" y="375"/>
                  <a:pt x="96" y="429"/>
                </a:cubicBezTo>
                <a:cubicBezTo>
                  <a:pt x="126" y="410"/>
                  <a:pt x="144" y="385"/>
                  <a:pt x="178" y="374"/>
                </a:cubicBezTo>
                <a:cubicBezTo>
                  <a:pt x="187" y="377"/>
                  <a:pt x="200" y="375"/>
                  <a:pt x="206" y="383"/>
                </a:cubicBezTo>
                <a:cubicBezTo>
                  <a:pt x="217" y="399"/>
                  <a:pt x="220" y="419"/>
                  <a:pt x="224" y="438"/>
                </a:cubicBezTo>
                <a:cubicBezTo>
                  <a:pt x="227" y="453"/>
                  <a:pt x="224" y="471"/>
                  <a:pt x="233" y="484"/>
                </a:cubicBezTo>
                <a:cubicBezTo>
                  <a:pt x="238" y="492"/>
                  <a:pt x="252" y="490"/>
                  <a:pt x="261" y="493"/>
                </a:cubicBezTo>
                <a:cubicBezTo>
                  <a:pt x="270" y="487"/>
                  <a:pt x="284" y="485"/>
                  <a:pt x="288" y="475"/>
                </a:cubicBezTo>
                <a:cubicBezTo>
                  <a:pt x="292" y="466"/>
                  <a:pt x="275" y="456"/>
                  <a:pt x="279" y="447"/>
                </a:cubicBezTo>
                <a:cubicBezTo>
                  <a:pt x="286" y="429"/>
                  <a:pt x="311" y="424"/>
                  <a:pt x="325" y="411"/>
                </a:cubicBezTo>
                <a:cubicBezTo>
                  <a:pt x="339" y="368"/>
                  <a:pt x="352" y="380"/>
                  <a:pt x="389" y="356"/>
                </a:cubicBezTo>
                <a:cubicBezTo>
                  <a:pt x="395" y="347"/>
                  <a:pt x="410" y="340"/>
                  <a:pt x="407" y="329"/>
                </a:cubicBezTo>
                <a:cubicBezTo>
                  <a:pt x="405" y="320"/>
                  <a:pt x="388" y="324"/>
                  <a:pt x="380" y="319"/>
                </a:cubicBezTo>
                <a:cubicBezTo>
                  <a:pt x="322" y="284"/>
                  <a:pt x="404" y="315"/>
                  <a:pt x="334" y="292"/>
                </a:cubicBezTo>
                <a:cubicBezTo>
                  <a:pt x="349" y="277"/>
                  <a:pt x="368" y="264"/>
                  <a:pt x="380" y="246"/>
                </a:cubicBezTo>
                <a:cubicBezTo>
                  <a:pt x="386" y="237"/>
                  <a:pt x="390" y="226"/>
                  <a:pt x="398" y="219"/>
                </a:cubicBezTo>
                <a:cubicBezTo>
                  <a:pt x="405" y="213"/>
                  <a:pt x="416" y="213"/>
                  <a:pt x="425" y="210"/>
                </a:cubicBezTo>
                <a:cubicBezTo>
                  <a:pt x="428" y="201"/>
                  <a:pt x="449" y="130"/>
                  <a:pt x="453" y="127"/>
                </a:cubicBezTo>
                <a:cubicBezTo>
                  <a:pt x="470" y="113"/>
                  <a:pt x="496" y="116"/>
                  <a:pt x="517" y="109"/>
                </a:cubicBezTo>
                <a:cubicBezTo>
                  <a:pt x="517" y="109"/>
                  <a:pt x="551" y="157"/>
                  <a:pt x="544" y="164"/>
                </a:cubicBezTo>
                <a:cubicBezTo>
                  <a:pt x="530" y="177"/>
                  <a:pt x="489" y="182"/>
                  <a:pt x="489" y="182"/>
                </a:cubicBezTo>
                <a:cubicBezTo>
                  <a:pt x="441" y="233"/>
                  <a:pt x="454" y="234"/>
                  <a:pt x="462" y="319"/>
                </a:cubicBezTo>
                <a:cubicBezTo>
                  <a:pt x="526" y="311"/>
                  <a:pt x="557" y="312"/>
                  <a:pt x="617" y="329"/>
                </a:cubicBezTo>
                <a:cubicBezTo>
                  <a:pt x="627" y="298"/>
                  <a:pt x="636" y="301"/>
                  <a:pt x="617" y="301"/>
                </a:cubicBezTo>
                <a:close/>
              </a:path>
            </a:pathLst>
          </a:cu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0"/>
          <p:cNvSpPr/>
          <p:nvPr/>
        </p:nvSpPr>
        <p:spPr>
          <a:xfrm>
            <a:off x="2178000" y="2494080"/>
            <a:ext cx="1013040" cy="871560"/>
          </a:xfrm>
          <a:custGeom>
            <a:avLst/>
            <a:gdLst/>
            <a:ahLst/>
            <a:rect l="l" t="t" r="r" b="b"/>
            <a:pathLst>
              <a:path w="649" h="564">
                <a:moveTo>
                  <a:pt x="317" y="199"/>
                </a:moveTo>
                <a:cubicBezTo>
                  <a:pt x="282" y="162"/>
                  <a:pt x="317" y="189"/>
                  <a:pt x="244" y="189"/>
                </a:cubicBezTo>
                <a:cubicBezTo>
                  <a:pt x="216" y="189"/>
                  <a:pt x="189" y="176"/>
                  <a:pt x="161" y="171"/>
                </a:cubicBezTo>
                <a:cubicBezTo>
                  <a:pt x="143" y="165"/>
                  <a:pt x="125" y="159"/>
                  <a:pt x="107" y="153"/>
                </a:cubicBezTo>
                <a:cubicBezTo>
                  <a:pt x="98" y="150"/>
                  <a:pt x="79" y="144"/>
                  <a:pt x="79" y="144"/>
                </a:cubicBezTo>
                <a:cubicBezTo>
                  <a:pt x="61" y="147"/>
                  <a:pt x="38" y="141"/>
                  <a:pt x="24" y="153"/>
                </a:cubicBezTo>
                <a:cubicBezTo>
                  <a:pt x="9" y="166"/>
                  <a:pt x="6" y="208"/>
                  <a:pt x="6" y="208"/>
                </a:cubicBezTo>
                <a:cubicBezTo>
                  <a:pt x="28" y="274"/>
                  <a:pt x="0" y="217"/>
                  <a:pt x="125" y="244"/>
                </a:cubicBezTo>
                <a:cubicBezTo>
                  <a:pt x="134" y="246"/>
                  <a:pt x="135" y="259"/>
                  <a:pt x="143" y="263"/>
                </a:cubicBezTo>
                <a:cubicBezTo>
                  <a:pt x="282" y="333"/>
                  <a:pt x="141" y="243"/>
                  <a:pt x="225" y="299"/>
                </a:cubicBezTo>
                <a:cubicBezTo>
                  <a:pt x="228" y="308"/>
                  <a:pt x="231" y="318"/>
                  <a:pt x="235" y="327"/>
                </a:cubicBezTo>
                <a:cubicBezTo>
                  <a:pt x="240" y="337"/>
                  <a:pt x="249" y="344"/>
                  <a:pt x="253" y="354"/>
                </a:cubicBezTo>
                <a:cubicBezTo>
                  <a:pt x="261" y="372"/>
                  <a:pt x="271" y="409"/>
                  <a:pt x="271" y="409"/>
                </a:cubicBezTo>
                <a:cubicBezTo>
                  <a:pt x="268" y="421"/>
                  <a:pt x="257" y="433"/>
                  <a:pt x="262" y="445"/>
                </a:cubicBezTo>
                <a:cubicBezTo>
                  <a:pt x="265" y="454"/>
                  <a:pt x="279" y="455"/>
                  <a:pt x="289" y="455"/>
                </a:cubicBezTo>
                <a:cubicBezTo>
                  <a:pt x="314" y="455"/>
                  <a:pt x="338" y="448"/>
                  <a:pt x="363" y="445"/>
                </a:cubicBezTo>
                <a:cubicBezTo>
                  <a:pt x="375" y="441"/>
                  <a:pt x="414" y="434"/>
                  <a:pt x="408" y="409"/>
                </a:cubicBezTo>
                <a:cubicBezTo>
                  <a:pt x="403" y="388"/>
                  <a:pt x="384" y="372"/>
                  <a:pt x="372" y="354"/>
                </a:cubicBezTo>
                <a:cubicBezTo>
                  <a:pt x="355" y="328"/>
                  <a:pt x="345" y="275"/>
                  <a:pt x="335" y="244"/>
                </a:cubicBezTo>
                <a:cubicBezTo>
                  <a:pt x="332" y="236"/>
                  <a:pt x="347" y="257"/>
                  <a:pt x="353" y="263"/>
                </a:cubicBezTo>
                <a:cubicBezTo>
                  <a:pt x="356" y="272"/>
                  <a:pt x="353" y="290"/>
                  <a:pt x="363" y="290"/>
                </a:cubicBezTo>
                <a:cubicBezTo>
                  <a:pt x="374" y="290"/>
                  <a:pt x="372" y="257"/>
                  <a:pt x="381" y="263"/>
                </a:cubicBezTo>
                <a:cubicBezTo>
                  <a:pt x="396" y="274"/>
                  <a:pt x="393" y="299"/>
                  <a:pt x="399" y="317"/>
                </a:cubicBezTo>
                <a:cubicBezTo>
                  <a:pt x="406" y="339"/>
                  <a:pt x="463" y="372"/>
                  <a:pt x="481" y="391"/>
                </a:cubicBezTo>
                <a:cubicBezTo>
                  <a:pt x="494" y="439"/>
                  <a:pt x="495" y="473"/>
                  <a:pt x="536" y="500"/>
                </a:cubicBezTo>
                <a:cubicBezTo>
                  <a:pt x="548" y="536"/>
                  <a:pt x="560" y="543"/>
                  <a:pt x="591" y="564"/>
                </a:cubicBezTo>
                <a:cubicBezTo>
                  <a:pt x="620" y="520"/>
                  <a:pt x="649" y="520"/>
                  <a:pt x="600" y="473"/>
                </a:cubicBezTo>
                <a:cubicBezTo>
                  <a:pt x="579" y="408"/>
                  <a:pt x="608" y="485"/>
                  <a:pt x="564" y="418"/>
                </a:cubicBezTo>
                <a:cubicBezTo>
                  <a:pt x="517" y="347"/>
                  <a:pt x="595" y="431"/>
                  <a:pt x="536" y="372"/>
                </a:cubicBezTo>
                <a:cubicBezTo>
                  <a:pt x="520" y="324"/>
                  <a:pt x="497" y="289"/>
                  <a:pt x="463" y="253"/>
                </a:cubicBezTo>
                <a:cubicBezTo>
                  <a:pt x="474" y="198"/>
                  <a:pt x="506" y="157"/>
                  <a:pt x="545" y="116"/>
                </a:cubicBezTo>
                <a:cubicBezTo>
                  <a:pt x="542" y="104"/>
                  <a:pt x="545" y="88"/>
                  <a:pt x="536" y="80"/>
                </a:cubicBezTo>
                <a:cubicBezTo>
                  <a:pt x="521" y="67"/>
                  <a:pt x="481" y="61"/>
                  <a:pt x="481" y="61"/>
                </a:cubicBezTo>
                <a:cubicBezTo>
                  <a:pt x="459" y="28"/>
                  <a:pt x="453" y="0"/>
                  <a:pt x="417" y="34"/>
                </a:cubicBezTo>
                <a:cubicBezTo>
                  <a:pt x="408" y="61"/>
                  <a:pt x="396" y="88"/>
                  <a:pt x="390" y="116"/>
                </a:cubicBezTo>
                <a:cubicBezTo>
                  <a:pt x="387" y="131"/>
                  <a:pt x="389" y="148"/>
                  <a:pt x="381" y="162"/>
                </a:cubicBezTo>
                <a:cubicBezTo>
                  <a:pt x="368" y="185"/>
                  <a:pt x="334" y="180"/>
                  <a:pt x="317" y="199"/>
                </a:cubicBezTo>
                <a:close/>
              </a:path>
            </a:pathLst>
          </a:cu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11"/>
          <p:cNvSpPr/>
          <p:nvPr/>
        </p:nvSpPr>
        <p:spPr>
          <a:xfrm>
            <a:off x="995400" y="2427120"/>
            <a:ext cx="1238040" cy="487440"/>
          </a:xfrm>
          <a:custGeom>
            <a:avLst/>
            <a:gdLst/>
            <a:ahLst/>
            <a:rect l="l" t="t" r="r" b="b"/>
            <a:pathLst>
              <a:path w="794" h="317">
                <a:moveTo>
                  <a:pt x="242" y="31"/>
                </a:moveTo>
                <a:cubicBezTo>
                  <a:pt x="209" y="10"/>
                  <a:pt x="198" y="0"/>
                  <a:pt x="160" y="13"/>
                </a:cubicBezTo>
                <a:cubicBezTo>
                  <a:pt x="126" y="45"/>
                  <a:pt x="83" y="34"/>
                  <a:pt x="41" y="50"/>
                </a:cubicBezTo>
                <a:cubicBezTo>
                  <a:pt x="77" y="74"/>
                  <a:pt x="91" y="63"/>
                  <a:pt x="105" y="104"/>
                </a:cubicBezTo>
                <a:cubicBezTo>
                  <a:pt x="90" y="150"/>
                  <a:pt x="54" y="155"/>
                  <a:pt x="22" y="187"/>
                </a:cubicBezTo>
                <a:cubicBezTo>
                  <a:pt x="15" y="228"/>
                  <a:pt x="0" y="258"/>
                  <a:pt x="13" y="296"/>
                </a:cubicBezTo>
                <a:cubicBezTo>
                  <a:pt x="55" y="256"/>
                  <a:pt x="116" y="256"/>
                  <a:pt x="169" y="242"/>
                </a:cubicBezTo>
                <a:cubicBezTo>
                  <a:pt x="209" y="232"/>
                  <a:pt x="185" y="233"/>
                  <a:pt x="224" y="214"/>
                </a:cubicBezTo>
                <a:cubicBezTo>
                  <a:pt x="253" y="200"/>
                  <a:pt x="297" y="199"/>
                  <a:pt x="324" y="196"/>
                </a:cubicBezTo>
                <a:cubicBezTo>
                  <a:pt x="403" y="215"/>
                  <a:pt x="472" y="240"/>
                  <a:pt x="553" y="251"/>
                </a:cubicBezTo>
                <a:cubicBezTo>
                  <a:pt x="617" y="272"/>
                  <a:pt x="681" y="294"/>
                  <a:pt x="745" y="315"/>
                </a:cubicBezTo>
                <a:cubicBezTo>
                  <a:pt x="757" y="312"/>
                  <a:pt x="775" y="317"/>
                  <a:pt x="781" y="306"/>
                </a:cubicBezTo>
                <a:cubicBezTo>
                  <a:pt x="794" y="283"/>
                  <a:pt x="742" y="240"/>
                  <a:pt x="726" y="232"/>
                </a:cubicBezTo>
                <a:cubicBezTo>
                  <a:pt x="709" y="223"/>
                  <a:pt x="690" y="220"/>
                  <a:pt x="672" y="214"/>
                </a:cubicBezTo>
                <a:cubicBezTo>
                  <a:pt x="663" y="211"/>
                  <a:pt x="644" y="205"/>
                  <a:pt x="644" y="205"/>
                </a:cubicBezTo>
                <a:cubicBezTo>
                  <a:pt x="612" y="158"/>
                  <a:pt x="585" y="166"/>
                  <a:pt x="525" y="159"/>
                </a:cubicBezTo>
                <a:cubicBezTo>
                  <a:pt x="501" y="86"/>
                  <a:pt x="520" y="173"/>
                  <a:pt x="544" y="123"/>
                </a:cubicBezTo>
                <a:cubicBezTo>
                  <a:pt x="548" y="114"/>
                  <a:pt x="537" y="104"/>
                  <a:pt x="534" y="95"/>
                </a:cubicBezTo>
                <a:cubicBezTo>
                  <a:pt x="540" y="89"/>
                  <a:pt x="553" y="86"/>
                  <a:pt x="553" y="77"/>
                </a:cubicBezTo>
                <a:cubicBezTo>
                  <a:pt x="553" y="68"/>
                  <a:pt x="543" y="59"/>
                  <a:pt x="534" y="59"/>
                </a:cubicBezTo>
                <a:cubicBezTo>
                  <a:pt x="509" y="59"/>
                  <a:pt x="461" y="77"/>
                  <a:pt x="461" y="77"/>
                </a:cubicBezTo>
                <a:cubicBezTo>
                  <a:pt x="415" y="65"/>
                  <a:pt x="379" y="75"/>
                  <a:pt x="333" y="86"/>
                </a:cubicBezTo>
                <a:cubicBezTo>
                  <a:pt x="257" y="74"/>
                  <a:pt x="286" y="83"/>
                  <a:pt x="224" y="104"/>
                </a:cubicBezTo>
                <a:cubicBezTo>
                  <a:pt x="183" y="145"/>
                  <a:pt x="133" y="145"/>
                  <a:pt x="114" y="86"/>
                </a:cubicBezTo>
                <a:cubicBezTo>
                  <a:pt x="156" y="58"/>
                  <a:pt x="192" y="57"/>
                  <a:pt x="242" y="50"/>
                </a:cubicBezTo>
                <a:cubicBezTo>
                  <a:pt x="264" y="27"/>
                  <a:pt x="269" y="31"/>
                  <a:pt x="242" y="31"/>
                </a:cubicBezTo>
                <a:close/>
              </a:path>
            </a:pathLst>
          </a:cu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2"/>
          <p:cNvSpPr/>
          <p:nvPr/>
        </p:nvSpPr>
        <p:spPr>
          <a:xfrm>
            <a:off x="1023840" y="2308320"/>
            <a:ext cx="120600" cy="203040"/>
          </a:xfrm>
          <a:custGeom>
            <a:avLst/>
            <a:gdLst/>
            <a:ahLst/>
            <a:rect l="l" t="t" r="r" b="b"/>
            <a:pathLst>
              <a:path w="78" h="133">
                <a:moveTo>
                  <a:pt x="32" y="9"/>
                </a:moveTo>
                <a:cubicBezTo>
                  <a:pt x="41" y="12"/>
                  <a:pt x="53" y="10"/>
                  <a:pt x="59" y="18"/>
                </a:cubicBezTo>
                <a:cubicBezTo>
                  <a:pt x="70" y="34"/>
                  <a:pt x="78" y="73"/>
                  <a:pt x="78" y="73"/>
                </a:cubicBezTo>
                <a:cubicBezTo>
                  <a:pt x="63" y="126"/>
                  <a:pt x="69" y="133"/>
                  <a:pt x="14" y="118"/>
                </a:cubicBezTo>
                <a:cubicBezTo>
                  <a:pt x="0" y="79"/>
                  <a:pt x="17" y="43"/>
                  <a:pt x="23" y="0"/>
                </a:cubicBezTo>
                <a:cubicBezTo>
                  <a:pt x="56" y="11"/>
                  <a:pt x="59" y="9"/>
                  <a:pt x="32" y="9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3"/>
          <p:cNvSpPr/>
          <p:nvPr/>
        </p:nvSpPr>
        <p:spPr>
          <a:xfrm>
            <a:off x="1049400" y="2249640"/>
            <a:ext cx="268200" cy="239400"/>
          </a:xfrm>
          <a:custGeom>
            <a:avLst/>
            <a:gdLst/>
            <a:ahLst/>
            <a:rect l="l" t="t" r="r" b="b"/>
            <a:pathLst>
              <a:path w="171" h="154">
                <a:moveTo>
                  <a:pt x="0" y="16"/>
                </a:moveTo>
                <a:cubicBezTo>
                  <a:pt x="9" y="44"/>
                  <a:pt x="11" y="32"/>
                  <a:pt x="4" y="52"/>
                </a:cubicBezTo>
                <a:cubicBezTo>
                  <a:pt x="10" y="71"/>
                  <a:pt x="23" y="70"/>
                  <a:pt x="40" y="64"/>
                </a:cubicBezTo>
                <a:cubicBezTo>
                  <a:pt x="56" y="69"/>
                  <a:pt x="59" y="76"/>
                  <a:pt x="64" y="92"/>
                </a:cubicBezTo>
                <a:cubicBezTo>
                  <a:pt x="63" y="105"/>
                  <a:pt x="62" y="119"/>
                  <a:pt x="60" y="132"/>
                </a:cubicBezTo>
                <a:cubicBezTo>
                  <a:pt x="59" y="136"/>
                  <a:pt x="53" y="141"/>
                  <a:pt x="56" y="144"/>
                </a:cubicBezTo>
                <a:cubicBezTo>
                  <a:pt x="62" y="150"/>
                  <a:pt x="80" y="152"/>
                  <a:pt x="80" y="152"/>
                </a:cubicBezTo>
                <a:cubicBezTo>
                  <a:pt x="102" y="145"/>
                  <a:pt x="98" y="154"/>
                  <a:pt x="128" y="144"/>
                </a:cubicBezTo>
                <a:cubicBezTo>
                  <a:pt x="136" y="141"/>
                  <a:pt x="152" y="136"/>
                  <a:pt x="152" y="136"/>
                </a:cubicBezTo>
                <a:cubicBezTo>
                  <a:pt x="171" y="108"/>
                  <a:pt x="144" y="69"/>
                  <a:pt x="128" y="44"/>
                </a:cubicBezTo>
                <a:cubicBezTo>
                  <a:pt x="113" y="22"/>
                  <a:pt x="128" y="12"/>
                  <a:pt x="104" y="4"/>
                </a:cubicBezTo>
                <a:cubicBezTo>
                  <a:pt x="79" y="8"/>
                  <a:pt x="68" y="5"/>
                  <a:pt x="44" y="0"/>
                </a:cubicBezTo>
                <a:cubicBezTo>
                  <a:pt x="15" y="10"/>
                  <a:pt x="28" y="6"/>
                  <a:pt x="4" y="12"/>
                </a:cubicBezTo>
                <a:cubicBezTo>
                  <a:pt x="9" y="28"/>
                  <a:pt x="11" y="27"/>
                  <a:pt x="0" y="16"/>
                </a:cubicBezTo>
                <a:close/>
              </a:path>
            </a:pathLst>
          </a:custGeom>
          <a:solidFill>
            <a:srgbClr val="cc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4"/>
          <p:cNvSpPr/>
          <p:nvPr/>
        </p:nvSpPr>
        <p:spPr>
          <a:xfrm>
            <a:off x="1206360" y="1881360"/>
            <a:ext cx="393840" cy="404640"/>
          </a:xfrm>
          <a:custGeom>
            <a:avLst/>
            <a:gdLst/>
            <a:ahLst/>
            <a:rect l="l" t="t" r="r" b="b"/>
            <a:pathLst>
              <a:path w="252" h="263">
                <a:moveTo>
                  <a:pt x="192" y="11"/>
                </a:moveTo>
                <a:cubicBezTo>
                  <a:pt x="170" y="77"/>
                  <a:pt x="195" y="106"/>
                  <a:pt x="228" y="155"/>
                </a:cubicBezTo>
                <a:cubicBezTo>
                  <a:pt x="237" y="168"/>
                  <a:pt x="243" y="189"/>
                  <a:pt x="248" y="203"/>
                </a:cubicBezTo>
                <a:cubicBezTo>
                  <a:pt x="249" y="207"/>
                  <a:pt x="252" y="215"/>
                  <a:pt x="252" y="215"/>
                </a:cubicBezTo>
                <a:cubicBezTo>
                  <a:pt x="251" y="222"/>
                  <a:pt x="252" y="229"/>
                  <a:pt x="248" y="235"/>
                </a:cubicBezTo>
                <a:cubicBezTo>
                  <a:pt x="246" y="239"/>
                  <a:pt x="240" y="237"/>
                  <a:pt x="236" y="239"/>
                </a:cubicBezTo>
                <a:cubicBezTo>
                  <a:pt x="228" y="244"/>
                  <a:pt x="221" y="252"/>
                  <a:pt x="212" y="255"/>
                </a:cubicBezTo>
                <a:cubicBezTo>
                  <a:pt x="204" y="258"/>
                  <a:pt x="188" y="263"/>
                  <a:pt x="188" y="263"/>
                </a:cubicBezTo>
                <a:cubicBezTo>
                  <a:pt x="170" y="257"/>
                  <a:pt x="157" y="249"/>
                  <a:pt x="140" y="243"/>
                </a:cubicBezTo>
                <a:cubicBezTo>
                  <a:pt x="132" y="244"/>
                  <a:pt x="124" y="248"/>
                  <a:pt x="116" y="247"/>
                </a:cubicBezTo>
                <a:cubicBezTo>
                  <a:pt x="108" y="246"/>
                  <a:pt x="92" y="239"/>
                  <a:pt x="92" y="239"/>
                </a:cubicBezTo>
                <a:cubicBezTo>
                  <a:pt x="96" y="233"/>
                  <a:pt x="104" y="223"/>
                  <a:pt x="104" y="215"/>
                </a:cubicBezTo>
                <a:cubicBezTo>
                  <a:pt x="104" y="191"/>
                  <a:pt x="92" y="143"/>
                  <a:pt x="68" y="135"/>
                </a:cubicBezTo>
                <a:cubicBezTo>
                  <a:pt x="61" y="115"/>
                  <a:pt x="36" y="106"/>
                  <a:pt x="16" y="99"/>
                </a:cubicBezTo>
                <a:cubicBezTo>
                  <a:pt x="0" y="75"/>
                  <a:pt x="15" y="76"/>
                  <a:pt x="32" y="87"/>
                </a:cubicBezTo>
                <a:cubicBezTo>
                  <a:pt x="48" y="76"/>
                  <a:pt x="51" y="72"/>
                  <a:pt x="68" y="83"/>
                </a:cubicBezTo>
                <a:cubicBezTo>
                  <a:pt x="99" y="75"/>
                  <a:pt x="75" y="67"/>
                  <a:pt x="100" y="51"/>
                </a:cubicBezTo>
                <a:cubicBezTo>
                  <a:pt x="133" y="59"/>
                  <a:pt x="106" y="72"/>
                  <a:pt x="132" y="63"/>
                </a:cubicBezTo>
                <a:cubicBezTo>
                  <a:pt x="135" y="59"/>
                  <a:pt x="136" y="54"/>
                  <a:pt x="140" y="51"/>
                </a:cubicBezTo>
                <a:cubicBezTo>
                  <a:pt x="143" y="48"/>
                  <a:pt x="149" y="50"/>
                  <a:pt x="152" y="47"/>
                </a:cubicBezTo>
                <a:cubicBezTo>
                  <a:pt x="199" y="0"/>
                  <a:pt x="146" y="38"/>
                  <a:pt x="180" y="15"/>
                </a:cubicBezTo>
                <a:cubicBezTo>
                  <a:pt x="174" y="34"/>
                  <a:pt x="173" y="30"/>
                  <a:pt x="192" y="11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5"/>
          <p:cNvSpPr/>
          <p:nvPr/>
        </p:nvSpPr>
        <p:spPr>
          <a:xfrm>
            <a:off x="1487520" y="1565280"/>
            <a:ext cx="692280" cy="787320"/>
          </a:xfrm>
          <a:custGeom>
            <a:avLst/>
            <a:gdLst/>
            <a:ahLst/>
            <a:rect l="l" t="t" r="r" b="b"/>
            <a:pathLst>
              <a:path w="443" h="512">
                <a:moveTo>
                  <a:pt x="428" y="104"/>
                </a:moveTo>
                <a:cubicBezTo>
                  <a:pt x="442" y="113"/>
                  <a:pt x="443" y="123"/>
                  <a:pt x="428" y="136"/>
                </a:cubicBezTo>
                <a:cubicBezTo>
                  <a:pt x="405" y="156"/>
                  <a:pt x="380" y="160"/>
                  <a:pt x="356" y="176"/>
                </a:cubicBezTo>
                <a:cubicBezTo>
                  <a:pt x="350" y="194"/>
                  <a:pt x="353" y="198"/>
                  <a:pt x="368" y="208"/>
                </a:cubicBezTo>
                <a:cubicBezTo>
                  <a:pt x="375" y="219"/>
                  <a:pt x="384" y="244"/>
                  <a:pt x="384" y="244"/>
                </a:cubicBezTo>
                <a:cubicBezTo>
                  <a:pt x="380" y="256"/>
                  <a:pt x="376" y="282"/>
                  <a:pt x="364" y="292"/>
                </a:cubicBezTo>
                <a:cubicBezTo>
                  <a:pt x="357" y="298"/>
                  <a:pt x="340" y="308"/>
                  <a:pt x="340" y="308"/>
                </a:cubicBezTo>
                <a:cubicBezTo>
                  <a:pt x="339" y="312"/>
                  <a:pt x="339" y="317"/>
                  <a:pt x="336" y="320"/>
                </a:cubicBezTo>
                <a:cubicBezTo>
                  <a:pt x="333" y="324"/>
                  <a:pt x="327" y="324"/>
                  <a:pt x="324" y="328"/>
                </a:cubicBezTo>
                <a:cubicBezTo>
                  <a:pt x="320" y="335"/>
                  <a:pt x="319" y="344"/>
                  <a:pt x="316" y="352"/>
                </a:cubicBezTo>
                <a:cubicBezTo>
                  <a:pt x="315" y="356"/>
                  <a:pt x="312" y="364"/>
                  <a:pt x="312" y="364"/>
                </a:cubicBezTo>
                <a:cubicBezTo>
                  <a:pt x="318" y="382"/>
                  <a:pt x="316" y="389"/>
                  <a:pt x="300" y="400"/>
                </a:cubicBezTo>
                <a:cubicBezTo>
                  <a:pt x="285" y="377"/>
                  <a:pt x="297" y="374"/>
                  <a:pt x="264" y="380"/>
                </a:cubicBezTo>
                <a:cubicBezTo>
                  <a:pt x="256" y="392"/>
                  <a:pt x="243" y="415"/>
                  <a:pt x="256" y="428"/>
                </a:cubicBezTo>
                <a:cubicBezTo>
                  <a:pt x="259" y="431"/>
                  <a:pt x="264" y="430"/>
                  <a:pt x="268" y="432"/>
                </a:cubicBezTo>
                <a:cubicBezTo>
                  <a:pt x="276" y="437"/>
                  <a:pt x="292" y="448"/>
                  <a:pt x="292" y="448"/>
                </a:cubicBezTo>
                <a:cubicBezTo>
                  <a:pt x="296" y="461"/>
                  <a:pt x="312" y="484"/>
                  <a:pt x="312" y="484"/>
                </a:cubicBezTo>
                <a:cubicBezTo>
                  <a:pt x="307" y="500"/>
                  <a:pt x="289" y="506"/>
                  <a:pt x="272" y="512"/>
                </a:cubicBezTo>
                <a:cubicBezTo>
                  <a:pt x="253" y="499"/>
                  <a:pt x="246" y="481"/>
                  <a:pt x="224" y="476"/>
                </a:cubicBezTo>
                <a:cubicBezTo>
                  <a:pt x="220" y="463"/>
                  <a:pt x="212" y="453"/>
                  <a:pt x="208" y="440"/>
                </a:cubicBezTo>
                <a:cubicBezTo>
                  <a:pt x="217" y="404"/>
                  <a:pt x="194" y="425"/>
                  <a:pt x="168" y="416"/>
                </a:cubicBezTo>
                <a:cubicBezTo>
                  <a:pt x="153" y="438"/>
                  <a:pt x="125" y="452"/>
                  <a:pt x="100" y="460"/>
                </a:cubicBezTo>
                <a:cubicBezTo>
                  <a:pt x="97" y="459"/>
                  <a:pt x="73" y="455"/>
                  <a:pt x="72" y="448"/>
                </a:cubicBezTo>
                <a:cubicBezTo>
                  <a:pt x="71" y="440"/>
                  <a:pt x="80" y="424"/>
                  <a:pt x="80" y="424"/>
                </a:cubicBezTo>
                <a:cubicBezTo>
                  <a:pt x="74" y="405"/>
                  <a:pt x="70" y="392"/>
                  <a:pt x="60" y="376"/>
                </a:cubicBezTo>
                <a:cubicBezTo>
                  <a:pt x="58" y="366"/>
                  <a:pt x="51" y="343"/>
                  <a:pt x="44" y="336"/>
                </a:cubicBezTo>
                <a:cubicBezTo>
                  <a:pt x="37" y="329"/>
                  <a:pt x="20" y="320"/>
                  <a:pt x="20" y="320"/>
                </a:cubicBezTo>
                <a:cubicBezTo>
                  <a:pt x="12" y="307"/>
                  <a:pt x="12" y="310"/>
                  <a:pt x="8" y="296"/>
                </a:cubicBezTo>
                <a:cubicBezTo>
                  <a:pt x="5" y="285"/>
                  <a:pt x="0" y="264"/>
                  <a:pt x="0" y="264"/>
                </a:cubicBezTo>
                <a:cubicBezTo>
                  <a:pt x="4" y="236"/>
                  <a:pt x="9" y="219"/>
                  <a:pt x="32" y="204"/>
                </a:cubicBezTo>
                <a:cubicBezTo>
                  <a:pt x="44" y="187"/>
                  <a:pt x="48" y="187"/>
                  <a:pt x="68" y="192"/>
                </a:cubicBezTo>
                <a:cubicBezTo>
                  <a:pt x="72" y="195"/>
                  <a:pt x="81" y="205"/>
                  <a:pt x="80" y="200"/>
                </a:cubicBezTo>
                <a:cubicBezTo>
                  <a:pt x="78" y="191"/>
                  <a:pt x="64" y="176"/>
                  <a:pt x="64" y="176"/>
                </a:cubicBezTo>
                <a:cubicBezTo>
                  <a:pt x="68" y="158"/>
                  <a:pt x="66" y="150"/>
                  <a:pt x="84" y="144"/>
                </a:cubicBezTo>
                <a:cubicBezTo>
                  <a:pt x="75" y="172"/>
                  <a:pt x="68" y="165"/>
                  <a:pt x="88" y="172"/>
                </a:cubicBezTo>
                <a:cubicBezTo>
                  <a:pt x="98" y="157"/>
                  <a:pt x="106" y="161"/>
                  <a:pt x="112" y="144"/>
                </a:cubicBezTo>
                <a:cubicBezTo>
                  <a:pt x="96" y="120"/>
                  <a:pt x="112" y="127"/>
                  <a:pt x="128" y="132"/>
                </a:cubicBezTo>
                <a:cubicBezTo>
                  <a:pt x="142" y="129"/>
                  <a:pt x="168" y="120"/>
                  <a:pt x="168" y="120"/>
                </a:cubicBezTo>
                <a:cubicBezTo>
                  <a:pt x="158" y="91"/>
                  <a:pt x="153" y="101"/>
                  <a:pt x="172" y="88"/>
                </a:cubicBezTo>
                <a:cubicBezTo>
                  <a:pt x="159" y="69"/>
                  <a:pt x="155" y="58"/>
                  <a:pt x="176" y="44"/>
                </a:cubicBezTo>
                <a:cubicBezTo>
                  <a:pt x="152" y="28"/>
                  <a:pt x="161" y="20"/>
                  <a:pt x="184" y="12"/>
                </a:cubicBezTo>
                <a:cubicBezTo>
                  <a:pt x="202" y="18"/>
                  <a:pt x="206" y="15"/>
                  <a:pt x="216" y="0"/>
                </a:cubicBezTo>
                <a:cubicBezTo>
                  <a:pt x="221" y="15"/>
                  <a:pt x="216" y="23"/>
                  <a:pt x="220" y="40"/>
                </a:cubicBezTo>
                <a:cubicBezTo>
                  <a:pt x="206" y="60"/>
                  <a:pt x="187" y="53"/>
                  <a:pt x="216" y="60"/>
                </a:cubicBezTo>
                <a:cubicBezTo>
                  <a:pt x="210" y="78"/>
                  <a:pt x="198" y="73"/>
                  <a:pt x="204" y="92"/>
                </a:cubicBezTo>
                <a:cubicBezTo>
                  <a:pt x="197" y="112"/>
                  <a:pt x="209" y="109"/>
                  <a:pt x="224" y="104"/>
                </a:cubicBezTo>
                <a:cubicBezTo>
                  <a:pt x="240" y="128"/>
                  <a:pt x="216" y="132"/>
                  <a:pt x="240" y="124"/>
                </a:cubicBezTo>
                <a:cubicBezTo>
                  <a:pt x="248" y="99"/>
                  <a:pt x="271" y="109"/>
                  <a:pt x="292" y="116"/>
                </a:cubicBezTo>
                <a:cubicBezTo>
                  <a:pt x="299" y="138"/>
                  <a:pt x="306" y="136"/>
                  <a:pt x="328" y="132"/>
                </a:cubicBezTo>
                <a:cubicBezTo>
                  <a:pt x="339" y="125"/>
                  <a:pt x="353" y="123"/>
                  <a:pt x="364" y="116"/>
                </a:cubicBezTo>
                <a:cubicBezTo>
                  <a:pt x="372" y="111"/>
                  <a:pt x="388" y="100"/>
                  <a:pt x="388" y="100"/>
                </a:cubicBezTo>
                <a:cubicBezTo>
                  <a:pt x="391" y="100"/>
                  <a:pt x="434" y="103"/>
                  <a:pt x="436" y="108"/>
                </a:cubicBezTo>
                <a:cubicBezTo>
                  <a:pt x="438" y="112"/>
                  <a:pt x="436" y="122"/>
                  <a:pt x="432" y="120"/>
                </a:cubicBezTo>
                <a:cubicBezTo>
                  <a:pt x="427" y="118"/>
                  <a:pt x="429" y="109"/>
                  <a:pt x="428" y="104"/>
                </a:cubicBezTo>
                <a:close/>
              </a:path>
            </a:pathLst>
          </a:cu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6"/>
          <p:cNvSpPr/>
          <p:nvPr/>
        </p:nvSpPr>
        <p:spPr>
          <a:xfrm>
            <a:off x="2035080" y="1687680"/>
            <a:ext cx="287280" cy="318960"/>
          </a:xfrm>
          <a:custGeom>
            <a:avLst/>
            <a:gdLst/>
            <a:ahLst/>
            <a:rect l="l" t="t" r="r" b="b"/>
            <a:pathLst>
              <a:path w="185" h="208">
                <a:moveTo>
                  <a:pt x="97" y="36"/>
                </a:moveTo>
                <a:cubicBezTo>
                  <a:pt x="102" y="18"/>
                  <a:pt x="101" y="11"/>
                  <a:pt x="117" y="0"/>
                </a:cubicBezTo>
                <a:lnTo>
                  <a:pt x="169" y="16"/>
                </a:lnTo>
                <a:cubicBezTo>
                  <a:pt x="169" y="16"/>
                  <a:pt x="181" y="52"/>
                  <a:pt x="181" y="52"/>
                </a:cubicBezTo>
                <a:cubicBezTo>
                  <a:pt x="182" y="56"/>
                  <a:pt x="185" y="64"/>
                  <a:pt x="185" y="64"/>
                </a:cubicBezTo>
                <a:cubicBezTo>
                  <a:pt x="176" y="92"/>
                  <a:pt x="167" y="127"/>
                  <a:pt x="141" y="144"/>
                </a:cubicBezTo>
                <a:cubicBezTo>
                  <a:pt x="136" y="158"/>
                  <a:pt x="133" y="180"/>
                  <a:pt x="121" y="192"/>
                </a:cubicBezTo>
                <a:cubicBezTo>
                  <a:pt x="112" y="201"/>
                  <a:pt x="85" y="208"/>
                  <a:pt x="85" y="208"/>
                </a:cubicBezTo>
                <a:cubicBezTo>
                  <a:pt x="78" y="203"/>
                  <a:pt x="66" y="203"/>
                  <a:pt x="61" y="196"/>
                </a:cubicBezTo>
                <a:cubicBezTo>
                  <a:pt x="31" y="154"/>
                  <a:pt x="72" y="185"/>
                  <a:pt x="41" y="164"/>
                </a:cubicBezTo>
                <a:cubicBezTo>
                  <a:pt x="38" y="156"/>
                  <a:pt x="40" y="145"/>
                  <a:pt x="33" y="140"/>
                </a:cubicBezTo>
                <a:cubicBezTo>
                  <a:pt x="25" y="135"/>
                  <a:pt x="9" y="124"/>
                  <a:pt x="9" y="124"/>
                </a:cubicBezTo>
                <a:cubicBezTo>
                  <a:pt x="0" y="96"/>
                  <a:pt x="24" y="90"/>
                  <a:pt x="45" y="76"/>
                </a:cubicBezTo>
                <a:cubicBezTo>
                  <a:pt x="52" y="71"/>
                  <a:pt x="69" y="68"/>
                  <a:pt x="69" y="68"/>
                </a:cubicBezTo>
                <a:cubicBezTo>
                  <a:pt x="77" y="56"/>
                  <a:pt x="87" y="46"/>
                  <a:pt x="97" y="36"/>
                </a:cubicBezTo>
                <a:cubicBezTo>
                  <a:pt x="97" y="36"/>
                  <a:pt x="129" y="15"/>
                  <a:pt x="97" y="36"/>
                </a:cubicBezTo>
                <a:close/>
              </a:path>
            </a:pathLst>
          </a:cu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7"/>
          <p:cNvSpPr/>
          <p:nvPr/>
        </p:nvSpPr>
        <p:spPr>
          <a:xfrm>
            <a:off x="1957320" y="1892160"/>
            <a:ext cx="461880" cy="411480"/>
          </a:xfrm>
          <a:custGeom>
            <a:avLst/>
            <a:gdLst/>
            <a:ahLst/>
            <a:rect l="l" t="t" r="r" b="b"/>
            <a:pathLst>
              <a:path w="296" h="267">
                <a:moveTo>
                  <a:pt x="14" y="167"/>
                </a:moveTo>
                <a:cubicBezTo>
                  <a:pt x="25" y="133"/>
                  <a:pt x="0" y="140"/>
                  <a:pt x="32" y="119"/>
                </a:cubicBezTo>
                <a:cubicBezTo>
                  <a:pt x="45" y="68"/>
                  <a:pt x="27" y="120"/>
                  <a:pt x="56" y="77"/>
                </a:cubicBezTo>
                <a:cubicBezTo>
                  <a:pt x="73" y="51"/>
                  <a:pt x="63" y="53"/>
                  <a:pt x="98" y="41"/>
                </a:cubicBezTo>
                <a:cubicBezTo>
                  <a:pt x="112" y="62"/>
                  <a:pt x="122" y="69"/>
                  <a:pt x="146" y="77"/>
                </a:cubicBezTo>
                <a:cubicBezTo>
                  <a:pt x="171" y="69"/>
                  <a:pt x="176" y="81"/>
                  <a:pt x="200" y="89"/>
                </a:cubicBezTo>
                <a:cubicBezTo>
                  <a:pt x="208" y="113"/>
                  <a:pt x="218" y="123"/>
                  <a:pt x="242" y="131"/>
                </a:cubicBezTo>
                <a:cubicBezTo>
                  <a:pt x="253" y="142"/>
                  <a:pt x="268" y="149"/>
                  <a:pt x="278" y="161"/>
                </a:cubicBezTo>
                <a:cubicBezTo>
                  <a:pt x="286" y="171"/>
                  <a:pt x="289" y="186"/>
                  <a:pt x="296" y="197"/>
                </a:cubicBezTo>
                <a:cubicBezTo>
                  <a:pt x="282" y="239"/>
                  <a:pt x="239" y="235"/>
                  <a:pt x="200" y="239"/>
                </a:cubicBezTo>
                <a:cubicBezTo>
                  <a:pt x="179" y="253"/>
                  <a:pt x="171" y="259"/>
                  <a:pt x="146" y="251"/>
                </a:cubicBezTo>
                <a:cubicBezTo>
                  <a:pt x="90" y="265"/>
                  <a:pt x="114" y="267"/>
                  <a:pt x="74" y="257"/>
                </a:cubicBezTo>
                <a:cubicBezTo>
                  <a:pt x="66" y="233"/>
                  <a:pt x="56" y="229"/>
                  <a:pt x="32" y="221"/>
                </a:cubicBezTo>
                <a:cubicBezTo>
                  <a:pt x="2" y="175"/>
                  <a:pt x="17" y="101"/>
                  <a:pt x="62" y="71"/>
                </a:cubicBezTo>
                <a:cubicBezTo>
                  <a:pt x="69" y="49"/>
                  <a:pt x="62" y="56"/>
                  <a:pt x="80" y="47"/>
                </a:cubicBezTo>
                <a:cubicBezTo>
                  <a:pt x="21" y="0"/>
                  <a:pt x="61" y="41"/>
                  <a:pt x="98" y="29"/>
                </a:cubicBezTo>
                <a:cubicBezTo>
                  <a:pt x="100" y="35"/>
                  <a:pt x="104" y="47"/>
                  <a:pt x="104" y="47"/>
                </a:cubicBezTo>
              </a:path>
            </a:pathLst>
          </a:cu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8"/>
          <p:cNvSpPr/>
          <p:nvPr/>
        </p:nvSpPr>
        <p:spPr>
          <a:xfrm>
            <a:off x="2214720" y="808200"/>
            <a:ext cx="1935000" cy="1382400"/>
          </a:xfrm>
          <a:custGeom>
            <a:avLst/>
            <a:gdLst/>
            <a:ahLst/>
            <a:rect l="l" t="t" r="r" b="b"/>
            <a:pathLst>
              <a:path w="1241" h="896">
                <a:moveTo>
                  <a:pt x="300" y="132"/>
                </a:moveTo>
                <a:cubicBezTo>
                  <a:pt x="307" y="203"/>
                  <a:pt x="295" y="271"/>
                  <a:pt x="288" y="342"/>
                </a:cubicBezTo>
                <a:cubicBezTo>
                  <a:pt x="294" y="346"/>
                  <a:pt x="301" y="349"/>
                  <a:pt x="306" y="354"/>
                </a:cubicBezTo>
                <a:cubicBezTo>
                  <a:pt x="347" y="395"/>
                  <a:pt x="266" y="403"/>
                  <a:pt x="240" y="420"/>
                </a:cubicBezTo>
                <a:cubicBezTo>
                  <a:pt x="222" y="447"/>
                  <a:pt x="201" y="468"/>
                  <a:pt x="174" y="486"/>
                </a:cubicBezTo>
                <a:cubicBezTo>
                  <a:pt x="166" y="498"/>
                  <a:pt x="142" y="525"/>
                  <a:pt x="132" y="534"/>
                </a:cubicBezTo>
                <a:cubicBezTo>
                  <a:pt x="121" y="543"/>
                  <a:pt x="96" y="558"/>
                  <a:pt x="96" y="558"/>
                </a:cubicBezTo>
                <a:cubicBezTo>
                  <a:pt x="75" y="590"/>
                  <a:pt x="62" y="572"/>
                  <a:pt x="72" y="612"/>
                </a:cubicBezTo>
                <a:cubicBezTo>
                  <a:pt x="60" y="670"/>
                  <a:pt x="18" y="713"/>
                  <a:pt x="0" y="768"/>
                </a:cubicBezTo>
                <a:cubicBezTo>
                  <a:pt x="20" y="781"/>
                  <a:pt x="28" y="797"/>
                  <a:pt x="48" y="810"/>
                </a:cubicBezTo>
                <a:cubicBezTo>
                  <a:pt x="58" y="841"/>
                  <a:pt x="83" y="841"/>
                  <a:pt x="108" y="858"/>
                </a:cubicBezTo>
                <a:cubicBezTo>
                  <a:pt x="126" y="885"/>
                  <a:pt x="126" y="896"/>
                  <a:pt x="156" y="876"/>
                </a:cubicBezTo>
                <a:cubicBezTo>
                  <a:pt x="160" y="864"/>
                  <a:pt x="157" y="847"/>
                  <a:pt x="168" y="840"/>
                </a:cubicBezTo>
                <a:cubicBezTo>
                  <a:pt x="207" y="814"/>
                  <a:pt x="250" y="795"/>
                  <a:pt x="294" y="780"/>
                </a:cubicBezTo>
                <a:cubicBezTo>
                  <a:pt x="360" y="758"/>
                  <a:pt x="260" y="793"/>
                  <a:pt x="330" y="762"/>
                </a:cubicBezTo>
                <a:cubicBezTo>
                  <a:pt x="342" y="757"/>
                  <a:pt x="366" y="750"/>
                  <a:pt x="366" y="750"/>
                </a:cubicBezTo>
                <a:cubicBezTo>
                  <a:pt x="418" y="754"/>
                  <a:pt x="448" y="753"/>
                  <a:pt x="492" y="768"/>
                </a:cubicBezTo>
                <a:cubicBezTo>
                  <a:pt x="528" y="759"/>
                  <a:pt x="508" y="765"/>
                  <a:pt x="552" y="750"/>
                </a:cubicBezTo>
                <a:cubicBezTo>
                  <a:pt x="558" y="748"/>
                  <a:pt x="570" y="744"/>
                  <a:pt x="570" y="744"/>
                </a:cubicBezTo>
                <a:cubicBezTo>
                  <a:pt x="596" y="749"/>
                  <a:pt x="611" y="758"/>
                  <a:pt x="636" y="750"/>
                </a:cubicBezTo>
                <a:cubicBezTo>
                  <a:pt x="643" y="722"/>
                  <a:pt x="642" y="712"/>
                  <a:pt x="666" y="696"/>
                </a:cubicBezTo>
                <a:cubicBezTo>
                  <a:pt x="676" y="665"/>
                  <a:pt x="701" y="665"/>
                  <a:pt x="726" y="648"/>
                </a:cubicBezTo>
                <a:cubicBezTo>
                  <a:pt x="728" y="626"/>
                  <a:pt x="727" y="604"/>
                  <a:pt x="732" y="582"/>
                </a:cubicBezTo>
                <a:cubicBezTo>
                  <a:pt x="740" y="543"/>
                  <a:pt x="831" y="533"/>
                  <a:pt x="864" y="522"/>
                </a:cubicBezTo>
                <a:cubicBezTo>
                  <a:pt x="878" y="479"/>
                  <a:pt x="865" y="493"/>
                  <a:pt x="894" y="474"/>
                </a:cubicBezTo>
                <a:cubicBezTo>
                  <a:pt x="910" y="451"/>
                  <a:pt x="923" y="401"/>
                  <a:pt x="942" y="384"/>
                </a:cubicBezTo>
                <a:cubicBezTo>
                  <a:pt x="984" y="347"/>
                  <a:pt x="1026" y="347"/>
                  <a:pt x="1080" y="342"/>
                </a:cubicBezTo>
                <a:cubicBezTo>
                  <a:pt x="1096" y="331"/>
                  <a:pt x="1134" y="318"/>
                  <a:pt x="1134" y="318"/>
                </a:cubicBezTo>
                <a:cubicBezTo>
                  <a:pt x="1149" y="272"/>
                  <a:pt x="1148" y="294"/>
                  <a:pt x="1140" y="252"/>
                </a:cubicBezTo>
                <a:cubicBezTo>
                  <a:pt x="1147" y="231"/>
                  <a:pt x="1144" y="190"/>
                  <a:pt x="1158" y="174"/>
                </a:cubicBezTo>
                <a:cubicBezTo>
                  <a:pt x="1167" y="163"/>
                  <a:pt x="1182" y="158"/>
                  <a:pt x="1194" y="150"/>
                </a:cubicBezTo>
                <a:cubicBezTo>
                  <a:pt x="1200" y="146"/>
                  <a:pt x="1212" y="138"/>
                  <a:pt x="1212" y="138"/>
                </a:cubicBezTo>
                <a:cubicBezTo>
                  <a:pt x="1228" y="115"/>
                  <a:pt x="1241" y="103"/>
                  <a:pt x="1218" y="66"/>
                </a:cubicBezTo>
                <a:cubicBezTo>
                  <a:pt x="1211" y="55"/>
                  <a:pt x="1194" y="58"/>
                  <a:pt x="1182" y="54"/>
                </a:cubicBezTo>
                <a:cubicBezTo>
                  <a:pt x="1175" y="52"/>
                  <a:pt x="1171" y="45"/>
                  <a:pt x="1164" y="42"/>
                </a:cubicBezTo>
                <a:cubicBezTo>
                  <a:pt x="1124" y="24"/>
                  <a:pt x="1080" y="24"/>
                  <a:pt x="1044" y="0"/>
                </a:cubicBezTo>
                <a:cubicBezTo>
                  <a:pt x="1010" y="7"/>
                  <a:pt x="999" y="11"/>
                  <a:pt x="1020" y="42"/>
                </a:cubicBezTo>
                <a:cubicBezTo>
                  <a:pt x="1008" y="46"/>
                  <a:pt x="996" y="50"/>
                  <a:pt x="984" y="54"/>
                </a:cubicBezTo>
                <a:cubicBezTo>
                  <a:pt x="978" y="56"/>
                  <a:pt x="966" y="60"/>
                  <a:pt x="966" y="60"/>
                </a:cubicBezTo>
                <a:cubicBezTo>
                  <a:pt x="926" y="33"/>
                  <a:pt x="934" y="47"/>
                  <a:pt x="894" y="60"/>
                </a:cubicBezTo>
                <a:cubicBezTo>
                  <a:pt x="868" y="51"/>
                  <a:pt x="861" y="55"/>
                  <a:pt x="846" y="78"/>
                </a:cubicBezTo>
                <a:cubicBezTo>
                  <a:pt x="840" y="74"/>
                  <a:pt x="833" y="72"/>
                  <a:pt x="828" y="66"/>
                </a:cubicBezTo>
                <a:cubicBezTo>
                  <a:pt x="824" y="61"/>
                  <a:pt x="828" y="50"/>
                  <a:pt x="822" y="48"/>
                </a:cubicBezTo>
                <a:cubicBezTo>
                  <a:pt x="818" y="46"/>
                  <a:pt x="767" y="64"/>
                  <a:pt x="762" y="66"/>
                </a:cubicBezTo>
                <a:cubicBezTo>
                  <a:pt x="750" y="70"/>
                  <a:pt x="726" y="78"/>
                  <a:pt x="726" y="78"/>
                </a:cubicBezTo>
                <a:cubicBezTo>
                  <a:pt x="722" y="84"/>
                  <a:pt x="720" y="92"/>
                  <a:pt x="714" y="96"/>
                </a:cubicBezTo>
                <a:cubicBezTo>
                  <a:pt x="703" y="103"/>
                  <a:pt x="678" y="108"/>
                  <a:pt x="678" y="108"/>
                </a:cubicBezTo>
                <a:cubicBezTo>
                  <a:pt x="680" y="114"/>
                  <a:pt x="688" y="122"/>
                  <a:pt x="684" y="126"/>
                </a:cubicBezTo>
                <a:cubicBezTo>
                  <a:pt x="675" y="135"/>
                  <a:pt x="648" y="138"/>
                  <a:pt x="648" y="138"/>
                </a:cubicBezTo>
                <a:cubicBezTo>
                  <a:pt x="648" y="138"/>
                  <a:pt x="604" y="134"/>
                  <a:pt x="618" y="114"/>
                </a:cubicBezTo>
                <a:cubicBezTo>
                  <a:pt x="626" y="102"/>
                  <a:pt x="654" y="90"/>
                  <a:pt x="654" y="90"/>
                </a:cubicBezTo>
                <a:cubicBezTo>
                  <a:pt x="642" y="43"/>
                  <a:pt x="628" y="49"/>
                  <a:pt x="594" y="72"/>
                </a:cubicBezTo>
                <a:cubicBezTo>
                  <a:pt x="590" y="84"/>
                  <a:pt x="586" y="96"/>
                  <a:pt x="582" y="108"/>
                </a:cubicBezTo>
                <a:cubicBezTo>
                  <a:pt x="580" y="114"/>
                  <a:pt x="576" y="126"/>
                  <a:pt x="576" y="126"/>
                </a:cubicBezTo>
                <a:cubicBezTo>
                  <a:pt x="597" y="140"/>
                  <a:pt x="618" y="150"/>
                  <a:pt x="582" y="162"/>
                </a:cubicBezTo>
                <a:cubicBezTo>
                  <a:pt x="541" y="156"/>
                  <a:pt x="514" y="161"/>
                  <a:pt x="474" y="174"/>
                </a:cubicBezTo>
                <a:cubicBezTo>
                  <a:pt x="484" y="205"/>
                  <a:pt x="500" y="198"/>
                  <a:pt x="480" y="228"/>
                </a:cubicBezTo>
                <a:cubicBezTo>
                  <a:pt x="468" y="224"/>
                  <a:pt x="456" y="220"/>
                  <a:pt x="444" y="216"/>
                </a:cubicBezTo>
                <a:cubicBezTo>
                  <a:pt x="438" y="214"/>
                  <a:pt x="426" y="210"/>
                  <a:pt x="426" y="210"/>
                </a:cubicBezTo>
                <a:cubicBezTo>
                  <a:pt x="420" y="212"/>
                  <a:pt x="412" y="212"/>
                  <a:pt x="408" y="216"/>
                </a:cubicBezTo>
                <a:cubicBezTo>
                  <a:pt x="382" y="242"/>
                  <a:pt x="431" y="249"/>
                  <a:pt x="444" y="252"/>
                </a:cubicBezTo>
                <a:cubicBezTo>
                  <a:pt x="401" y="266"/>
                  <a:pt x="419" y="271"/>
                  <a:pt x="390" y="252"/>
                </a:cubicBezTo>
                <a:cubicBezTo>
                  <a:pt x="382" y="227"/>
                  <a:pt x="383" y="213"/>
                  <a:pt x="360" y="198"/>
                </a:cubicBezTo>
                <a:cubicBezTo>
                  <a:pt x="358" y="192"/>
                  <a:pt x="354" y="186"/>
                  <a:pt x="354" y="180"/>
                </a:cubicBezTo>
                <a:cubicBezTo>
                  <a:pt x="354" y="174"/>
                  <a:pt x="364" y="166"/>
                  <a:pt x="360" y="162"/>
                </a:cubicBezTo>
                <a:cubicBezTo>
                  <a:pt x="351" y="153"/>
                  <a:pt x="324" y="150"/>
                  <a:pt x="324" y="150"/>
                </a:cubicBezTo>
                <a:cubicBezTo>
                  <a:pt x="322" y="144"/>
                  <a:pt x="324" y="135"/>
                  <a:pt x="318" y="132"/>
                </a:cubicBezTo>
                <a:cubicBezTo>
                  <a:pt x="298" y="122"/>
                  <a:pt x="300" y="150"/>
                  <a:pt x="300" y="132"/>
                </a:cubicBez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9"/>
          <p:cNvSpPr/>
          <p:nvPr/>
        </p:nvSpPr>
        <p:spPr>
          <a:xfrm>
            <a:off x="2590920" y="2316240"/>
            <a:ext cx="676080" cy="269640"/>
          </a:xfrm>
          <a:custGeom>
            <a:avLst/>
            <a:gdLst/>
            <a:ahLst/>
            <a:rect l="l" t="t" r="r" b="b"/>
            <a:pathLst>
              <a:path w="435" h="175">
                <a:moveTo>
                  <a:pt x="353" y="19"/>
                </a:moveTo>
                <a:cubicBezTo>
                  <a:pt x="303" y="2"/>
                  <a:pt x="328" y="0"/>
                  <a:pt x="281" y="31"/>
                </a:cubicBezTo>
                <a:cubicBezTo>
                  <a:pt x="270" y="38"/>
                  <a:pt x="245" y="43"/>
                  <a:pt x="245" y="43"/>
                </a:cubicBezTo>
                <a:cubicBezTo>
                  <a:pt x="201" y="13"/>
                  <a:pt x="223" y="16"/>
                  <a:pt x="179" y="25"/>
                </a:cubicBezTo>
                <a:cubicBezTo>
                  <a:pt x="147" y="19"/>
                  <a:pt x="119" y="29"/>
                  <a:pt x="89" y="19"/>
                </a:cubicBezTo>
                <a:cubicBezTo>
                  <a:pt x="77" y="23"/>
                  <a:pt x="46" y="20"/>
                  <a:pt x="53" y="31"/>
                </a:cubicBezTo>
                <a:cubicBezTo>
                  <a:pt x="64" y="47"/>
                  <a:pt x="77" y="85"/>
                  <a:pt x="77" y="85"/>
                </a:cubicBezTo>
                <a:cubicBezTo>
                  <a:pt x="65" y="89"/>
                  <a:pt x="53" y="93"/>
                  <a:pt x="41" y="97"/>
                </a:cubicBezTo>
                <a:cubicBezTo>
                  <a:pt x="35" y="99"/>
                  <a:pt x="23" y="103"/>
                  <a:pt x="23" y="103"/>
                </a:cubicBezTo>
                <a:cubicBezTo>
                  <a:pt x="21" y="109"/>
                  <a:pt x="20" y="115"/>
                  <a:pt x="17" y="121"/>
                </a:cubicBezTo>
                <a:cubicBezTo>
                  <a:pt x="14" y="127"/>
                  <a:pt x="0" y="133"/>
                  <a:pt x="5" y="139"/>
                </a:cubicBezTo>
                <a:cubicBezTo>
                  <a:pt x="13" y="149"/>
                  <a:pt x="41" y="151"/>
                  <a:pt x="41" y="151"/>
                </a:cubicBezTo>
                <a:cubicBezTo>
                  <a:pt x="45" y="157"/>
                  <a:pt x="46" y="167"/>
                  <a:pt x="53" y="169"/>
                </a:cubicBezTo>
                <a:cubicBezTo>
                  <a:pt x="61" y="172"/>
                  <a:pt x="69" y="165"/>
                  <a:pt x="77" y="163"/>
                </a:cubicBezTo>
                <a:cubicBezTo>
                  <a:pt x="114" y="155"/>
                  <a:pt x="147" y="154"/>
                  <a:pt x="179" y="133"/>
                </a:cubicBezTo>
                <a:cubicBezTo>
                  <a:pt x="227" y="149"/>
                  <a:pt x="171" y="125"/>
                  <a:pt x="203" y="157"/>
                </a:cubicBezTo>
                <a:cubicBezTo>
                  <a:pt x="212" y="166"/>
                  <a:pt x="228" y="168"/>
                  <a:pt x="239" y="175"/>
                </a:cubicBezTo>
                <a:cubicBezTo>
                  <a:pt x="251" y="171"/>
                  <a:pt x="271" y="175"/>
                  <a:pt x="275" y="163"/>
                </a:cubicBezTo>
                <a:cubicBezTo>
                  <a:pt x="277" y="157"/>
                  <a:pt x="277" y="149"/>
                  <a:pt x="281" y="145"/>
                </a:cubicBezTo>
                <a:cubicBezTo>
                  <a:pt x="285" y="141"/>
                  <a:pt x="293" y="142"/>
                  <a:pt x="299" y="139"/>
                </a:cubicBezTo>
                <a:cubicBezTo>
                  <a:pt x="312" y="132"/>
                  <a:pt x="335" y="115"/>
                  <a:pt x="335" y="115"/>
                </a:cubicBezTo>
                <a:cubicBezTo>
                  <a:pt x="354" y="86"/>
                  <a:pt x="340" y="99"/>
                  <a:pt x="383" y="85"/>
                </a:cubicBezTo>
                <a:cubicBezTo>
                  <a:pt x="395" y="81"/>
                  <a:pt x="419" y="73"/>
                  <a:pt x="419" y="73"/>
                </a:cubicBezTo>
                <a:cubicBezTo>
                  <a:pt x="423" y="67"/>
                  <a:pt x="435" y="61"/>
                  <a:pt x="431" y="55"/>
                </a:cubicBezTo>
                <a:cubicBezTo>
                  <a:pt x="414" y="24"/>
                  <a:pt x="383" y="35"/>
                  <a:pt x="359" y="19"/>
                </a:cubicBezTo>
                <a:cubicBezTo>
                  <a:pt x="353" y="15"/>
                  <a:pt x="348" y="7"/>
                  <a:pt x="341" y="7"/>
                </a:cubicBezTo>
                <a:cubicBezTo>
                  <a:pt x="335" y="7"/>
                  <a:pt x="349" y="15"/>
                  <a:pt x="353" y="19"/>
                </a:cubicBezTo>
                <a:close/>
              </a:path>
            </a:pathLst>
          </a:cu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20"/>
          <p:cNvSpPr/>
          <p:nvPr/>
        </p:nvSpPr>
        <p:spPr>
          <a:xfrm>
            <a:off x="4059360" y="2614680"/>
            <a:ext cx="979200" cy="496800"/>
          </a:xfrm>
          <a:custGeom>
            <a:avLst/>
            <a:gdLst/>
            <a:ahLst/>
            <a:rect l="l" t="t" r="r" b="b"/>
            <a:pathLst>
              <a:path w="628" h="324">
                <a:moveTo>
                  <a:pt x="12" y="300"/>
                </a:moveTo>
                <a:cubicBezTo>
                  <a:pt x="16" y="294"/>
                  <a:pt x="23" y="289"/>
                  <a:pt x="24" y="282"/>
                </a:cubicBezTo>
                <a:cubicBezTo>
                  <a:pt x="25" y="276"/>
                  <a:pt x="18" y="270"/>
                  <a:pt x="18" y="264"/>
                </a:cubicBezTo>
                <a:cubicBezTo>
                  <a:pt x="18" y="248"/>
                  <a:pt x="18" y="228"/>
                  <a:pt x="30" y="216"/>
                </a:cubicBezTo>
                <a:cubicBezTo>
                  <a:pt x="40" y="206"/>
                  <a:pt x="66" y="192"/>
                  <a:pt x="66" y="192"/>
                </a:cubicBezTo>
                <a:cubicBezTo>
                  <a:pt x="81" y="169"/>
                  <a:pt x="101" y="147"/>
                  <a:pt x="108" y="120"/>
                </a:cubicBezTo>
                <a:cubicBezTo>
                  <a:pt x="123" y="62"/>
                  <a:pt x="117" y="16"/>
                  <a:pt x="180" y="0"/>
                </a:cubicBezTo>
                <a:cubicBezTo>
                  <a:pt x="217" y="25"/>
                  <a:pt x="179" y="6"/>
                  <a:pt x="216" y="6"/>
                </a:cubicBezTo>
                <a:cubicBezTo>
                  <a:pt x="224" y="6"/>
                  <a:pt x="250" y="15"/>
                  <a:pt x="258" y="18"/>
                </a:cubicBezTo>
                <a:cubicBezTo>
                  <a:pt x="267" y="45"/>
                  <a:pt x="279" y="37"/>
                  <a:pt x="300" y="54"/>
                </a:cubicBezTo>
                <a:cubicBezTo>
                  <a:pt x="320" y="71"/>
                  <a:pt x="323" y="88"/>
                  <a:pt x="348" y="96"/>
                </a:cubicBezTo>
                <a:cubicBezTo>
                  <a:pt x="371" y="130"/>
                  <a:pt x="389" y="115"/>
                  <a:pt x="420" y="132"/>
                </a:cubicBezTo>
                <a:cubicBezTo>
                  <a:pt x="447" y="147"/>
                  <a:pt x="464" y="165"/>
                  <a:pt x="492" y="174"/>
                </a:cubicBezTo>
                <a:cubicBezTo>
                  <a:pt x="534" y="160"/>
                  <a:pt x="549" y="196"/>
                  <a:pt x="570" y="228"/>
                </a:cubicBezTo>
                <a:cubicBezTo>
                  <a:pt x="577" y="238"/>
                  <a:pt x="596" y="243"/>
                  <a:pt x="606" y="246"/>
                </a:cubicBezTo>
                <a:cubicBezTo>
                  <a:pt x="608" y="251"/>
                  <a:pt x="628" y="288"/>
                  <a:pt x="612" y="300"/>
                </a:cubicBezTo>
                <a:cubicBezTo>
                  <a:pt x="602" y="307"/>
                  <a:pt x="576" y="312"/>
                  <a:pt x="576" y="312"/>
                </a:cubicBezTo>
                <a:cubicBezTo>
                  <a:pt x="542" y="303"/>
                  <a:pt x="552" y="292"/>
                  <a:pt x="522" y="282"/>
                </a:cubicBezTo>
                <a:cubicBezTo>
                  <a:pt x="497" y="244"/>
                  <a:pt x="444" y="252"/>
                  <a:pt x="402" y="246"/>
                </a:cubicBezTo>
                <a:cubicBezTo>
                  <a:pt x="378" y="238"/>
                  <a:pt x="377" y="221"/>
                  <a:pt x="354" y="210"/>
                </a:cubicBezTo>
                <a:cubicBezTo>
                  <a:pt x="338" y="202"/>
                  <a:pt x="317" y="202"/>
                  <a:pt x="300" y="198"/>
                </a:cubicBezTo>
                <a:cubicBezTo>
                  <a:pt x="280" y="194"/>
                  <a:pt x="265" y="180"/>
                  <a:pt x="246" y="174"/>
                </a:cubicBezTo>
                <a:cubicBezTo>
                  <a:pt x="202" y="189"/>
                  <a:pt x="158" y="214"/>
                  <a:pt x="120" y="240"/>
                </a:cubicBezTo>
                <a:cubicBezTo>
                  <a:pt x="92" y="282"/>
                  <a:pt x="108" y="268"/>
                  <a:pt x="78" y="288"/>
                </a:cubicBezTo>
                <a:cubicBezTo>
                  <a:pt x="70" y="312"/>
                  <a:pt x="60" y="316"/>
                  <a:pt x="36" y="324"/>
                </a:cubicBezTo>
                <a:cubicBezTo>
                  <a:pt x="26" y="309"/>
                  <a:pt x="18" y="301"/>
                  <a:pt x="18" y="282"/>
                </a:cubicBezTo>
                <a:cubicBezTo>
                  <a:pt x="18" y="276"/>
                  <a:pt x="24" y="264"/>
                  <a:pt x="24" y="264"/>
                </a:cubicBezTo>
                <a:lnTo>
                  <a:pt x="0" y="228"/>
                </a:lnTo>
              </a:path>
            </a:pathLst>
          </a:custGeom>
          <a:solidFill>
            <a:srgbClr val="333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1"/>
          <p:cNvSpPr/>
          <p:nvPr/>
        </p:nvSpPr>
        <p:spPr>
          <a:xfrm>
            <a:off x="2981160" y="2622600"/>
            <a:ext cx="366840" cy="233280"/>
          </a:xfrm>
          <a:custGeom>
            <a:avLst/>
            <a:gdLst/>
            <a:ahLst/>
            <a:rect l="l" t="t" r="r" b="b"/>
            <a:pathLst>
              <a:path w="234" h="150">
                <a:moveTo>
                  <a:pt x="234" y="120"/>
                </a:moveTo>
                <a:cubicBezTo>
                  <a:pt x="217" y="94"/>
                  <a:pt x="196" y="49"/>
                  <a:pt x="168" y="30"/>
                </a:cubicBezTo>
                <a:cubicBezTo>
                  <a:pt x="150" y="18"/>
                  <a:pt x="110" y="13"/>
                  <a:pt x="90" y="6"/>
                </a:cubicBezTo>
                <a:cubicBezTo>
                  <a:pt x="84" y="4"/>
                  <a:pt x="72" y="0"/>
                  <a:pt x="72" y="0"/>
                </a:cubicBezTo>
                <a:cubicBezTo>
                  <a:pt x="61" y="7"/>
                  <a:pt x="45" y="9"/>
                  <a:pt x="36" y="18"/>
                </a:cubicBezTo>
                <a:cubicBezTo>
                  <a:pt x="26" y="28"/>
                  <a:pt x="20" y="42"/>
                  <a:pt x="12" y="54"/>
                </a:cubicBezTo>
                <a:cubicBezTo>
                  <a:pt x="8" y="60"/>
                  <a:pt x="0" y="72"/>
                  <a:pt x="0" y="72"/>
                </a:cubicBezTo>
                <a:cubicBezTo>
                  <a:pt x="26" y="98"/>
                  <a:pt x="54" y="101"/>
                  <a:pt x="90" y="108"/>
                </a:cubicBezTo>
                <a:cubicBezTo>
                  <a:pt x="101" y="119"/>
                  <a:pt x="111" y="131"/>
                  <a:pt x="126" y="138"/>
                </a:cubicBezTo>
                <a:cubicBezTo>
                  <a:pt x="138" y="143"/>
                  <a:pt x="162" y="150"/>
                  <a:pt x="162" y="150"/>
                </a:cubicBezTo>
                <a:cubicBezTo>
                  <a:pt x="186" y="144"/>
                  <a:pt x="209" y="137"/>
                  <a:pt x="234" y="132"/>
                </a:cubicBezTo>
                <a:cubicBezTo>
                  <a:pt x="227" y="104"/>
                  <a:pt x="224" y="101"/>
                  <a:pt x="234" y="120"/>
                </a:cubicBezTo>
                <a:close/>
              </a:path>
            </a:pathLst>
          </a:custGeom>
          <a:solidFill>
            <a:srgbClr val="99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22"/>
          <p:cNvSpPr/>
          <p:nvPr/>
        </p:nvSpPr>
        <p:spPr>
          <a:xfrm>
            <a:off x="2973240" y="2475000"/>
            <a:ext cx="214560" cy="176040"/>
          </a:xfrm>
          <a:custGeom>
            <a:avLst/>
            <a:gdLst/>
            <a:ahLst/>
            <a:rect l="l" t="t" r="r" b="b"/>
            <a:pathLst>
              <a:path w="138" h="115">
                <a:moveTo>
                  <a:pt x="114" y="0"/>
                </a:moveTo>
                <a:cubicBezTo>
                  <a:pt x="123" y="36"/>
                  <a:pt x="117" y="16"/>
                  <a:pt x="132" y="60"/>
                </a:cubicBezTo>
                <a:cubicBezTo>
                  <a:pt x="134" y="66"/>
                  <a:pt x="138" y="78"/>
                  <a:pt x="138" y="78"/>
                </a:cubicBezTo>
                <a:cubicBezTo>
                  <a:pt x="128" y="108"/>
                  <a:pt x="124" y="115"/>
                  <a:pt x="96" y="96"/>
                </a:cubicBezTo>
                <a:cubicBezTo>
                  <a:pt x="55" y="110"/>
                  <a:pt x="37" y="109"/>
                  <a:pt x="0" y="84"/>
                </a:cubicBezTo>
                <a:cubicBezTo>
                  <a:pt x="41" y="70"/>
                  <a:pt x="19" y="48"/>
                  <a:pt x="66" y="36"/>
                </a:cubicBezTo>
                <a:cubicBezTo>
                  <a:pt x="72" y="32"/>
                  <a:pt x="79" y="29"/>
                  <a:pt x="84" y="24"/>
                </a:cubicBezTo>
                <a:cubicBezTo>
                  <a:pt x="89" y="19"/>
                  <a:pt x="90" y="11"/>
                  <a:pt x="96" y="6"/>
                </a:cubicBezTo>
                <a:cubicBezTo>
                  <a:pt x="101" y="2"/>
                  <a:pt x="114" y="0"/>
                  <a:pt x="114" y="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3"/>
          <p:cNvSpPr/>
          <p:nvPr/>
        </p:nvSpPr>
        <p:spPr>
          <a:xfrm>
            <a:off x="6308640" y="2409840"/>
            <a:ext cx="209520" cy="258840"/>
          </a:xfrm>
          <a:custGeom>
            <a:avLst/>
            <a:gdLst/>
            <a:ahLst/>
            <a:rect l="l" t="t" r="r" b="b"/>
            <a:pathLst>
              <a:path w="135" h="167">
                <a:moveTo>
                  <a:pt x="65" y="0"/>
                </a:moveTo>
                <a:cubicBezTo>
                  <a:pt x="0" y="22"/>
                  <a:pt x="53" y="10"/>
                  <a:pt x="5" y="42"/>
                </a:cubicBezTo>
                <a:cubicBezTo>
                  <a:pt x="13" y="67"/>
                  <a:pt x="26" y="62"/>
                  <a:pt x="41" y="84"/>
                </a:cubicBezTo>
                <a:cubicBezTo>
                  <a:pt x="33" y="109"/>
                  <a:pt x="42" y="129"/>
                  <a:pt x="47" y="156"/>
                </a:cubicBezTo>
                <a:cubicBezTo>
                  <a:pt x="107" y="136"/>
                  <a:pt x="14" y="167"/>
                  <a:pt x="89" y="144"/>
                </a:cubicBezTo>
                <a:cubicBezTo>
                  <a:pt x="101" y="140"/>
                  <a:pt x="125" y="132"/>
                  <a:pt x="125" y="132"/>
                </a:cubicBezTo>
                <a:cubicBezTo>
                  <a:pt x="135" y="102"/>
                  <a:pt x="133" y="120"/>
                  <a:pt x="119" y="78"/>
                </a:cubicBezTo>
                <a:cubicBezTo>
                  <a:pt x="117" y="72"/>
                  <a:pt x="118" y="64"/>
                  <a:pt x="113" y="60"/>
                </a:cubicBezTo>
                <a:cubicBezTo>
                  <a:pt x="101" y="52"/>
                  <a:pt x="77" y="36"/>
                  <a:pt x="77" y="36"/>
                </a:cubicBezTo>
                <a:cubicBezTo>
                  <a:pt x="70" y="8"/>
                  <a:pt x="75" y="19"/>
                  <a:pt x="65" y="0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4"/>
          <p:cNvSpPr/>
          <p:nvPr/>
        </p:nvSpPr>
        <p:spPr>
          <a:xfrm>
            <a:off x="5388120" y="3362400"/>
            <a:ext cx="309240" cy="306360"/>
          </a:xfrm>
          <a:custGeom>
            <a:avLst/>
            <a:gdLst/>
            <a:ahLst/>
            <a:rect l="l" t="t" r="r" b="b"/>
            <a:pathLst>
              <a:path w="198" h="199">
                <a:moveTo>
                  <a:pt x="198" y="127"/>
                </a:moveTo>
                <a:cubicBezTo>
                  <a:pt x="162" y="115"/>
                  <a:pt x="165" y="63"/>
                  <a:pt x="126" y="37"/>
                </a:cubicBezTo>
                <a:cubicBezTo>
                  <a:pt x="102" y="0"/>
                  <a:pt x="84" y="14"/>
                  <a:pt x="36" y="19"/>
                </a:cubicBezTo>
                <a:cubicBezTo>
                  <a:pt x="28" y="31"/>
                  <a:pt x="17" y="41"/>
                  <a:pt x="12" y="55"/>
                </a:cubicBezTo>
                <a:cubicBezTo>
                  <a:pt x="8" y="67"/>
                  <a:pt x="0" y="91"/>
                  <a:pt x="0" y="91"/>
                </a:cubicBezTo>
                <a:cubicBezTo>
                  <a:pt x="12" y="99"/>
                  <a:pt x="31" y="101"/>
                  <a:pt x="36" y="115"/>
                </a:cubicBezTo>
                <a:cubicBezTo>
                  <a:pt x="44" y="140"/>
                  <a:pt x="37" y="129"/>
                  <a:pt x="60" y="145"/>
                </a:cubicBezTo>
                <a:cubicBezTo>
                  <a:pt x="88" y="186"/>
                  <a:pt x="79" y="167"/>
                  <a:pt x="90" y="199"/>
                </a:cubicBezTo>
                <a:cubicBezTo>
                  <a:pt x="96" y="195"/>
                  <a:pt x="101" y="188"/>
                  <a:pt x="108" y="187"/>
                </a:cubicBezTo>
                <a:cubicBezTo>
                  <a:pt x="114" y="186"/>
                  <a:pt x="120" y="195"/>
                  <a:pt x="126" y="193"/>
                </a:cubicBezTo>
                <a:cubicBezTo>
                  <a:pt x="133" y="190"/>
                  <a:pt x="133" y="180"/>
                  <a:pt x="138" y="175"/>
                </a:cubicBezTo>
                <a:cubicBezTo>
                  <a:pt x="163" y="153"/>
                  <a:pt x="167" y="153"/>
                  <a:pt x="192" y="145"/>
                </a:cubicBezTo>
                <a:cubicBezTo>
                  <a:pt x="185" y="117"/>
                  <a:pt x="179" y="117"/>
                  <a:pt x="198" y="127"/>
                </a:cubicBezTo>
                <a:close/>
              </a:path>
            </a:pathLst>
          </a:custGeom>
          <a:solidFill>
            <a:srgbClr val="99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27"/>
          <p:cNvSpPr/>
          <p:nvPr/>
        </p:nvSpPr>
        <p:spPr>
          <a:xfrm>
            <a:off x="6513480" y="2365200"/>
            <a:ext cx="465120" cy="39564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70" y="6"/>
                </a:moveTo>
                <a:cubicBezTo>
                  <a:pt x="244" y="15"/>
                  <a:pt x="244" y="23"/>
                  <a:pt x="252" y="48"/>
                </a:cubicBezTo>
                <a:cubicBezTo>
                  <a:pt x="245" y="68"/>
                  <a:pt x="235" y="82"/>
                  <a:pt x="228" y="102"/>
                </a:cubicBezTo>
                <a:cubicBezTo>
                  <a:pt x="222" y="98"/>
                  <a:pt x="217" y="89"/>
                  <a:pt x="210" y="90"/>
                </a:cubicBezTo>
                <a:cubicBezTo>
                  <a:pt x="203" y="91"/>
                  <a:pt x="203" y="103"/>
                  <a:pt x="198" y="108"/>
                </a:cubicBezTo>
                <a:cubicBezTo>
                  <a:pt x="186" y="120"/>
                  <a:pt x="177" y="121"/>
                  <a:pt x="162" y="126"/>
                </a:cubicBezTo>
                <a:cubicBezTo>
                  <a:pt x="152" y="168"/>
                  <a:pt x="140" y="158"/>
                  <a:pt x="102" y="150"/>
                </a:cubicBezTo>
                <a:cubicBezTo>
                  <a:pt x="90" y="154"/>
                  <a:pt x="73" y="151"/>
                  <a:pt x="66" y="162"/>
                </a:cubicBezTo>
                <a:cubicBezTo>
                  <a:pt x="50" y="185"/>
                  <a:pt x="61" y="178"/>
                  <a:pt x="36" y="186"/>
                </a:cubicBezTo>
                <a:cubicBezTo>
                  <a:pt x="21" y="208"/>
                  <a:pt x="8" y="203"/>
                  <a:pt x="0" y="228"/>
                </a:cubicBezTo>
                <a:cubicBezTo>
                  <a:pt x="2" y="234"/>
                  <a:pt x="1" y="242"/>
                  <a:pt x="6" y="246"/>
                </a:cubicBezTo>
                <a:cubicBezTo>
                  <a:pt x="16" y="253"/>
                  <a:pt x="42" y="258"/>
                  <a:pt x="42" y="258"/>
                </a:cubicBezTo>
                <a:cubicBezTo>
                  <a:pt x="49" y="229"/>
                  <a:pt x="46" y="223"/>
                  <a:pt x="30" y="198"/>
                </a:cubicBezTo>
                <a:cubicBezTo>
                  <a:pt x="73" y="184"/>
                  <a:pt x="59" y="175"/>
                  <a:pt x="78" y="204"/>
                </a:cubicBezTo>
                <a:cubicBezTo>
                  <a:pt x="74" y="210"/>
                  <a:pt x="59" y="220"/>
                  <a:pt x="66" y="222"/>
                </a:cubicBezTo>
                <a:cubicBezTo>
                  <a:pt x="78" y="225"/>
                  <a:pt x="102" y="210"/>
                  <a:pt x="102" y="210"/>
                </a:cubicBezTo>
                <a:cubicBezTo>
                  <a:pt x="106" y="204"/>
                  <a:pt x="116" y="199"/>
                  <a:pt x="114" y="192"/>
                </a:cubicBezTo>
                <a:cubicBezTo>
                  <a:pt x="110" y="177"/>
                  <a:pt x="70" y="195"/>
                  <a:pt x="114" y="180"/>
                </a:cubicBezTo>
                <a:cubicBezTo>
                  <a:pt x="164" y="197"/>
                  <a:pt x="94" y="193"/>
                  <a:pt x="144" y="210"/>
                </a:cubicBezTo>
                <a:cubicBezTo>
                  <a:pt x="150" y="208"/>
                  <a:pt x="158" y="209"/>
                  <a:pt x="162" y="204"/>
                </a:cubicBezTo>
                <a:cubicBezTo>
                  <a:pt x="169" y="194"/>
                  <a:pt x="174" y="168"/>
                  <a:pt x="174" y="168"/>
                </a:cubicBezTo>
                <a:cubicBezTo>
                  <a:pt x="195" y="200"/>
                  <a:pt x="188" y="175"/>
                  <a:pt x="222" y="186"/>
                </a:cubicBezTo>
                <a:cubicBezTo>
                  <a:pt x="224" y="180"/>
                  <a:pt x="222" y="170"/>
                  <a:pt x="228" y="168"/>
                </a:cubicBezTo>
                <a:cubicBezTo>
                  <a:pt x="236" y="165"/>
                  <a:pt x="244" y="174"/>
                  <a:pt x="252" y="174"/>
                </a:cubicBezTo>
                <a:cubicBezTo>
                  <a:pt x="264" y="174"/>
                  <a:pt x="279" y="162"/>
                  <a:pt x="288" y="156"/>
                </a:cubicBezTo>
                <a:cubicBezTo>
                  <a:pt x="249" y="143"/>
                  <a:pt x="268" y="126"/>
                  <a:pt x="288" y="96"/>
                </a:cubicBezTo>
                <a:cubicBezTo>
                  <a:pt x="291" y="91"/>
                  <a:pt x="299" y="57"/>
                  <a:pt x="300" y="54"/>
                </a:cubicBezTo>
                <a:cubicBezTo>
                  <a:pt x="296" y="42"/>
                  <a:pt x="292" y="30"/>
                  <a:pt x="288" y="18"/>
                </a:cubicBezTo>
                <a:cubicBezTo>
                  <a:pt x="286" y="12"/>
                  <a:pt x="282" y="0"/>
                  <a:pt x="282" y="0"/>
                </a:cubicBezTo>
                <a:cubicBezTo>
                  <a:pt x="262" y="7"/>
                  <a:pt x="258" y="6"/>
                  <a:pt x="270" y="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28"/>
          <p:cNvSpPr/>
          <p:nvPr/>
        </p:nvSpPr>
        <p:spPr>
          <a:xfrm>
            <a:off x="5248440" y="2390760"/>
            <a:ext cx="976320" cy="898560"/>
          </a:xfrm>
          <a:custGeom>
            <a:avLst/>
            <a:gdLst/>
            <a:ahLst/>
            <a:rect l="l" t="t" r="r" b="b"/>
            <a:pathLst>
              <a:path w="624" h="582">
                <a:moveTo>
                  <a:pt x="252" y="504"/>
                </a:moveTo>
                <a:cubicBezTo>
                  <a:pt x="242" y="502"/>
                  <a:pt x="231" y="503"/>
                  <a:pt x="222" y="498"/>
                </a:cubicBezTo>
                <a:cubicBezTo>
                  <a:pt x="199" y="485"/>
                  <a:pt x="212" y="450"/>
                  <a:pt x="198" y="432"/>
                </a:cubicBezTo>
                <a:cubicBezTo>
                  <a:pt x="190" y="421"/>
                  <a:pt x="174" y="418"/>
                  <a:pt x="162" y="414"/>
                </a:cubicBezTo>
                <a:cubicBezTo>
                  <a:pt x="158" y="402"/>
                  <a:pt x="154" y="390"/>
                  <a:pt x="150" y="378"/>
                </a:cubicBezTo>
                <a:cubicBezTo>
                  <a:pt x="148" y="372"/>
                  <a:pt x="138" y="374"/>
                  <a:pt x="132" y="372"/>
                </a:cubicBezTo>
                <a:cubicBezTo>
                  <a:pt x="74" y="358"/>
                  <a:pt x="125" y="374"/>
                  <a:pt x="84" y="360"/>
                </a:cubicBezTo>
                <a:cubicBezTo>
                  <a:pt x="61" y="326"/>
                  <a:pt x="42" y="288"/>
                  <a:pt x="24" y="252"/>
                </a:cubicBezTo>
                <a:cubicBezTo>
                  <a:pt x="15" y="234"/>
                  <a:pt x="0" y="198"/>
                  <a:pt x="0" y="198"/>
                </a:cubicBezTo>
                <a:cubicBezTo>
                  <a:pt x="14" y="155"/>
                  <a:pt x="1" y="169"/>
                  <a:pt x="30" y="150"/>
                </a:cubicBezTo>
                <a:cubicBezTo>
                  <a:pt x="50" y="157"/>
                  <a:pt x="64" y="167"/>
                  <a:pt x="84" y="174"/>
                </a:cubicBezTo>
                <a:cubicBezTo>
                  <a:pt x="96" y="170"/>
                  <a:pt x="118" y="174"/>
                  <a:pt x="120" y="162"/>
                </a:cubicBezTo>
                <a:cubicBezTo>
                  <a:pt x="122" y="152"/>
                  <a:pt x="118" y="138"/>
                  <a:pt x="126" y="132"/>
                </a:cubicBezTo>
                <a:cubicBezTo>
                  <a:pt x="144" y="118"/>
                  <a:pt x="170" y="121"/>
                  <a:pt x="192" y="114"/>
                </a:cubicBezTo>
                <a:cubicBezTo>
                  <a:pt x="200" y="102"/>
                  <a:pt x="208" y="90"/>
                  <a:pt x="216" y="78"/>
                </a:cubicBezTo>
                <a:cubicBezTo>
                  <a:pt x="220" y="72"/>
                  <a:pt x="228" y="60"/>
                  <a:pt x="228" y="60"/>
                </a:cubicBezTo>
                <a:cubicBezTo>
                  <a:pt x="215" y="21"/>
                  <a:pt x="249" y="11"/>
                  <a:pt x="282" y="0"/>
                </a:cubicBezTo>
                <a:cubicBezTo>
                  <a:pt x="312" y="6"/>
                  <a:pt x="326" y="6"/>
                  <a:pt x="336" y="36"/>
                </a:cubicBezTo>
                <a:cubicBezTo>
                  <a:pt x="332" y="48"/>
                  <a:pt x="328" y="60"/>
                  <a:pt x="324" y="72"/>
                </a:cubicBezTo>
                <a:cubicBezTo>
                  <a:pt x="322" y="78"/>
                  <a:pt x="318" y="90"/>
                  <a:pt x="318" y="90"/>
                </a:cubicBezTo>
                <a:cubicBezTo>
                  <a:pt x="321" y="106"/>
                  <a:pt x="317" y="128"/>
                  <a:pt x="330" y="138"/>
                </a:cubicBezTo>
                <a:cubicBezTo>
                  <a:pt x="340" y="145"/>
                  <a:pt x="366" y="150"/>
                  <a:pt x="366" y="150"/>
                </a:cubicBezTo>
                <a:cubicBezTo>
                  <a:pt x="418" y="133"/>
                  <a:pt x="445" y="145"/>
                  <a:pt x="504" y="150"/>
                </a:cubicBezTo>
                <a:cubicBezTo>
                  <a:pt x="528" y="158"/>
                  <a:pt x="533" y="170"/>
                  <a:pt x="558" y="162"/>
                </a:cubicBezTo>
                <a:cubicBezTo>
                  <a:pt x="565" y="173"/>
                  <a:pt x="599" y="230"/>
                  <a:pt x="600" y="234"/>
                </a:cubicBezTo>
                <a:cubicBezTo>
                  <a:pt x="604" y="246"/>
                  <a:pt x="612" y="270"/>
                  <a:pt x="612" y="270"/>
                </a:cubicBezTo>
                <a:cubicBezTo>
                  <a:pt x="574" y="283"/>
                  <a:pt x="605" y="293"/>
                  <a:pt x="624" y="306"/>
                </a:cubicBezTo>
                <a:cubicBezTo>
                  <a:pt x="618" y="310"/>
                  <a:pt x="612" y="315"/>
                  <a:pt x="606" y="318"/>
                </a:cubicBezTo>
                <a:cubicBezTo>
                  <a:pt x="600" y="321"/>
                  <a:pt x="592" y="319"/>
                  <a:pt x="588" y="324"/>
                </a:cubicBezTo>
                <a:cubicBezTo>
                  <a:pt x="544" y="379"/>
                  <a:pt x="621" y="322"/>
                  <a:pt x="564" y="360"/>
                </a:cubicBezTo>
                <a:cubicBezTo>
                  <a:pt x="550" y="403"/>
                  <a:pt x="563" y="389"/>
                  <a:pt x="534" y="408"/>
                </a:cubicBezTo>
                <a:cubicBezTo>
                  <a:pt x="530" y="414"/>
                  <a:pt x="527" y="421"/>
                  <a:pt x="522" y="426"/>
                </a:cubicBezTo>
                <a:cubicBezTo>
                  <a:pt x="517" y="431"/>
                  <a:pt x="509" y="432"/>
                  <a:pt x="504" y="438"/>
                </a:cubicBezTo>
                <a:cubicBezTo>
                  <a:pt x="500" y="443"/>
                  <a:pt x="503" y="452"/>
                  <a:pt x="498" y="456"/>
                </a:cubicBezTo>
                <a:cubicBezTo>
                  <a:pt x="484" y="465"/>
                  <a:pt x="464" y="460"/>
                  <a:pt x="450" y="468"/>
                </a:cubicBezTo>
                <a:cubicBezTo>
                  <a:pt x="437" y="475"/>
                  <a:pt x="414" y="492"/>
                  <a:pt x="414" y="492"/>
                </a:cubicBezTo>
                <a:cubicBezTo>
                  <a:pt x="372" y="481"/>
                  <a:pt x="350" y="506"/>
                  <a:pt x="312" y="516"/>
                </a:cubicBezTo>
                <a:cubicBezTo>
                  <a:pt x="314" y="522"/>
                  <a:pt x="314" y="529"/>
                  <a:pt x="318" y="534"/>
                </a:cubicBezTo>
                <a:cubicBezTo>
                  <a:pt x="323" y="540"/>
                  <a:pt x="333" y="539"/>
                  <a:pt x="336" y="546"/>
                </a:cubicBezTo>
                <a:cubicBezTo>
                  <a:pt x="345" y="569"/>
                  <a:pt x="283" y="578"/>
                  <a:pt x="270" y="582"/>
                </a:cubicBezTo>
                <a:cubicBezTo>
                  <a:pt x="228" y="568"/>
                  <a:pt x="282" y="568"/>
                  <a:pt x="306" y="552"/>
                </a:cubicBezTo>
                <a:cubicBezTo>
                  <a:pt x="280" y="512"/>
                  <a:pt x="320" y="529"/>
                  <a:pt x="282" y="504"/>
                </a:cubicBezTo>
                <a:cubicBezTo>
                  <a:pt x="276" y="506"/>
                  <a:pt x="270" y="511"/>
                  <a:pt x="264" y="510"/>
                </a:cubicBezTo>
                <a:cubicBezTo>
                  <a:pt x="256" y="509"/>
                  <a:pt x="236" y="488"/>
                  <a:pt x="252" y="504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29"/>
          <p:cNvSpPr/>
          <p:nvPr/>
        </p:nvSpPr>
        <p:spPr>
          <a:xfrm>
            <a:off x="2408400" y="1066680"/>
            <a:ext cx="4458960" cy="1979640"/>
          </a:xfrm>
          <a:custGeom>
            <a:avLst/>
            <a:gdLst/>
            <a:ahLst/>
            <a:rect l="l" t="t" r="r" b="b"/>
            <a:pathLst>
              <a:path w="2857" h="1284">
                <a:moveTo>
                  <a:pt x="14" y="720"/>
                </a:moveTo>
                <a:cubicBezTo>
                  <a:pt x="53" y="707"/>
                  <a:pt x="23" y="685"/>
                  <a:pt x="62" y="672"/>
                </a:cubicBezTo>
                <a:cubicBezTo>
                  <a:pt x="94" y="624"/>
                  <a:pt x="191" y="599"/>
                  <a:pt x="248" y="588"/>
                </a:cubicBezTo>
                <a:cubicBezTo>
                  <a:pt x="280" y="599"/>
                  <a:pt x="311" y="586"/>
                  <a:pt x="344" y="594"/>
                </a:cubicBezTo>
                <a:cubicBezTo>
                  <a:pt x="373" y="613"/>
                  <a:pt x="355" y="608"/>
                  <a:pt x="398" y="594"/>
                </a:cubicBezTo>
                <a:cubicBezTo>
                  <a:pt x="404" y="592"/>
                  <a:pt x="416" y="588"/>
                  <a:pt x="416" y="588"/>
                </a:cubicBezTo>
                <a:cubicBezTo>
                  <a:pt x="445" y="595"/>
                  <a:pt x="466" y="591"/>
                  <a:pt x="494" y="582"/>
                </a:cubicBezTo>
                <a:cubicBezTo>
                  <a:pt x="502" y="570"/>
                  <a:pt x="510" y="558"/>
                  <a:pt x="518" y="546"/>
                </a:cubicBezTo>
                <a:cubicBezTo>
                  <a:pt x="522" y="540"/>
                  <a:pt x="523" y="530"/>
                  <a:pt x="530" y="528"/>
                </a:cubicBezTo>
                <a:cubicBezTo>
                  <a:pt x="542" y="524"/>
                  <a:pt x="566" y="516"/>
                  <a:pt x="566" y="516"/>
                </a:cubicBezTo>
                <a:cubicBezTo>
                  <a:pt x="583" y="490"/>
                  <a:pt x="604" y="481"/>
                  <a:pt x="614" y="450"/>
                </a:cubicBezTo>
                <a:cubicBezTo>
                  <a:pt x="598" y="402"/>
                  <a:pt x="645" y="376"/>
                  <a:pt x="686" y="366"/>
                </a:cubicBezTo>
                <a:cubicBezTo>
                  <a:pt x="689" y="364"/>
                  <a:pt x="727" y="348"/>
                  <a:pt x="728" y="348"/>
                </a:cubicBezTo>
                <a:cubicBezTo>
                  <a:pt x="740" y="340"/>
                  <a:pt x="746" y="326"/>
                  <a:pt x="758" y="318"/>
                </a:cubicBezTo>
                <a:cubicBezTo>
                  <a:pt x="766" y="306"/>
                  <a:pt x="780" y="300"/>
                  <a:pt x="788" y="288"/>
                </a:cubicBezTo>
                <a:cubicBezTo>
                  <a:pt x="806" y="262"/>
                  <a:pt x="784" y="253"/>
                  <a:pt x="824" y="240"/>
                </a:cubicBezTo>
                <a:cubicBezTo>
                  <a:pt x="855" y="194"/>
                  <a:pt x="837" y="201"/>
                  <a:pt x="902" y="192"/>
                </a:cubicBezTo>
                <a:cubicBezTo>
                  <a:pt x="914" y="188"/>
                  <a:pt x="927" y="187"/>
                  <a:pt x="938" y="180"/>
                </a:cubicBezTo>
                <a:cubicBezTo>
                  <a:pt x="944" y="176"/>
                  <a:pt x="949" y="171"/>
                  <a:pt x="956" y="168"/>
                </a:cubicBezTo>
                <a:cubicBezTo>
                  <a:pt x="968" y="163"/>
                  <a:pt x="992" y="156"/>
                  <a:pt x="992" y="156"/>
                </a:cubicBezTo>
                <a:cubicBezTo>
                  <a:pt x="998" y="146"/>
                  <a:pt x="1039" y="107"/>
                  <a:pt x="1010" y="150"/>
                </a:cubicBezTo>
                <a:cubicBezTo>
                  <a:pt x="1039" y="169"/>
                  <a:pt x="1021" y="164"/>
                  <a:pt x="1064" y="150"/>
                </a:cubicBezTo>
                <a:cubicBezTo>
                  <a:pt x="1079" y="145"/>
                  <a:pt x="1096" y="147"/>
                  <a:pt x="1112" y="144"/>
                </a:cubicBezTo>
                <a:cubicBezTo>
                  <a:pt x="1152" y="137"/>
                  <a:pt x="1186" y="126"/>
                  <a:pt x="1226" y="120"/>
                </a:cubicBezTo>
                <a:cubicBezTo>
                  <a:pt x="1256" y="110"/>
                  <a:pt x="1285" y="106"/>
                  <a:pt x="1316" y="102"/>
                </a:cubicBezTo>
                <a:cubicBezTo>
                  <a:pt x="1354" y="105"/>
                  <a:pt x="1392" y="114"/>
                  <a:pt x="1430" y="114"/>
                </a:cubicBezTo>
                <a:cubicBezTo>
                  <a:pt x="1499" y="114"/>
                  <a:pt x="1586" y="88"/>
                  <a:pt x="1652" y="66"/>
                </a:cubicBezTo>
                <a:cubicBezTo>
                  <a:pt x="1691" y="53"/>
                  <a:pt x="1727" y="37"/>
                  <a:pt x="1766" y="24"/>
                </a:cubicBezTo>
                <a:cubicBezTo>
                  <a:pt x="1785" y="18"/>
                  <a:pt x="1820" y="0"/>
                  <a:pt x="1820" y="0"/>
                </a:cubicBezTo>
                <a:cubicBezTo>
                  <a:pt x="1826" y="2"/>
                  <a:pt x="1838" y="0"/>
                  <a:pt x="1838" y="6"/>
                </a:cubicBezTo>
                <a:cubicBezTo>
                  <a:pt x="1838" y="12"/>
                  <a:pt x="1814" y="11"/>
                  <a:pt x="1820" y="12"/>
                </a:cubicBezTo>
                <a:cubicBezTo>
                  <a:pt x="1865" y="21"/>
                  <a:pt x="1899" y="31"/>
                  <a:pt x="1946" y="36"/>
                </a:cubicBezTo>
                <a:cubicBezTo>
                  <a:pt x="1983" y="24"/>
                  <a:pt x="2004" y="49"/>
                  <a:pt x="2036" y="60"/>
                </a:cubicBezTo>
                <a:cubicBezTo>
                  <a:pt x="2071" y="48"/>
                  <a:pt x="2097" y="69"/>
                  <a:pt x="2126" y="84"/>
                </a:cubicBezTo>
                <a:cubicBezTo>
                  <a:pt x="2154" y="98"/>
                  <a:pt x="2191" y="103"/>
                  <a:pt x="2216" y="120"/>
                </a:cubicBezTo>
                <a:cubicBezTo>
                  <a:pt x="2228" y="128"/>
                  <a:pt x="2238" y="139"/>
                  <a:pt x="2252" y="144"/>
                </a:cubicBezTo>
                <a:cubicBezTo>
                  <a:pt x="2302" y="161"/>
                  <a:pt x="2277" y="149"/>
                  <a:pt x="2324" y="180"/>
                </a:cubicBezTo>
                <a:cubicBezTo>
                  <a:pt x="2330" y="184"/>
                  <a:pt x="2342" y="192"/>
                  <a:pt x="2342" y="192"/>
                </a:cubicBezTo>
                <a:cubicBezTo>
                  <a:pt x="2346" y="198"/>
                  <a:pt x="2349" y="205"/>
                  <a:pt x="2354" y="210"/>
                </a:cubicBezTo>
                <a:cubicBezTo>
                  <a:pt x="2365" y="219"/>
                  <a:pt x="2390" y="234"/>
                  <a:pt x="2390" y="234"/>
                </a:cubicBezTo>
                <a:cubicBezTo>
                  <a:pt x="2409" y="263"/>
                  <a:pt x="2445" y="263"/>
                  <a:pt x="2474" y="282"/>
                </a:cubicBezTo>
                <a:cubicBezTo>
                  <a:pt x="2481" y="293"/>
                  <a:pt x="2483" y="309"/>
                  <a:pt x="2492" y="318"/>
                </a:cubicBezTo>
                <a:cubicBezTo>
                  <a:pt x="2518" y="344"/>
                  <a:pt x="2553" y="353"/>
                  <a:pt x="2582" y="372"/>
                </a:cubicBezTo>
                <a:cubicBezTo>
                  <a:pt x="2586" y="378"/>
                  <a:pt x="2589" y="385"/>
                  <a:pt x="2594" y="390"/>
                </a:cubicBezTo>
                <a:cubicBezTo>
                  <a:pt x="2599" y="395"/>
                  <a:pt x="2607" y="396"/>
                  <a:pt x="2612" y="402"/>
                </a:cubicBezTo>
                <a:cubicBezTo>
                  <a:pt x="2635" y="431"/>
                  <a:pt x="2597" y="413"/>
                  <a:pt x="2636" y="426"/>
                </a:cubicBezTo>
                <a:cubicBezTo>
                  <a:pt x="2652" y="450"/>
                  <a:pt x="2710" y="491"/>
                  <a:pt x="2738" y="510"/>
                </a:cubicBezTo>
                <a:cubicBezTo>
                  <a:pt x="2757" y="539"/>
                  <a:pt x="2789" y="559"/>
                  <a:pt x="2822" y="570"/>
                </a:cubicBezTo>
                <a:cubicBezTo>
                  <a:pt x="2840" y="597"/>
                  <a:pt x="2842" y="624"/>
                  <a:pt x="2852" y="654"/>
                </a:cubicBezTo>
                <a:cubicBezTo>
                  <a:pt x="2838" y="695"/>
                  <a:pt x="2857" y="651"/>
                  <a:pt x="2828" y="684"/>
                </a:cubicBezTo>
                <a:cubicBezTo>
                  <a:pt x="2779" y="740"/>
                  <a:pt x="2827" y="705"/>
                  <a:pt x="2786" y="732"/>
                </a:cubicBezTo>
                <a:cubicBezTo>
                  <a:pt x="2778" y="744"/>
                  <a:pt x="2770" y="756"/>
                  <a:pt x="2762" y="768"/>
                </a:cubicBezTo>
                <a:cubicBezTo>
                  <a:pt x="2755" y="779"/>
                  <a:pt x="2737" y="773"/>
                  <a:pt x="2726" y="780"/>
                </a:cubicBezTo>
                <a:cubicBezTo>
                  <a:pt x="2720" y="784"/>
                  <a:pt x="2715" y="790"/>
                  <a:pt x="2708" y="792"/>
                </a:cubicBezTo>
                <a:cubicBezTo>
                  <a:pt x="2692" y="796"/>
                  <a:pt x="2676" y="796"/>
                  <a:pt x="2660" y="798"/>
                </a:cubicBezTo>
                <a:cubicBezTo>
                  <a:pt x="2654" y="800"/>
                  <a:pt x="2646" y="800"/>
                  <a:pt x="2642" y="804"/>
                </a:cubicBezTo>
                <a:cubicBezTo>
                  <a:pt x="2632" y="814"/>
                  <a:pt x="2630" y="832"/>
                  <a:pt x="2618" y="840"/>
                </a:cubicBezTo>
                <a:cubicBezTo>
                  <a:pt x="2588" y="860"/>
                  <a:pt x="2555" y="865"/>
                  <a:pt x="2522" y="876"/>
                </a:cubicBezTo>
                <a:cubicBezTo>
                  <a:pt x="2505" y="926"/>
                  <a:pt x="2497" y="884"/>
                  <a:pt x="2486" y="870"/>
                </a:cubicBezTo>
                <a:cubicBezTo>
                  <a:pt x="2481" y="864"/>
                  <a:pt x="2474" y="862"/>
                  <a:pt x="2468" y="858"/>
                </a:cubicBezTo>
                <a:cubicBezTo>
                  <a:pt x="2426" y="886"/>
                  <a:pt x="2440" y="870"/>
                  <a:pt x="2420" y="900"/>
                </a:cubicBezTo>
                <a:cubicBezTo>
                  <a:pt x="2380" y="887"/>
                  <a:pt x="2412" y="877"/>
                  <a:pt x="2432" y="870"/>
                </a:cubicBezTo>
                <a:cubicBezTo>
                  <a:pt x="2441" y="844"/>
                  <a:pt x="2437" y="837"/>
                  <a:pt x="2414" y="822"/>
                </a:cubicBezTo>
                <a:cubicBezTo>
                  <a:pt x="2379" y="834"/>
                  <a:pt x="2372" y="874"/>
                  <a:pt x="2342" y="894"/>
                </a:cubicBezTo>
                <a:cubicBezTo>
                  <a:pt x="2305" y="950"/>
                  <a:pt x="2396" y="955"/>
                  <a:pt x="2432" y="960"/>
                </a:cubicBezTo>
                <a:cubicBezTo>
                  <a:pt x="2420" y="964"/>
                  <a:pt x="2405" y="963"/>
                  <a:pt x="2396" y="972"/>
                </a:cubicBezTo>
                <a:cubicBezTo>
                  <a:pt x="2374" y="994"/>
                  <a:pt x="2372" y="1006"/>
                  <a:pt x="2342" y="1014"/>
                </a:cubicBezTo>
                <a:cubicBezTo>
                  <a:pt x="2273" y="1004"/>
                  <a:pt x="2245" y="1000"/>
                  <a:pt x="2162" y="996"/>
                </a:cubicBezTo>
                <a:cubicBezTo>
                  <a:pt x="2117" y="966"/>
                  <a:pt x="2149" y="950"/>
                  <a:pt x="2162" y="912"/>
                </a:cubicBezTo>
                <a:cubicBezTo>
                  <a:pt x="2149" y="873"/>
                  <a:pt x="2139" y="879"/>
                  <a:pt x="2108" y="858"/>
                </a:cubicBezTo>
                <a:cubicBezTo>
                  <a:pt x="2092" y="861"/>
                  <a:pt x="2070" y="857"/>
                  <a:pt x="2060" y="870"/>
                </a:cubicBezTo>
                <a:cubicBezTo>
                  <a:pt x="2036" y="904"/>
                  <a:pt x="2064" y="915"/>
                  <a:pt x="2018" y="930"/>
                </a:cubicBezTo>
                <a:cubicBezTo>
                  <a:pt x="1997" y="962"/>
                  <a:pt x="2004" y="942"/>
                  <a:pt x="2030" y="942"/>
                </a:cubicBezTo>
                <a:cubicBezTo>
                  <a:pt x="2036" y="942"/>
                  <a:pt x="2018" y="945"/>
                  <a:pt x="2012" y="948"/>
                </a:cubicBezTo>
                <a:cubicBezTo>
                  <a:pt x="2006" y="951"/>
                  <a:pt x="2001" y="957"/>
                  <a:pt x="1994" y="960"/>
                </a:cubicBezTo>
                <a:cubicBezTo>
                  <a:pt x="1930" y="989"/>
                  <a:pt x="1981" y="957"/>
                  <a:pt x="1940" y="984"/>
                </a:cubicBezTo>
                <a:cubicBezTo>
                  <a:pt x="1926" y="1026"/>
                  <a:pt x="1940" y="1016"/>
                  <a:pt x="1910" y="1026"/>
                </a:cubicBezTo>
                <a:cubicBezTo>
                  <a:pt x="1898" y="1022"/>
                  <a:pt x="1886" y="1018"/>
                  <a:pt x="1874" y="1014"/>
                </a:cubicBezTo>
                <a:cubicBezTo>
                  <a:pt x="1868" y="1012"/>
                  <a:pt x="1856" y="1008"/>
                  <a:pt x="1856" y="1008"/>
                </a:cubicBezTo>
                <a:cubicBezTo>
                  <a:pt x="1831" y="1016"/>
                  <a:pt x="1823" y="1010"/>
                  <a:pt x="1802" y="996"/>
                </a:cubicBezTo>
                <a:cubicBezTo>
                  <a:pt x="1787" y="951"/>
                  <a:pt x="1809" y="1005"/>
                  <a:pt x="1778" y="966"/>
                </a:cubicBezTo>
                <a:cubicBezTo>
                  <a:pt x="1745" y="925"/>
                  <a:pt x="1806" y="970"/>
                  <a:pt x="1754" y="936"/>
                </a:cubicBezTo>
                <a:cubicBezTo>
                  <a:pt x="1745" y="909"/>
                  <a:pt x="1724" y="868"/>
                  <a:pt x="1700" y="852"/>
                </a:cubicBezTo>
                <a:cubicBezTo>
                  <a:pt x="1662" y="795"/>
                  <a:pt x="1584" y="779"/>
                  <a:pt x="1520" y="768"/>
                </a:cubicBezTo>
                <a:cubicBezTo>
                  <a:pt x="1510" y="769"/>
                  <a:pt x="1470" y="771"/>
                  <a:pt x="1454" y="780"/>
                </a:cubicBezTo>
                <a:cubicBezTo>
                  <a:pt x="1435" y="791"/>
                  <a:pt x="1421" y="809"/>
                  <a:pt x="1400" y="816"/>
                </a:cubicBezTo>
                <a:cubicBezTo>
                  <a:pt x="1357" y="830"/>
                  <a:pt x="1375" y="821"/>
                  <a:pt x="1346" y="840"/>
                </a:cubicBezTo>
                <a:cubicBezTo>
                  <a:pt x="1335" y="857"/>
                  <a:pt x="1309" y="908"/>
                  <a:pt x="1304" y="930"/>
                </a:cubicBezTo>
                <a:cubicBezTo>
                  <a:pt x="1300" y="948"/>
                  <a:pt x="1305" y="971"/>
                  <a:pt x="1292" y="984"/>
                </a:cubicBezTo>
                <a:cubicBezTo>
                  <a:pt x="1279" y="997"/>
                  <a:pt x="1256" y="993"/>
                  <a:pt x="1238" y="996"/>
                </a:cubicBezTo>
                <a:cubicBezTo>
                  <a:pt x="1166" y="1044"/>
                  <a:pt x="1187" y="1142"/>
                  <a:pt x="1118" y="1188"/>
                </a:cubicBezTo>
                <a:cubicBezTo>
                  <a:pt x="1105" y="1207"/>
                  <a:pt x="1085" y="1215"/>
                  <a:pt x="1076" y="1236"/>
                </a:cubicBezTo>
                <a:cubicBezTo>
                  <a:pt x="1055" y="1283"/>
                  <a:pt x="1078" y="1262"/>
                  <a:pt x="1046" y="1284"/>
                </a:cubicBezTo>
                <a:cubicBezTo>
                  <a:pt x="1034" y="1280"/>
                  <a:pt x="1022" y="1276"/>
                  <a:pt x="1010" y="1272"/>
                </a:cubicBezTo>
                <a:cubicBezTo>
                  <a:pt x="1004" y="1270"/>
                  <a:pt x="992" y="1266"/>
                  <a:pt x="992" y="1266"/>
                </a:cubicBezTo>
                <a:cubicBezTo>
                  <a:pt x="958" y="1274"/>
                  <a:pt x="924" y="1276"/>
                  <a:pt x="890" y="1284"/>
                </a:cubicBezTo>
                <a:cubicBezTo>
                  <a:pt x="841" y="1268"/>
                  <a:pt x="867" y="1274"/>
                  <a:pt x="812" y="1266"/>
                </a:cubicBezTo>
                <a:cubicBezTo>
                  <a:pt x="801" y="1250"/>
                  <a:pt x="788" y="1212"/>
                  <a:pt x="788" y="1212"/>
                </a:cubicBezTo>
                <a:cubicBezTo>
                  <a:pt x="746" y="1226"/>
                  <a:pt x="786" y="1243"/>
                  <a:pt x="746" y="1230"/>
                </a:cubicBezTo>
                <a:cubicBezTo>
                  <a:pt x="734" y="1234"/>
                  <a:pt x="721" y="1249"/>
                  <a:pt x="710" y="1242"/>
                </a:cubicBezTo>
                <a:cubicBezTo>
                  <a:pt x="698" y="1234"/>
                  <a:pt x="674" y="1218"/>
                  <a:pt x="674" y="1218"/>
                </a:cubicBezTo>
                <a:cubicBezTo>
                  <a:pt x="662" y="1200"/>
                  <a:pt x="656" y="1182"/>
                  <a:pt x="644" y="1164"/>
                </a:cubicBezTo>
                <a:cubicBezTo>
                  <a:pt x="650" y="1160"/>
                  <a:pt x="655" y="1153"/>
                  <a:pt x="662" y="1152"/>
                </a:cubicBezTo>
                <a:cubicBezTo>
                  <a:pt x="668" y="1151"/>
                  <a:pt x="684" y="1154"/>
                  <a:pt x="680" y="1158"/>
                </a:cubicBezTo>
                <a:cubicBezTo>
                  <a:pt x="671" y="1167"/>
                  <a:pt x="644" y="1170"/>
                  <a:pt x="644" y="1170"/>
                </a:cubicBezTo>
                <a:cubicBezTo>
                  <a:pt x="622" y="1155"/>
                  <a:pt x="627" y="1142"/>
                  <a:pt x="602" y="1134"/>
                </a:cubicBezTo>
                <a:cubicBezTo>
                  <a:pt x="598" y="1128"/>
                  <a:pt x="593" y="1123"/>
                  <a:pt x="590" y="1116"/>
                </a:cubicBezTo>
                <a:cubicBezTo>
                  <a:pt x="585" y="1104"/>
                  <a:pt x="590" y="1084"/>
                  <a:pt x="578" y="1080"/>
                </a:cubicBezTo>
                <a:cubicBezTo>
                  <a:pt x="566" y="1076"/>
                  <a:pt x="542" y="1068"/>
                  <a:pt x="542" y="1068"/>
                </a:cubicBezTo>
                <a:cubicBezTo>
                  <a:pt x="534" y="1044"/>
                  <a:pt x="527" y="1034"/>
                  <a:pt x="506" y="1020"/>
                </a:cubicBezTo>
                <a:cubicBezTo>
                  <a:pt x="500" y="1022"/>
                  <a:pt x="491" y="1032"/>
                  <a:pt x="488" y="1026"/>
                </a:cubicBezTo>
                <a:cubicBezTo>
                  <a:pt x="485" y="1020"/>
                  <a:pt x="499" y="1015"/>
                  <a:pt x="500" y="1008"/>
                </a:cubicBezTo>
                <a:cubicBezTo>
                  <a:pt x="503" y="984"/>
                  <a:pt x="482" y="949"/>
                  <a:pt x="476" y="924"/>
                </a:cubicBezTo>
                <a:cubicBezTo>
                  <a:pt x="487" y="890"/>
                  <a:pt x="507" y="907"/>
                  <a:pt x="536" y="888"/>
                </a:cubicBezTo>
                <a:cubicBezTo>
                  <a:pt x="542" y="870"/>
                  <a:pt x="548" y="852"/>
                  <a:pt x="554" y="834"/>
                </a:cubicBezTo>
                <a:cubicBezTo>
                  <a:pt x="556" y="828"/>
                  <a:pt x="560" y="816"/>
                  <a:pt x="560" y="816"/>
                </a:cubicBezTo>
                <a:cubicBezTo>
                  <a:pt x="542" y="761"/>
                  <a:pt x="480" y="751"/>
                  <a:pt x="428" y="744"/>
                </a:cubicBezTo>
                <a:cubicBezTo>
                  <a:pt x="422" y="742"/>
                  <a:pt x="414" y="742"/>
                  <a:pt x="410" y="738"/>
                </a:cubicBezTo>
                <a:cubicBezTo>
                  <a:pt x="406" y="734"/>
                  <a:pt x="410" y="722"/>
                  <a:pt x="404" y="720"/>
                </a:cubicBezTo>
                <a:cubicBezTo>
                  <a:pt x="396" y="717"/>
                  <a:pt x="388" y="724"/>
                  <a:pt x="380" y="726"/>
                </a:cubicBezTo>
                <a:cubicBezTo>
                  <a:pt x="339" y="738"/>
                  <a:pt x="391" y="727"/>
                  <a:pt x="326" y="738"/>
                </a:cubicBezTo>
                <a:cubicBezTo>
                  <a:pt x="287" y="725"/>
                  <a:pt x="299" y="702"/>
                  <a:pt x="326" y="684"/>
                </a:cubicBezTo>
                <a:cubicBezTo>
                  <a:pt x="328" y="678"/>
                  <a:pt x="338" y="667"/>
                  <a:pt x="332" y="666"/>
                </a:cubicBezTo>
                <a:cubicBezTo>
                  <a:pt x="320" y="664"/>
                  <a:pt x="308" y="674"/>
                  <a:pt x="296" y="678"/>
                </a:cubicBezTo>
                <a:cubicBezTo>
                  <a:pt x="281" y="683"/>
                  <a:pt x="264" y="682"/>
                  <a:pt x="248" y="684"/>
                </a:cubicBezTo>
                <a:cubicBezTo>
                  <a:pt x="233" y="707"/>
                  <a:pt x="235" y="723"/>
                  <a:pt x="212" y="738"/>
                </a:cubicBezTo>
                <a:cubicBezTo>
                  <a:pt x="198" y="717"/>
                  <a:pt x="201" y="704"/>
                  <a:pt x="176" y="696"/>
                </a:cubicBezTo>
                <a:cubicBezTo>
                  <a:pt x="172" y="690"/>
                  <a:pt x="171" y="677"/>
                  <a:pt x="164" y="678"/>
                </a:cubicBezTo>
                <a:cubicBezTo>
                  <a:pt x="154" y="679"/>
                  <a:pt x="89" y="728"/>
                  <a:pt x="74" y="738"/>
                </a:cubicBezTo>
                <a:cubicBezTo>
                  <a:pt x="57" y="749"/>
                  <a:pt x="20" y="768"/>
                  <a:pt x="20" y="768"/>
                </a:cubicBezTo>
                <a:cubicBezTo>
                  <a:pt x="14" y="766"/>
                  <a:pt x="3" y="768"/>
                  <a:pt x="2" y="762"/>
                </a:cubicBezTo>
                <a:cubicBezTo>
                  <a:pt x="0" y="749"/>
                  <a:pt x="10" y="738"/>
                  <a:pt x="14" y="726"/>
                </a:cubicBezTo>
                <a:cubicBezTo>
                  <a:pt x="16" y="720"/>
                  <a:pt x="20" y="708"/>
                  <a:pt x="20" y="708"/>
                </a:cubicBezTo>
                <a:cubicBezTo>
                  <a:pt x="2" y="682"/>
                  <a:pt x="7" y="683"/>
                  <a:pt x="14" y="720"/>
                </a:cubicBezTo>
                <a:close/>
              </a:path>
            </a:pathLst>
          </a:custGeom>
          <a:solidFill>
            <a:srgbClr val="99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0"/>
          <p:cNvSpPr/>
          <p:nvPr/>
        </p:nvSpPr>
        <p:spPr>
          <a:xfrm>
            <a:off x="3459240" y="1855800"/>
            <a:ext cx="15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gol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2787480" y="118584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2"/>
          <p:cNvSpPr/>
          <p:nvPr/>
        </p:nvSpPr>
        <p:spPr>
          <a:xfrm>
            <a:off x="5483160" y="2630520"/>
            <a:ext cx="8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g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3"/>
          <p:cNvSpPr/>
          <p:nvPr/>
        </p:nvSpPr>
        <p:spPr>
          <a:xfrm>
            <a:off x="6307200" y="233028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4"/>
          <p:cNvSpPr/>
          <p:nvPr/>
        </p:nvSpPr>
        <p:spPr>
          <a:xfrm>
            <a:off x="6605640" y="2644920"/>
            <a:ext cx="1197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makur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6"/>
          <p:cNvSpPr/>
          <p:nvPr/>
        </p:nvSpPr>
        <p:spPr>
          <a:xfrm>
            <a:off x="4133880" y="2892600"/>
            <a:ext cx="976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hi Sult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7"/>
          <p:cNvSpPr/>
          <p:nvPr/>
        </p:nvSpPr>
        <p:spPr>
          <a:xfrm>
            <a:off x="914400" y="1039680"/>
            <a:ext cx="1271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danavian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38"/>
          <p:cNvSpPr/>
          <p:nvPr/>
        </p:nvSpPr>
        <p:spPr>
          <a:xfrm>
            <a:off x="841320" y="31878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39"/>
          <p:cNvSpPr/>
          <p:nvPr/>
        </p:nvSpPr>
        <p:spPr>
          <a:xfrm>
            <a:off x="1589040" y="459576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0"/>
          <p:cNvSpPr/>
          <p:nvPr/>
        </p:nvSpPr>
        <p:spPr>
          <a:xfrm>
            <a:off x="1662120" y="371016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1"/>
          <p:cNvSpPr/>
          <p:nvPr/>
        </p:nvSpPr>
        <p:spPr>
          <a:xfrm>
            <a:off x="1063800" y="35575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2"/>
          <p:cNvSpPr/>
          <p:nvPr/>
        </p:nvSpPr>
        <p:spPr>
          <a:xfrm>
            <a:off x="690480" y="192888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43"/>
          <p:cNvSpPr/>
          <p:nvPr/>
        </p:nvSpPr>
        <p:spPr>
          <a:xfrm>
            <a:off x="457200" y="1044720"/>
            <a:ext cx="434880" cy="169560"/>
          </a:xfrm>
          <a:custGeom>
            <a:avLst/>
            <a:gdLst/>
            <a:ahLst/>
            <a:rect l="l" t="t" r="r" b="b"/>
            <a:pathLst>
              <a:path w="280" h="110">
                <a:moveTo>
                  <a:pt x="190" y="8"/>
                </a:moveTo>
                <a:cubicBezTo>
                  <a:pt x="174" y="19"/>
                  <a:pt x="136" y="32"/>
                  <a:pt x="136" y="32"/>
                </a:cubicBezTo>
                <a:cubicBezTo>
                  <a:pt x="112" y="16"/>
                  <a:pt x="107" y="9"/>
                  <a:pt x="82" y="26"/>
                </a:cubicBezTo>
                <a:cubicBezTo>
                  <a:pt x="58" y="62"/>
                  <a:pt x="60" y="33"/>
                  <a:pt x="52" y="8"/>
                </a:cubicBezTo>
                <a:cubicBezTo>
                  <a:pt x="5" y="16"/>
                  <a:pt x="0" y="18"/>
                  <a:pt x="40" y="44"/>
                </a:cubicBezTo>
                <a:cubicBezTo>
                  <a:pt x="2" y="69"/>
                  <a:pt x="30" y="43"/>
                  <a:pt x="40" y="68"/>
                </a:cubicBezTo>
                <a:cubicBezTo>
                  <a:pt x="42" y="74"/>
                  <a:pt x="36" y="80"/>
                  <a:pt x="34" y="86"/>
                </a:cubicBezTo>
                <a:cubicBezTo>
                  <a:pt x="54" y="99"/>
                  <a:pt x="72" y="103"/>
                  <a:pt x="94" y="110"/>
                </a:cubicBezTo>
                <a:cubicBezTo>
                  <a:pt x="134" y="103"/>
                  <a:pt x="166" y="96"/>
                  <a:pt x="208" y="92"/>
                </a:cubicBezTo>
                <a:cubicBezTo>
                  <a:pt x="234" y="83"/>
                  <a:pt x="254" y="71"/>
                  <a:pt x="280" y="62"/>
                </a:cubicBezTo>
                <a:cubicBezTo>
                  <a:pt x="272" y="38"/>
                  <a:pt x="262" y="34"/>
                  <a:pt x="238" y="26"/>
                </a:cubicBezTo>
                <a:cubicBezTo>
                  <a:pt x="236" y="20"/>
                  <a:pt x="238" y="9"/>
                  <a:pt x="232" y="8"/>
                </a:cubicBezTo>
                <a:cubicBezTo>
                  <a:pt x="196" y="0"/>
                  <a:pt x="170" y="28"/>
                  <a:pt x="190" y="8"/>
                </a:cubicBezTo>
                <a:close/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4"/>
          <p:cNvSpPr/>
          <p:nvPr/>
        </p:nvSpPr>
        <p:spPr>
          <a:xfrm>
            <a:off x="2860560" y="348624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45"/>
          <p:cNvSpPr/>
          <p:nvPr/>
        </p:nvSpPr>
        <p:spPr>
          <a:xfrm>
            <a:off x="2184480" y="2744640"/>
            <a:ext cx="1050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yyubid Cali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46"/>
          <p:cNvSpPr/>
          <p:nvPr/>
        </p:nvSpPr>
        <p:spPr>
          <a:xfrm>
            <a:off x="1362240" y="2554200"/>
            <a:ext cx="1047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mohad Cali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7"/>
          <p:cNvSpPr/>
          <p:nvPr/>
        </p:nvSpPr>
        <p:spPr>
          <a:xfrm>
            <a:off x="2036880" y="17064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48"/>
          <p:cNvSpPr/>
          <p:nvPr/>
        </p:nvSpPr>
        <p:spPr>
          <a:xfrm>
            <a:off x="2637000" y="229860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49"/>
          <p:cNvSpPr/>
          <p:nvPr/>
        </p:nvSpPr>
        <p:spPr>
          <a:xfrm>
            <a:off x="1511280" y="1833480"/>
            <a:ext cx="8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.R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50"/>
          <p:cNvSpPr/>
          <p:nvPr/>
        </p:nvSpPr>
        <p:spPr>
          <a:xfrm>
            <a:off x="1890720" y="207972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51"/>
          <p:cNvSpPr/>
          <p:nvPr/>
        </p:nvSpPr>
        <p:spPr>
          <a:xfrm>
            <a:off x="1068480" y="1635120"/>
            <a:ext cx="423720" cy="334800"/>
          </a:xfrm>
          <a:custGeom>
            <a:avLst/>
            <a:gdLst/>
            <a:ahLst/>
            <a:rect l="l" t="t" r="r" b="b"/>
            <a:pathLst>
              <a:path w="271" h="218">
                <a:moveTo>
                  <a:pt x="116" y="47"/>
                </a:moveTo>
                <a:cubicBezTo>
                  <a:pt x="128" y="45"/>
                  <a:pt x="140" y="44"/>
                  <a:pt x="152" y="41"/>
                </a:cubicBezTo>
                <a:cubicBezTo>
                  <a:pt x="158" y="40"/>
                  <a:pt x="164" y="33"/>
                  <a:pt x="170" y="35"/>
                </a:cubicBezTo>
                <a:cubicBezTo>
                  <a:pt x="177" y="38"/>
                  <a:pt x="176" y="48"/>
                  <a:pt x="182" y="53"/>
                </a:cubicBezTo>
                <a:cubicBezTo>
                  <a:pt x="187" y="57"/>
                  <a:pt x="194" y="57"/>
                  <a:pt x="200" y="59"/>
                </a:cubicBezTo>
                <a:cubicBezTo>
                  <a:pt x="209" y="86"/>
                  <a:pt x="221" y="88"/>
                  <a:pt x="248" y="95"/>
                </a:cubicBezTo>
                <a:cubicBezTo>
                  <a:pt x="252" y="107"/>
                  <a:pt x="256" y="119"/>
                  <a:pt x="260" y="131"/>
                </a:cubicBezTo>
                <a:cubicBezTo>
                  <a:pt x="271" y="165"/>
                  <a:pt x="233" y="166"/>
                  <a:pt x="218" y="173"/>
                </a:cubicBezTo>
                <a:cubicBezTo>
                  <a:pt x="165" y="200"/>
                  <a:pt x="258" y="180"/>
                  <a:pt x="128" y="191"/>
                </a:cubicBezTo>
                <a:cubicBezTo>
                  <a:pt x="121" y="196"/>
                  <a:pt x="97" y="218"/>
                  <a:pt x="86" y="197"/>
                </a:cubicBezTo>
                <a:cubicBezTo>
                  <a:pt x="79" y="182"/>
                  <a:pt x="126" y="164"/>
                  <a:pt x="134" y="161"/>
                </a:cubicBezTo>
                <a:cubicBezTo>
                  <a:pt x="130" y="155"/>
                  <a:pt x="128" y="147"/>
                  <a:pt x="122" y="143"/>
                </a:cubicBezTo>
                <a:cubicBezTo>
                  <a:pt x="101" y="129"/>
                  <a:pt x="83" y="147"/>
                  <a:pt x="116" y="125"/>
                </a:cubicBezTo>
                <a:cubicBezTo>
                  <a:pt x="104" y="75"/>
                  <a:pt x="107" y="122"/>
                  <a:pt x="128" y="89"/>
                </a:cubicBezTo>
                <a:cubicBezTo>
                  <a:pt x="135" y="78"/>
                  <a:pt x="152" y="49"/>
                  <a:pt x="140" y="53"/>
                </a:cubicBezTo>
                <a:cubicBezTo>
                  <a:pt x="128" y="57"/>
                  <a:pt x="116" y="61"/>
                  <a:pt x="104" y="65"/>
                </a:cubicBezTo>
                <a:cubicBezTo>
                  <a:pt x="98" y="67"/>
                  <a:pt x="86" y="71"/>
                  <a:pt x="86" y="71"/>
                </a:cubicBezTo>
                <a:cubicBezTo>
                  <a:pt x="80" y="69"/>
                  <a:pt x="73" y="69"/>
                  <a:pt x="68" y="65"/>
                </a:cubicBezTo>
                <a:cubicBezTo>
                  <a:pt x="62" y="60"/>
                  <a:pt x="63" y="47"/>
                  <a:pt x="56" y="47"/>
                </a:cubicBezTo>
                <a:cubicBezTo>
                  <a:pt x="49" y="47"/>
                  <a:pt x="49" y="60"/>
                  <a:pt x="44" y="65"/>
                </a:cubicBezTo>
                <a:cubicBezTo>
                  <a:pt x="39" y="70"/>
                  <a:pt x="32" y="73"/>
                  <a:pt x="26" y="77"/>
                </a:cubicBezTo>
                <a:cubicBezTo>
                  <a:pt x="15" y="109"/>
                  <a:pt x="0" y="124"/>
                  <a:pt x="38" y="137"/>
                </a:cubicBezTo>
                <a:cubicBezTo>
                  <a:pt x="68" y="127"/>
                  <a:pt x="54" y="137"/>
                  <a:pt x="68" y="95"/>
                </a:cubicBezTo>
                <a:cubicBezTo>
                  <a:pt x="70" y="89"/>
                  <a:pt x="74" y="77"/>
                  <a:pt x="74" y="77"/>
                </a:cubicBezTo>
                <a:cubicBezTo>
                  <a:pt x="67" y="56"/>
                  <a:pt x="64" y="63"/>
                  <a:pt x="74" y="53"/>
                </a:cubicBezTo>
                <a:cubicBezTo>
                  <a:pt x="88" y="51"/>
                  <a:pt x="116" y="33"/>
                  <a:pt x="116" y="47"/>
                </a:cubicBezTo>
                <a:cubicBezTo>
                  <a:pt x="116" y="62"/>
                  <a:pt x="85" y="54"/>
                  <a:pt x="74" y="65"/>
                </a:cubicBezTo>
                <a:cubicBezTo>
                  <a:pt x="70" y="69"/>
                  <a:pt x="80" y="83"/>
                  <a:pt x="80" y="83"/>
                </a:cubicBezTo>
                <a:cubicBezTo>
                  <a:pt x="163" y="0"/>
                  <a:pt x="107" y="66"/>
                  <a:pt x="86" y="59"/>
                </a:cubicBezTo>
                <a:cubicBezTo>
                  <a:pt x="79" y="57"/>
                  <a:pt x="94" y="47"/>
                  <a:pt x="98" y="41"/>
                </a:cubicBezTo>
                <a:cubicBezTo>
                  <a:pt x="119" y="48"/>
                  <a:pt x="146" y="49"/>
                  <a:pt x="146" y="77"/>
                </a:cubicBez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2"/>
          <p:cNvSpPr/>
          <p:nvPr/>
        </p:nvSpPr>
        <p:spPr>
          <a:xfrm>
            <a:off x="468360" y="148428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3"/>
          <p:cNvSpPr/>
          <p:nvPr/>
        </p:nvSpPr>
        <p:spPr>
          <a:xfrm>
            <a:off x="614520" y="2435400"/>
            <a:ext cx="89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4"/>
          <p:cNvSpPr/>
          <p:nvPr/>
        </p:nvSpPr>
        <p:spPr>
          <a:xfrm>
            <a:off x="614520" y="210672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5"/>
          <p:cNvSpPr/>
          <p:nvPr/>
        </p:nvSpPr>
        <p:spPr>
          <a:xfrm>
            <a:off x="457200" y="4848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States and Empires in 1237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56"/>
          <p:cNvSpPr/>
          <p:nvPr/>
        </p:nvSpPr>
        <p:spPr>
          <a:xfrm>
            <a:off x="5411880" y="33526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F93A-0867-488E-90F3-D983446B2F6A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rcRect l="0" t="0" r="0" b="9133"/>
          <a:stretch/>
        </p:blipFill>
        <p:spPr>
          <a:xfrm>
            <a:off x="457200" y="457200"/>
            <a:ext cx="8232840" cy="5257800"/>
          </a:xfrm>
          <a:prstGeom prst="rect">
            <a:avLst/>
          </a:prstGeom>
          <a:ln w="0">
            <a:noFill/>
          </a:ln>
        </p:spPr>
      </p:pic>
      <p:sp>
        <p:nvSpPr>
          <p:cNvPr id="885" name="Freeform 3"/>
          <p:cNvSpPr/>
          <p:nvPr/>
        </p:nvSpPr>
        <p:spPr>
          <a:xfrm>
            <a:off x="1036800" y="3298680"/>
            <a:ext cx="442800" cy="336600"/>
          </a:xfrm>
          <a:custGeom>
            <a:avLst/>
            <a:gdLst/>
            <a:ahLst/>
            <a:rect l="l" t="t" r="r" b="b"/>
            <a:pathLst>
              <a:path w="292" h="222">
                <a:moveTo>
                  <a:pt x="220" y="8"/>
                </a:moveTo>
                <a:cubicBezTo>
                  <a:pt x="209" y="5"/>
                  <a:pt x="199" y="0"/>
                  <a:pt x="188" y="0"/>
                </a:cubicBezTo>
                <a:cubicBezTo>
                  <a:pt x="173" y="0"/>
                  <a:pt x="89" y="50"/>
                  <a:pt x="68" y="64"/>
                </a:cubicBezTo>
                <a:cubicBezTo>
                  <a:pt x="51" y="90"/>
                  <a:pt x="29" y="110"/>
                  <a:pt x="12" y="136"/>
                </a:cubicBezTo>
                <a:cubicBezTo>
                  <a:pt x="9" y="149"/>
                  <a:pt x="0" y="163"/>
                  <a:pt x="4" y="176"/>
                </a:cubicBezTo>
                <a:cubicBezTo>
                  <a:pt x="11" y="201"/>
                  <a:pt x="76" y="208"/>
                  <a:pt x="76" y="208"/>
                </a:cubicBezTo>
                <a:cubicBezTo>
                  <a:pt x="157" y="181"/>
                  <a:pt x="32" y="222"/>
                  <a:pt x="132" y="192"/>
                </a:cubicBezTo>
                <a:cubicBezTo>
                  <a:pt x="148" y="187"/>
                  <a:pt x="180" y="176"/>
                  <a:pt x="180" y="176"/>
                </a:cubicBezTo>
                <a:cubicBezTo>
                  <a:pt x="185" y="168"/>
                  <a:pt x="188" y="157"/>
                  <a:pt x="196" y="152"/>
                </a:cubicBezTo>
                <a:cubicBezTo>
                  <a:pt x="210" y="143"/>
                  <a:pt x="244" y="136"/>
                  <a:pt x="244" y="136"/>
                </a:cubicBezTo>
                <a:cubicBezTo>
                  <a:pt x="268" y="112"/>
                  <a:pt x="281" y="96"/>
                  <a:pt x="292" y="64"/>
                </a:cubicBezTo>
                <a:cubicBezTo>
                  <a:pt x="278" y="22"/>
                  <a:pt x="265" y="8"/>
                  <a:pt x="220" y="8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1328760" y="3225960"/>
            <a:ext cx="58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5"/>
          <p:cNvSpPr/>
          <p:nvPr/>
        </p:nvSpPr>
        <p:spPr>
          <a:xfrm>
            <a:off x="1346040" y="3693960"/>
            <a:ext cx="243000" cy="230400"/>
          </a:xfrm>
          <a:custGeom>
            <a:avLst/>
            <a:gdLst/>
            <a:ahLst/>
            <a:rect l="l" t="t" r="r" b="b"/>
            <a:pathLst>
              <a:path w="160" h="152">
                <a:moveTo>
                  <a:pt x="40" y="148"/>
                </a:moveTo>
                <a:cubicBezTo>
                  <a:pt x="28" y="136"/>
                  <a:pt x="24" y="124"/>
                  <a:pt x="12" y="112"/>
                </a:cubicBezTo>
                <a:cubicBezTo>
                  <a:pt x="0" y="75"/>
                  <a:pt x="1" y="46"/>
                  <a:pt x="24" y="12"/>
                </a:cubicBezTo>
                <a:cubicBezTo>
                  <a:pt x="28" y="5"/>
                  <a:pt x="56" y="3"/>
                  <a:pt x="64" y="0"/>
                </a:cubicBezTo>
                <a:cubicBezTo>
                  <a:pt x="75" y="1"/>
                  <a:pt x="85" y="2"/>
                  <a:pt x="96" y="4"/>
                </a:cubicBezTo>
                <a:cubicBezTo>
                  <a:pt x="104" y="6"/>
                  <a:pt x="120" y="12"/>
                  <a:pt x="120" y="12"/>
                </a:cubicBezTo>
                <a:cubicBezTo>
                  <a:pt x="134" y="33"/>
                  <a:pt x="152" y="48"/>
                  <a:pt x="160" y="72"/>
                </a:cubicBezTo>
                <a:cubicBezTo>
                  <a:pt x="153" y="143"/>
                  <a:pt x="149" y="128"/>
                  <a:pt x="80" y="136"/>
                </a:cubicBezTo>
                <a:cubicBezTo>
                  <a:pt x="72" y="139"/>
                  <a:pt x="64" y="141"/>
                  <a:pt x="56" y="144"/>
                </a:cubicBezTo>
                <a:cubicBezTo>
                  <a:pt x="51" y="146"/>
                  <a:pt x="49" y="151"/>
                  <a:pt x="44" y="152"/>
                </a:cubicBezTo>
                <a:cubicBezTo>
                  <a:pt x="42" y="152"/>
                  <a:pt x="41" y="149"/>
                  <a:pt x="40" y="148"/>
                </a:cubicBezTo>
                <a:close/>
              </a:path>
            </a:pathLst>
          </a:cu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6"/>
          <p:cNvSpPr/>
          <p:nvPr/>
        </p:nvSpPr>
        <p:spPr>
          <a:xfrm>
            <a:off x="1565280" y="3718080"/>
            <a:ext cx="163440" cy="255600"/>
          </a:xfrm>
          <a:custGeom>
            <a:avLst/>
            <a:gdLst/>
            <a:ahLst/>
            <a:rect l="l" t="t" r="r" b="b"/>
            <a:pathLst>
              <a:path w="108" h="168">
                <a:moveTo>
                  <a:pt x="0" y="24"/>
                </a:moveTo>
                <a:cubicBezTo>
                  <a:pt x="10" y="10"/>
                  <a:pt x="18" y="9"/>
                  <a:pt x="32" y="0"/>
                </a:cubicBezTo>
                <a:cubicBezTo>
                  <a:pt x="36" y="1"/>
                  <a:pt x="40" y="2"/>
                  <a:pt x="44" y="4"/>
                </a:cubicBezTo>
                <a:cubicBezTo>
                  <a:pt x="48" y="6"/>
                  <a:pt x="52" y="10"/>
                  <a:pt x="56" y="12"/>
                </a:cubicBezTo>
                <a:cubicBezTo>
                  <a:pt x="64" y="15"/>
                  <a:pt x="80" y="20"/>
                  <a:pt x="80" y="20"/>
                </a:cubicBezTo>
                <a:cubicBezTo>
                  <a:pt x="91" y="36"/>
                  <a:pt x="102" y="61"/>
                  <a:pt x="108" y="80"/>
                </a:cubicBezTo>
                <a:lnTo>
                  <a:pt x="72" y="168"/>
                </a:lnTo>
                <a:cubicBezTo>
                  <a:pt x="72" y="168"/>
                  <a:pt x="36" y="156"/>
                  <a:pt x="36" y="156"/>
                </a:cubicBezTo>
                <a:cubicBezTo>
                  <a:pt x="32" y="155"/>
                  <a:pt x="24" y="152"/>
                  <a:pt x="24" y="152"/>
                </a:cubicBezTo>
                <a:cubicBezTo>
                  <a:pt x="0" y="115"/>
                  <a:pt x="12" y="117"/>
                  <a:pt x="20" y="76"/>
                </a:cubicBezTo>
                <a:cubicBezTo>
                  <a:pt x="16" y="58"/>
                  <a:pt x="14" y="47"/>
                  <a:pt x="4" y="32"/>
                </a:cubicBezTo>
                <a:cubicBezTo>
                  <a:pt x="9" y="17"/>
                  <a:pt x="12" y="18"/>
                  <a:pt x="0" y="24"/>
                </a:cubicBezTo>
                <a:close/>
              </a:path>
            </a:pathLst>
          </a:cu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7"/>
          <p:cNvSpPr/>
          <p:nvPr/>
        </p:nvSpPr>
        <p:spPr>
          <a:xfrm>
            <a:off x="1109520" y="3517920"/>
            <a:ext cx="116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yo 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8"/>
          <p:cNvSpPr/>
          <p:nvPr/>
        </p:nvSpPr>
        <p:spPr>
          <a:xfrm>
            <a:off x="2408400" y="4670280"/>
            <a:ext cx="330120" cy="292320"/>
          </a:xfrm>
          <a:custGeom>
            <a:avLst/>
            <a:gdLst/>
            <a:ahLst/>
            <a:rect l="l" t="t" r="r" b="b"/>
            <a:pathLst>
              <a:path w="217" h="192">
                <a:moveTo>
                  <a:pt x="172" y="164"/>
                </a:moveTo>
                <a:cubicBezTo>
                  <a:pt x="193" y="132"/>
                  <a:pt x="165" y="171"/>
                  <a:pt x="192" y="144"/>
                </a:cubicBezTo>
                <a:cubicBezTo>
                  <a:pt x="202" y="134"/>
                  <a:pt x="205" y="119"/>
                  <a:pt x="212" y="108"/>
                </a:cubicBezTo>
                <a:cubicBezTo>
                  <a:pt x="217" y="89"/>
                  <a:pt x="211" y="57"/>
                  <a:pt x="192" y="44"/>
                </a:cubicBezTo>
                <a:cubicBezTo>
                  <a:pt x="184" y="39"/>
                  <a:pt x="176" y="33"/>
                  <a:pt x="168" y="28"/>
                </a:cubicBezTo>
                <a:cubicBezTo>
                  <a:pt x="164" y="25"/>
                  <a:pt x="156" y="20"/>
                  <a:pt x="156" y="20"/>
                </a:cubicBezTo>
                <a:cubicBezTo>
                  <a:pt x="144" y="3"/>
                  <a:pt x="132" y="4"/>
                  <a:pt x="112" y="0"/>
                </a:cubicBezTo>
                <a:cubicBezTo>
                  <a:pt x="95" y="6"/>
                  <a:pt x="82" y="14"/>
                  <a:pt x="64" y="20"/>
                </a:cubicBezTo>
                <a:cubicBezTo>
                  <a:pt x="55" y="23"/>
                  <a:pt x="40" y="36"/>
                  <a:pt x="40" y="36"/>
                </a:cubicBezTo>
                <a:cubicBezTo>
                  <a:pt x="27" y="56"/>
                  <a:pt x="21" y="76"/>
                  <a:pt x="8" y="96"/>
                </a:cubicBezTo>
                <a:cubicBezTo>
                  <a:pt x="3" y="103"/>
                  <a:pt x="0" y="120"/>
                  <a:pt x="0" y="120"/>
                </a:cubicBezTo>
                <a:cubicBezTo>
                  <a:pt x="4" y="137"/>
                  <a:pt x="7" y="163"/>
                  <a:pt x="20" y="176"/>
                </a:cubicBezTo>
                <a:cubicBezTo>
                  <a:pt x="29" y="185"/>
                  <a:pt x="56" y="192"/>
                  <a:pt x="56" y="192"/>
                </a:cubicBezTo>
                <a:cubicBezTo>
                  <a:pt x="89" y="189"/>
                  <a:pt x="117" y="184"/>
                  <a:pt x="148" y="176"/>
                </a:cubicBezTo>
                <a:cubicBezTo>
                  <a:pt x="161" y="173"/>
                  <a:pt x="184" y="156"/>
                  <a:pt x="184" y="156"/>
                </a:cubicBezTo>
                <a:cubicBezTo>
                  <a:pt x="189" y="141"/>
                  <a:pt x="186" y="148"/>
                  <a:pt x="192" y="136"/>
                </a:cubicBezTo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9"/>
          <p:cNvSpPr/>
          <p:nvPr/>
        </p:nvSpPr>
        <p:spPr>
          <a:xfrm>
            <a:off x="1619280" y="461016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10"/>
          <p:cNvSpPr/>
          <p:nvPr/>
        </p:nvSpPr>
        <p:spPr>
          <a:xfrm>
            <a:off x="2863800" y="4076640"/>
            <a:ext cx="257400" cy="515880"/>
          </a:xfrm>
          <a:custGeom>
            <a:avLst/>
            <a:gdLst/>
            <a:ahLst/>
            <a:rect l="l" t="t" r="r" b="b"/>
            <a:pathLst>
              <a:path w="169" h="340">
                <a:moveTo>
                  <a:pt x="168" y="4"/>
                </a:moveTo>
                <a:cubicBezTo>
                  <a:pt x="159" y="18"/>
                  <a:pt x="148" y="24"/>
                  <a:pt x="136" y="36"/>
                </a:cubicBezTo>
                <a:cubicBezTo>
                  <a:pt x="126" y="66"/>
                  <a:pt x="141" y="30"/>
                  <a:pt x="120" y="56"/>
                </a:cubicBezTo>
                <a:cubicBezTo>
                  <a:pt x="117" y="59"/>
                  <a:pt x="118" y="64"/>
                  <a:pt x="116" y="68"/>
                </a:cubicBezTo>
                <a:cubicBezTo>
                  <a:pt x="108" y="85"/>
                  <a:pt x="102" y="84"/>
                  <a:pt x="84" y="96"/>
                </a:cubicBezTo>
                <a:cubicBezTo>
                  <a:pt x="76" y="101"/>
                  <a:pt x="60" y="112"/>
                  <a:pt x="60" y="112"/>
                </a:cubicBezTo>
                <a:cubicBezTo>
                  <a:pt x="54" y="131"/>
                  <a:pt x="40" y="155"/>
                  <a:pt x="28" y="172"/>
                </a:cubicBezTo>
                <a:cubicBezTo>
                  <a:pt x="43" y="216"/>
                  <a:pt x="19" y="280"/>
                  <a:pt x="60" y="308"/>
                </a:cubicBezTo>
                <a:cubicBezTo>
                  <a:pt x="65" y="324"/>
                  <a:pt x="76" y="333"/>
                  <a:pt x="56" y="340"/>
                </a:cubicBezTo>
                <a:cubicBezTo>
                  <a:pt x="38" y="334"/>
                  <a:pt x="37" y="315"/>
                  <a:pt x="20" y="304"/>
                </a:cubicBezTo>
                <a:cubicBezTo>
                  <a:pt x="14" y="286"/>
                  <a:pt x="12" y="281"/>
                  <a:pt x="8" y="264"/>
                </a:cubicBezTo>
                <a:cubicBezTo>
                  <a:pt x="5" y="251"/>
                  <a:pt x="0" y="224"/>
                  <a:pt x="0" y="224"/>
                </a:cubicBezTo>
                <a:cubicBezTo>
                  <a:pt x="5" y="181"/>
                  <a:pt x="1" y="114"/>
                  <a:pt x="40" y="88"/>
                </a:cubicBezTo>
                <a:cubicBezTo>
                  <a:pt x="48" y="76"/>
                  <a:pt x="72" y="60"/>
                  <a:pt x="72" y="60"/>
                </a:cubicBezTo>
                <a:cubicBezTo>
                  <a:pt x="75" y="56"/>
                  <a:pt x="77" y="51"/>
                  <a:pt x="80" y="48"/>
                </a:cubicBezTo>
                <a:cubicBezTo>
                  <a:pt x="83" y="45"/>
                  <a:pt x="89" y="44"/>
                  <a:pt x="92" y="40"/>
                </a:cubicBezTo>
                <a:cubicBezTo>
                  <a:pt x="95" y="37"/>
                  <a:pt x="93" y="31"/>
                  <a:pt x="96" y="28"/>
                </a:cubicBezTo>
                <a:cubicBezTo>
                  <a:pt x="108" y="16"/>
                  <a:pt x="127" y="6"/>
                  <a:pt x="144" y="0"/>
                </a:cubicBezTo>
                <a:cubicBezTo>
                  <a:pt x="169" y="8"/>
                  <a:pt x="152" y="28"/>
                  <a:pt x="168" y="4"/>
                </a:cubicBezTo>
                <a:close/>
              </a:path>
            </a:pathLst>
          </a:custGeom>
          <a:solidFill>
            <a:srgbClr val="66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1"/>
          <p:cNvSpPr/>
          <p:nvPr/>
        </p:nvSpPr>
        <p:spPr>
          <a:xfrm>
            <a:off x="2857680" y="4173480"/>
            <a:ext cx="160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nj City-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12"/>
          <p:cNvSpPr/>
          <p:nvPr/>
        </p:nvSpPr>
        <p:spPr>
          <a:xfrm>
            <a:off x="2712960" y="3517920"/>
            <a:ext cx="254160" cy="279360"/>
          </a:xfrm>
          <a:custGeom>
            <a:avLst/>
            <a:gdLst/>
            <a:ahLst/>
            <a:rect l="l" t="t" r="r" b="b"/>
            <a:pathLst>
              <a:path w="168" h="184">
                <a:moveTo>
                  <a:pt x="96" y="10"/>
                </a:moveTo>
                <a:cubicBezTo>
                  <a:pt x="72" y="4"/>
                  <a:pt x="65" y="0"/>
                  <a:pt x="44" y="14"/>
                </a:cubicBezTo>
                <a:cubicBezTo>
                  <a:pt x="39" y="30"/>
                  <a:pt x="34" y="37"/>
                  <a:pt x="20" y="46"/>
                </a:cubicBezTo>
                <a:cubicBezTo>
                  <a:pt x="16" y="59"/>
                  <a:pt x="8" y="69"/>
                  <a:pt x="4" y="82"/>
                </a:cubicBezTo>
                <a:cubicBezTo>
                  <a:pt x="7" y="110"/>
                  <a:pt x="0" y="155"/>
                  <a:pt x="32" y="166"/>
                </a:cubicBezTo>
                <a:cubicBezTo>
                  <a:pt x="35" y="170"/>
                  <a:pt x="35" y="177"/>
                  <a:pt x="40" y="178"/>
                </a:cubicBezTo>
                <a:cubicBezTo>
                  <a:pt x="69" y="184"/>
                  <a:pt x="128" y="150"/>
                  <a:pt x="152" y="134"/>
                </a:cubicBezTo>
                <a:cubicBezTo>
                  <a:pt x="156" y="121"/>
                  <a:pt x="164" y="111"/>
                  <a:pt x="168" y="98"/>
                </a:cubicBezTo>
                <a:cubicBezTo>
                  <a:pt x="163" y="66"/>
                  <a:pt x="162" y="61"/>
                  <a:pt x="144" y="34"/>
                </a:cubicBezTo>
                <a:cubicBezTo>
                  <a:pt x="142" y="30"/>
                  <a:pt x="143" y="24"/>
                  <a:pt x="140" y="22"/>
                </a:cubicBezTo>
                <a:cubicBezTo>
                  <a:pt x="140" y="22"/>
                  <a:pt x="110" y="12"/>
                  <a:pt x="104" y="10"/>
                </a:cubicBezTo>
                <a:cubicBezTo>
                  <a:pt x="90" y="5"/>
                  <a:pt x="89" y="3"/>
                  <a:pt x="96" y="10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3"/>
          <p:cNvSpPr/>
          <p:nvPr/>
        </p:nvSpPr>
        <p:spPr>
          <a:xfrm>
            <a:off x="2712960" y="3444840"/>
            <a:ext cx="1019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14"/>
          <p:cNvSpPr/>
          <p:nvPr/>
        </p:nvSpPr>
        <p:spPr>
          <a:xfrm>
            <a:off x="4278240" y="3498840"/>
            <a:ext cx="249480" cy="322200"/>
          </a:xfrm>
          <a:custGeom>
            <a:avLst/>
            <a:gdLst/>
            <a:ahLst/>
            <a:rect l="l" t="t" r="r" b="b"/>
            <a:pathLst>
              <a:path w="164" h="212">
                <a:moveTo>
                  <a:pt x="4" y="52"/>
                </a:moveTo>
                <a:cubicBezTo>
                  <a:pt x="29" y="35"/>
                  <a:pt x="61" y="29"/>
                  <a:pt x="88" y="16"/>
                </a:cubicBezTo>
                <a:cubicBezTo>
                  <a:pt x="100" y="10"/>
                  <a:pt x="124" y="0"/>
                  <a:pt x="124" y="0"/>
                </a:cubicBezTo>
                <a:cubicBezTo>
                  <a:pt x="141" y="6"/>
                  <a:pt x="150" y="5"/>
                  <a:pt x="160" y="20"/>
                </a:cubicBezTo>
                <a:cubicBezTo>
                  <a:pt x="139" y="34"/>
                  <a:pt x="152" y="50"/>
                  <a:pt x="164" y="68"/>
                </a:cubicBezTo>
                <a:cubicBezTo>
                  <a:pt x="154" y="97"/>
                  <a:pt x="154" y="84"/>
                  <a:pt x="160" y="108"/>
                </a:cubicBezTo>
                <a:cubicBezTo>
                  <a:pt x="157" y="116"/>
                  <a:pt x="155" y="124"/>
                  <a:pt x="152" y="132"/>
                </a:cubicBezTo>
                <a:cubicBezTo>
                  <a:pt x="151" y="136"/>
                  <a:pt x="148" y="144"/>
                  <a:pt x="148" y="144"/>
                </a:cubicBezTo>
                <a:cubicBezTo>
                  <a:pt x="149" y="148"/>
                  <a:pt x="154" y="152"/>
                  <a:pt x="152" y="156"/>
                </a:cubicBezTo>
                <a:cubicBezTo>
                  <a:pt x="150" y="160"/>
                  <a:pt x="143" y="161"/>
                  <a:pt x="140" y="164"/>
                </a:cubicBezTo>
                <a:cubicBezTo>
                  <a:pt x="132" y="172"/>
                  <a:pt x="131" y="178"/>
                  <a:pt x="128" y="188"/>
                </a:cubicBezTo>
                <a:cubicBezTo>
                  <a:pt x="104" y="180"/>
                  <a:pt x="105" y="201"/>
                  <a:pt x="88" y="212"/>
                </a:cubicBezTo>
                <a:cubicBezTo>
                  <a:pt x="68" y="205"/>
                  <a:pt x="72" y="198"/>
                  <a:pt x="64" y="180"/>
                </a:cubicBezTo>
                <a:cubicBezTo>
                  <a:pt x="52" y="153"/>
                  <a:pt x="37" y="117"/>
                  <a:pt x="16" y="96"/>
                </a:cubicBezTo>
                <a:cubicBezTo>
                  <a:pt x="12" y="83"/>
                  <a:pt x="4" y="73"/>
                  <a:pt x="0" y="60"/>
                </a:cubicBezTo>
                <a:cubicBezTo>
                  <a:pt x="4" y="47"/>
                  <a:pt x="4" y="44"/>
                  <a:pt x="4" y="52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5"/>
          <p:cNvSpPr/>
          <p:nvPr/>
        </p:nvSpPr>
        <p:spPr>
          <a:xfrm>
            <a:off x="3732120" y="351792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jayanag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6"/>
          <p:cNvSpPr/>
          <p:nvPr/>
        </p:nvSpPr>
        <p:spPr>
          <a:xfrm>
            <a:off x="5208480" y="3486240"/>
            <a:ext cx="258840" cy="261720"/>
          </a:xfrm>
          <a:custGeom>
            <a:avLst/>
            <a:gdLst/>
            <a:ahLst/>
            <a:rect l="l" t="t" r="r" b="b"/>
            <a:pathLst>
              <a:path w="171" h="173">
                <a:moveTo>
                  <a:pt x="36" y="173"/>
                </a:moveTo>
                <a:cubicBezTo>
                  <a:pt x="19" y="167"/>
                  <a:pt x="6" y="172"/>
                  <a:pt x="0" y="153"/>
                </a:cubicBezTo>
                <a:cubicBezTo>
                  <a:pt x="19" y="140"/>
                  <a:pt x="10" y="150"/>
                  <a:pt x="20" y="121"/>
                </a:cubicBezTo>
                <a:cubicBezTo>
                  <a:pt x="21" y="117"/>
                  <a:pt x="24" y="109"/>
                  <a:pt x="24" y="109"/>
                </a:cubicBezTo>
                <a:cubicBezTo>
                  <a:pt x="16" y="84"/>
                  <a:pt x="15" y="59"/>
                  <a:pt x="0" y="37"/>
                </a:cubicBezTo>
                <a:cubicBezTo>
                  <a:pt x="7" y="11"/>
                  <a:pt x="22" y="18"/>
                  <a:pt x="48" y="9"/>
                </a:cubicBezTo>
                <a:cubicBezTo>
                  <a:pt x="56" y="6"/>
                  <a:pt x="72" y="1"/>
                  <a:pt x="72" y="1"/>
                </a:cubicBezTo>
                <a:cubicBezTo>
                  <a:pt x="102" y="6"/>
                  <a:pt x="135" y="0"/>
                  <a:pt x="160" y="17"/>
                </a:cubicBezTo>
                <a:cubicBezTo>
                  <a:pt x="170" y="48"/>
                  <a:pt x="171" y="53"/>
                  <a:pt x="136" y="65"/>
                </a:cubicBezTo>
                <a:cubicBezTo>
                  <a:pt x="95" y="55"/>
                  <a:pt x="110" y="80"/>
                  <a:pt x="84" y="97"/>
                </a:cubicBezTo>
                <a:cubicBezTo>
                  <a:pt x="69" y="92"/>
                  <a:pt x="67" y="82"/>
                  <a:pt x="52" y="77"/>
                </a:cubicBezTo>
                <a:cubicBezTo>
                  <a:pt x="36" y="101"/>
                  <a:pt x="39" y="112"/>
                  <a:pt x="36" y="145"/>
                </a:cubicBezTo>
                <a:cubicBezTo>
                  <a:pt x="37" y="150"/>
                  <a:pt x="40" y="156"/>
                  <a:pt x="40" y="161"/>
                </a:cubicBezTo>
                <a:cubicBezTo>
                  <a:pt x="40" y="165"/>
                  <a:pt x="36" y="173"/>
                  <a:pt x="36" y="173"/>
                </a:cubicBezTo>
                <a:close/>
              </a:path>
            </a:pathLst>
          </a:cu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7"/>
          <p:cNvSpPr/>
          <p:nvPr/>
        </p:nvSpPr>
        <p:spPr>
          <a:xfrm>
            <a:off x="5335560" y="3444840"/>
            <a:ext cx="58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20"/>
          <p:cNvSpPr/>
          <p:nvPr/>
        </p:nvSpPr>
        <p:spPr>
          <a:xfrm>
            <a:off x="5483160" y="4270320"/>
            <a:ext cx="362160" cy="212760"/>
          </a:xfrm>
          <a:custGeom>
            <a:avLst/>
            <a:gdLst/>
            <a:ahLst/>
            <a:rect l="l" t="t" r="r" b="b"/>
            <a:pathLst>
              <a:path w="228" h="134">
                <a:moveTo>
                  <a:pt x="14" y="57"/>
                </a:moveTo>
                <a:cubicBezTo>
                  <a:pt x="17" y="61"/>
                  <a:pt x="22" y="64"/>
                  <a:pt x="22" y="69"/>
                </a:cubicBezTo>
                <a:cubicBezTo>
                  <a:pt x="22" y="87"/>
                  <a:pt x="0" y="76"/>
                  <a:pt x="25" y="84"/>
                </a:cubicBezTo>
                <a:cubicBezTo>
                  <a:pt x="38" y="102"/>
                  <a:pt x="28" y="94"/>
                  <a:pt x="56" y="103"/>
                </a:cubicBezTo>
                <a:cubicBezTo>
                  <a:pt x="64" y="106"/>
                  <a:pt x="79" y="111"/>
                  <a:pt x="79" y="111"/>
                </a:cubicBezTo>
                <a:cubicBezTo>
                  <a:pt x="87" y="108"/>
                  <a:pt x="94" y="101"/>
                  <a:pt x="102" y="103"/>
                </a:cubicBezTo>
                <a:cubicBezTo>
                  <a:pt x="109" y="106"/>
                  <a:pt x="117" y="108"/>
                  <a:pt x="125" y="111"/>
                </a:cubicBezTo>
                <a:cubicBezTo>
                  <a:pt x="129" y="112"/>
                  <a:pt x="136" y="115"/>
                  <a:pt x="136" y="115"/>
                </a:cubicBezTo>
                <a:cubicBezTo>
                  <a:pt x="140" y="112"/>
                  <a:pt x="143" y="106"/>
                  <a:pt x="148" y="107"/>
                </a:cubicBezTo>
                <a:cubicBezTo>
                  <a:pt x="152" y="108"/>
                  <a:pt x="187" y="130"/>
                  <a:pt x="194" y="134"/>
                </a:cubicBezTo>
                <a:cubicBezTo>
                  <a:pt x="220" y="125"/>
                  <a:pt x="209" y="123"/>
                  <a:pt x="228" y="130"/>
                </a:cubicBezTo>
                <a:cubicBezTo>
                  <a:pt x="227" y="126"/>
                  <a:pt x="227" y="122"/>
                  <a:pt x="224" y="119"/>
                </a:cubicBezTo>
                <a:cubicBezTo>
                  <a:pt x="221" y="116"/>
                  <a:pt x="217" y="117"/>
                  <a:pt x="213" y="115"/>
                </a:cubicBezTo>
                <a:cubicBezTo>
                  <a:pt x="190" y="102"/>
                  <a:pt x="169" y="85"/>
                  <a:pt x="144" y="77"/>
                </a:cubicBezTo>
                <a:cubicBezTo>
                  <a:pt x="136" y="79"/>
                  <a:pt x="129" y="81"/>
                  <a:pt x="121" y="84"/>
                </a:cubicBezTo>
                <a:cubicBezTo>
                  <a:pt x="117" y="85"/>
                  <a:pt x="109" y="88"/>
                  <a:pt x="109" y="88"/>
                </a:cubicBezTo>
                <a:cubicBezTo>
                  <a:pt x="100" y="86"/>
                  <a:pt x="89" y="85"/>
                  <a:pt x="83" y="77"/>
                </a:cubicBezTo>
                <a:cubicBezTo>
                  <a:pt x="80" y="74"/>
                  <a:pt x="82" y="67"/>
                  <a:pt x="79" y="65"/>
                </a:cubicBezTo>
                <a:cubicBezTo>
                  <a:pt x="72" y="60"/>
                  <a:pt x="64" y="60"/>
                  <a:pt x="56" y="57"/>
                </a:cubicBezTo>
                <a:cubicBezTo>
                  <a:pt x="52" y="56"/>
                  <a:pt x="44" y="54"/>
                  <a:pt x="44" y="54"/>
                </a:cubicBezTo>
                <a:cubicBezTo>
                  <a:pt x="26" y="58"/>
                  <a:pt x="19" y="56"/>
                  <a:pt x="2" y="46"/>
                </a:cubicBezTo>
                <a:cubicBezTo>
                  <a:pt x="6" y="34"/>
                  <a:pt x="10" y="23"/>
                  <a:pt x="14" y="12"/>
                </a:cubicBezTo>
                <a:cubicBezTo>
                  <a:pt x="15" y="8"/>
                  <a:pt x="18" y="0"/>
                  <a:pt x="18" y="0"/>
                </a:cubicBezTo>
                <a:cubicBezTo>
                  <a:pt x="18" y="7"/>
                  <a:pt x="13" y="46"/>
                  <a:pt x="14" y="57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1"/>
          <p:cNvSpPr/>
          <p:nvPr/>
        </p:nvSpPr>
        <p:spPr>
          <a:xfrm>
            <a:off x="5699160" y="4246560"/>
            <a:ext cx="14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japah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22"/>
          <p:cNvSpPr/>
          <p:nvPr/>
        </p:nvSpPr>
        <p:spPr>
          <a:xfrm>
            <a:off x="6238800" y="2432160"/>
            <a:ext cx="189000" cy="336600"/>
          </a:xfrm>
          <a:custGeom>
            <a:avLst/>
            <a:gdLst/>
            <a:ahLst/>
            <a:rect l="l" t="t" r="r" b="b"/>
            <a:pathLst>
              <a:path w="125" h="222">
                <a:moveTo>
                  <a:pt x="1" y="47"/>
                </a:moveTo>
                <a:cubicBezTo>
                  <a:pt x="5" y="44"/>
                  <a:pt x="10" y="43"/>
                  <a:pt x="13" y="39"/>
                </a:cubicBezTo>
                <a:cubicBezTo>
                  <a:pt x="19" y="32"/>
                  <a:pt x="20" y="18"/>
                  <a:pt x="29" y="15"/>
                </a:cubicBezTo>
                <a:cubicBezTo>
                  <a:pt x="58" y="5"/>
                  <a:pt x="45" y="9"/>
                  <a:pt x="69" y="3"/>
                </a:cubicBezTo>
                <a:cubicBezTo>
                  <a:pt x="91" y="10"/>
                  <a:pt x="94" y="0"/>
                  <a:pt x="117" y="15"/>
                </a:cubicBezTo>
                <a:cubicBezTo>
                  <a:pt x="110" y="35"/>
                  <a:pt x="117" y="26"/>
                  <a:pt x="89" y="35"/>
                </a:cubicBezTo>
                <a:cubicBezTo>
                  <a:pt x="85" y="36"/>
                  <a:pt x="77" y="39"/>
                  <a:pt x="77" y="39"/>
                </a:cubicBezTo>
                <a:cubicBezTo>
                  <a:pt x="71" y="57"/>
                  <a:pt x="74" y="61"/>
                  <a:pt x="89" y="71"/>
                </a:cubicBezTo>
                <a:lnTo>
                  <a:pt x="109" y="103"/>
                </a:lnTo>
                <a:cubicBezTo>
                  <a:pt x="109" y="103"/>
                  <a:pt x="121" y="139"/>
                  <a:pt x="121" y="139"/>
                </a:cubicBezTo>
                <a:cubicBezTo>
                  <a:pt x="122" y="143"/>
                  <a:pt x="125" y="151"/>
                  <a:pt x="125" y="151"/>
                </a:cubicBezTo>
                <a:cubicBezTo>
                  <a:pt x="114" y="184"/>
                  <a:pt x="104" y="179"/>
                  <a:pt x="85" y="207"/>
                </a:cubicBezTo>
                <a:cubicBezTo>
                  <a:pt x="78" y="206"/>
                  <a:pt x="72" y="201"/>
                  <a:pt x="65" y="203"/>
                </a:cubicBezTo>
                <a:cubicBezTo>
                  <a:pt x="34" y="212"/>
                  <a:pt x="79" y="222"/>
                  <a:pt x="45" y="211"/>
                </a:cubicBezTo>
                <a:cubicBezTo>
                  <a:pt x="51" y="182"/>
                  <a:pt x="51" y="192"/>
                  <a:pt x="45" y="155"/>
                </a:cubicBezTo>
                <a:cubicBezTo>
                  <a:pt x="43" y="142"/>
                  <a:pt x="37" y="115"/>
                  <a:pt x="37" y="115"/>
                </a:cubicBezTo>
                <a:cubicBezTo>
                  <a:pt x="4" y="126"/>
                  <a:pt x="14" y="96"/>
                  <a:pt x="21" y="75"/>
                </a:cubicBezTo>
                <a:cubicBezTo>
                  <a:pt x="15" y="58"/>
                  <a:pt x="9" y="60"/>
                  <a:pt x="1" y="43"/>
                </a:cubicBezTo>
                <a:cubicBezTo>
                  <a:pt x="0" y="42"/>
                  <a:pt x="1" y="46"/>
                  <a:pt x="1" y="47"/>
                </a:cubicBezTo>
                <a:close/>
              </a:path>
            </a:pathLst>
          </a:cu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23"/>
          <p:cNvSpPr/>
          <p:nvPr/>
        </p:nvSpPr>
        <p:spPr>
          <a:xfrm>
            <a:off x="6454800" y="2438280"/>
            <a:ext cx="449280" cy="435240"/>
          </a:xfrm>
          <a:custGeom>
            <a:avLst/>
            <a:gdLst/>
            <a:ahLst/>
            <a:rect l="l" t="t" r="r" b="b"/>
            <a:pathLst>
              <a:path w="297" h="287">
                <a:moveTo>
                  <a:pt x="267" y="7"/>
                </a:moveTo>
                <a:cubicBezTo>
                  <a:pt x="263" y="6"/>
                  <a:pt x="258" y="0"/>
                  <a:pt x="255" y="3"/>
                </a:cubicBezTo>
                <a:cubicBezTo>
                  <a:pt x="249" y="9"/>
                  <a:pt x="247" y="27"/>
                  <a:pt x="247" y="27"/>
                </a:cubicBezTo>
                <a:cubicBezTo>
                  <a:pt x="256" y="55"/>
                  <a:pt x="239" y="95"/>
                  <a:pt x="215" y="111"/>
                </a:cubicBezTo>
                <a:cubicBezTo>
                  <a:pt x="206" y="66"/>
                  <a:pt x="206" y="111"/>
                  <a:pt x="199" y="123"/>
                </a:cubicBezTo>
                <a:cubicBezTo>
                  <a:pt x="195" y="129"/>
                  <a:pt x="181" y="133"/>
                  <a:pt x="175" y="135"/>
                </a:cubicBezTo>
                <a:cubicBezTo>
                  <a:pt x="179" y="121"/>
                  <a:pt x="194" y="99"/>
                  <a:pt x="171" y="115"/>
                </a:cubicBezTo>
                <a:cubicBezTo>
                  <a:pt x="163" y="138"/>
                  <a:pt x="165" y="147"/>
                  <a:pt x="147" y="159"/>
                </a:cubicBezTo>
                <a:cubicBezTo>
                  <a:pt x="144" y="168"/>
                  <a:pt x="145" y="177"/>
                  <a:pt x="131" y="175"/>
                </a:cubicBezTo>
                <a:cubicBezTo>
                  <a:pt x="123" y="174"/>
                  <a:pt x="107" y="167"/>
                  <a:pt x="107" y="167"/>
                </a:cubicBezTo>
                <a:cubicBezTo>
                  <a:pt x="92" y="171"/>
                  <a:pt x="78" y="175"/>
                  <a:pt x="63" y="179"/>
                </a:cubicBezTo>
                <a:cubicBezTo>
                  <a:pt x="52" y="195"/>
                  <a:pt x="36" y="200"/>
                  <a:pt x="19" y="211"/>
                </a:cubicBezTo>
                <a:cubicBezTo>
                  <a:pt x="15" y="214"/>
                  <a:pt x="7" y="219"/>
                  <a:pt x="7" y="219"/>
                </a:cubicBezTo>
                <a:cubicBezTo>
                  <a:pt x="0" y="241"/>
                  <a:pt x="12" y="274"/>
                  <a:pt x="31" y="287"/>
                </a:cubicBezTo>
                <a:cubicBezTo>
                  <a:pt x="41" y="258"/>
                  <a:pt x="34" y="270"/>
                  <a:pt x="47" y="251"/>
                </a:cubicBezTo>
                <a:cubicBezTo>
                  <a:pt x="42" y="236"/>
                  <a:pt x="32" y="234"/>
                  <a:pt x="27" y="219"/>
                </a:cubicBezTo>
                <a:cubicBezTo>
                  <a:pt x="44" y="208"/>
                  <a:pt x="46" y="218"/>
                  <a:pt x="63" y="207"/>
                </a:cubicBezTo>
                <a:cubicBezTo>
                  <a:pt x="69" y="225"/>
                  <a:pt x="57" y="225"/>
                  <a:pt x="63" y="243"/>
                </a:cubicBezTo>
                <a:cubicBezTo>
                  <a:pt x="76" y="234"/>
                  <a:pt x="88" y="232"/>
                  <a:pt x="103" y="227"/>
                </a:cubicBezTo>
                <a:cubicBezTo>
                  <a:pt x="104" y="223"/>
                  <a:pt x="109" y="219"/>
                  <a:pt x="107" y="215"/>
                </a:cubicBezTo>
                <a:cubicBezTo>
                  <a:pt x="105" y="211"/>
                  <a:pt x="97" y="211"/>
                  <a:pt x="95" y="207"/>
                </a:cubicBezTo>
                <a:cubicBezTo>
                  <a:pt x="89" y="193"/>
                  <a:pt x="110" y="192"/>
                  <a:pt x="115" y="191"/>
                </a:cubicBezTo>
                <a:cubicBezTo>
                  <a:pt x="119" y="192"/>
                  <a:pt x="127" y="191"/>
                  <a:pt x="127" y="195"/>
                </a:cubicBezTo>
                <a:cubicBezTo>
                  <a:pt x="127" y="200"/>
                  <a:pt x="117" y="199"/>
                  <a:pt x="115" y="203"/>
                </a:cubicBezTo>
                <a:cubicBezTo>
                  <a:pt x="113" y="207"/>
                  <a:pt x="128" y="236"/>
                  <a:pt x="131" y="239"/>
                </a:cubicBezTo>
                <a:cubicBezTo>
                  <a:pt x="134" y="242"/>
                  <a:pt x="139" y="242"/>
                  <a:pt x="143" y="243"/>
                </a:cubicBezTo>
                <a:cubicBezTo>
                  <a:pt x="154" y="226"/>
                  <a:pt x="168" y="220"/>
                  <a:pt x="175" y="199"/>
                </a:cubicBezTo>
                <a:cubicBezTo>
                  <a:pt x="174" y="195"/>
                  <a:pt x="168" y="190"/>
                  <a:pt x="171" y="187"/>
                </a:cubicBezTo>
                <a:cubicBezTo>
                  <a:pt x="182" y="176"/>
                  <a:pt x="187" y="203"/>
                  <a:pt x="187" y="203"/>
                </a:cubicBezTo>
                <a:cubicBezTo>
                  <a:pt x="190" y="206"/>
                  <a:pt x="195" y="206"/>
                  <a:pt x="199" y="207"/>
                </a:cubicBezTo>
                <a:cubicBezTo>
                  <a:pt x="217" y="201"/>
                  <a:pt x="218" y="191"/>
                  <a:pt x="235" y="203"/>
                </a:cubicBezTo>
                <a:cubicBezTo>
                  <a:pt x="238" y="194"/>
                  <a:pt x="234" y="178"/>
                  <a:pt x="243" y="175"/>
                </a:cubicBezTo>
                <a:cubicBezTo>
                  <a:pt x="251" y="173"/>
                  <a:pt x="267" y="183"/>
                  <a:pt x="267" y="183"/>
                </a:cubicBezTo>
                <a:cubicBezTo>
                  <a:pt x="288" y="176"/>
                  <a:pt x="296" y="155"/>
                  <a:pt x="271" y="147"/>
                </a:cubicBezTo>
                <a:cubicBezTo>
                  <a:pt x="265" y="129"/>
                  <a:pt x="274" y="124"/>
                  <a:pt x="287" y="111"/>
                </a:cubicBezTo>
                <a:cubicBezTo>
                  <a:pt x="290" y="92"/>
                  <a:pt x="297" y="76"/>
                  <a:pt x="291" y="59"/>
                </a:cubicBezTo>
                <a:cubicBezTo>
                  <a:pt x="294" y="42"/>
                  <a:pt x="295" y="7"/>
                  <a:pt x="267" y="7"/>
                </a:cubicBezTo>
                <a:close/>
              </a:path>
            </a:pathLst>
          </a:custGeom>
          <a:solidFill>
            <a:srgbClr val="ff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4"/>
          <p:cNvSpPr/>
          <p:nvPr/>
        </p:nvSpPr>
        <p:spPr>
          <a:xfrm>
            <a:off x="6719760" y="2496960"/>
            <a:ext cx="101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hikaga 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5"/>
          <p:cNvSpPr/>
          <p:nvPr/>
        </p:nvSpPr>
        <p:spPr>
          <a:xfrm>
            <a:off x="6064200" y="2424240"/>
            <a:ext cx="7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26"/>
          <p:cNvSpPr/>
          <p:nvPr/>
        </p:nvSpPr>
        <p:spPr>
          <a:xfrm>
            <a:off x="1006560" y="2637000"/>
            <a:ext cx="455400" cy="333360"/>
          </a:xfrm>
          <a:custGeom>
            <a:avLst/>
            <a:gdLst/>
            <a:ahLst/>
            <a:rect l="l" t="t" r="r" b="b"/>
            <a:pathLst>
              <a:path w="300" h="220">
                <a:moveTo>
                  <a:pt x="8" y="204"/>
                </a:moveTo>
                <a:cubicBezTo>
                  <a:pt x="0" y="171"/>
                  <a:pt x="0" y="171"/>
                  <a:pt x="8" y="140"/>
                </a:cubicBezTo>
                <a:cubicBezTo>
                  <a:pt x="10" y="134"/>
                  <a:pt x="11" y="113"/>
                  <a:pt x="20" y="108"/>
                </a:cubicBezTo>
                <a:cubicBezTo>
                  <a:pt x="27" y="104"/>
                  <a:pt x="36" y="105"/>
                  <a:pt x="44" y="104"/>
                </a:cubicBezTo>
                <a:cubicBezTo>
                  <a:pt x="51" y="99"/>
                  <a:pt x="62" y="98"/>
                  <a:pt x="68" y="92"/>
                </a:cubicBezTo>
                <a:cubicBezTo>
                  <a:pt x="74" y="86"/>
                  <a:pt x="75" y="75"/>
                  <a:pt x="80" y="68"/>
                </a:cubicBezTo>
                <a:cubicBezTo>
                  <a:pt x="85" y="48"/>
                  <a:pt x="83" y="31"/>
                  <a:pt x="104" y="24"/>
                </a:cubicBezTo>
                <a:cubicBezTo>
                  <a:pt x="121" y="50"/>
                  <a:pt x="101" y="28"/>
                  <a:pt x="124" y="32"/>
                </a:cubicBezTo>
                <a:cubicBezTo>
                  <a:pt x="129" y="33"/>
                  <a:pt x="132" y="38"/>
                  <a:pt x="136" y="40"/>
                </a:cubicBezTo>
                <a:cubicBezTo>
                  <a:pt x="144" y="43"/>
                  <a:pt x="160" y="48"/>
                  <a:pt x="160" y="48"/>
                </a:cubicBezTo>
                <a:cubicBezTo>
                  <a:pt x="195" y="44"/>
                  <a:pt x="213" y="38"/>
                  <a:pt x="244" y="28"/>
                </a:cubicBezTo>
                <a:cubicBezTo>
                  <a:pt x="253" y="14"/>
                  <a:pt x="252" y="5"/>
                  <a:pt x="268" y="0"/>
                </a:cubicBezTo>
                <a:cubicBezTo>
                  <a:pt x="290" y="7"/>
                  <a:pt x="282" y="28"/>
                  <a:pt x="288" y="48"/>
                </a:cubicBezTo>
                <a:cubicBezTo>
                  <a:pt x="290" y="56"/>
                  <a:pt x="293" y="64"/>
                  <a:pt x="296" y="72"/>
                </a:cubicBezTo>
                <a:cubicBezTo>
                  <a:pt x="297" y="76"/>
                  <a:pt x="300" y="84"/>
                  <a:pt x="300" y="84"/>
                </a:cubicBezTo>
                <a:cubicBezTo>
                  <a:pt x="297" y="94"/>
                  <a:pt x="297" y="106"/>
                  <a:pt x="292" y="116"/>
                </a:cubicBezTo>
                <a:cubicBezTo>
                  <a:pt x="285" y="128"/>
                  <a:pt x="222" y="142"/>
                  <a:pt x="204" y="148"/>
                </a:cubicBezTo>
                <a:cubicBezTo>
                  <a:pt x="182" y="180"/>
                  <a:pt x="206" y="152"/>
                  <a:pt x="128" y="164"/>
                </a:cubicBezTo>
                <a:cubicBezTo>
                  <a:pt x="118" y="165"/>
                  <a:pt x="111" y="180"/>
                  <a:pt x="104" y="184"/>
                </a:cubicBezTo>
                <a:cubicBezTo>
                  <a:pt x="97" y="188"/>
                  <a:pt x="87" y="187"/>
                  <a:pt x="80" y="192"/>
                </a:cubicBezTo>
                <a:cubicBezTo>
                  <a:pt x="63" y="203"/>
                  <a:pt x="50" y="214"/>
                  <a:pt x="32" y="220"/>
                </a:cubicBezTo>
                <a:cubicBezTo>
                  <a:pt x="28" y="217"/>
                  <a:pt x="24" y="214"/>
                  <a:pt x="20" y="212"/>
                </a:cubicBezTo>
                <a:cubicBezTo>
                  <a:pt x="16" y="210"/>
                  <a:pt x="8" y="212"/>
                  <a:pt x="8" y="208"/>
                </a:cubicBezTo>
                <a:cubicBezTo>
                  <a:pt x="8" y="203"/>
                  <a:pt x="39" y="204"/>
                  <a:pt x="8" y="204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7"/>
          <p:cNvSpPr/>
          <p:nvPr/>
        </p:nvSpPr>
        <p:spPr>
          <a:xfrm>
            <a:off x="1432080" y="2597040"/>
            <a:ext cx="745920" cy="398520"/>
          </a:xfrm>
          <a:custGeom>
            <a:avLst/>
            <a:gdLst/>
            <a:ahLst/>
            <a:rect l="l" t="t" r="r" b="b"/>
            <a:pathLst>
              <a:path w="492" h="262">
                <a:moveTo>
                  <a:pt x="0" y="34"/>
                </a:moveTo>
                <a:cubicBezTo>
                  <a:pt x="7" y="33"/>
                  <a:pt x="13" y="32"/>
                  <a:pt x="20" y="30"/>
                </a:cubicBezTo>
                <a:cubicBezTo>
                  <a:pt x="28" y="28"/>
                  <a:pt x="44" y="22"/>
                  <a:pt x="44" y="22"/>
                </a:cubicBezTo>
                <a:cubicBezTo>
                  <a:pt x="68" y="28"/>
                  <a:pt x="55" y="28"/>
                  <a:pt x="84" y="18"/>
                </a:cubicBezTo>
                <a:cubicBezTo>
                  <a:pt x="88" y="17"/>
                  <a:pt x="96" y="14"/>
                  <a:pt x="96" y="14"/>
                </a:cubicBezTo>
                <a:cubicBezTo>
                  <a:pt x="99" y="19"/>
                  <a:pt x="105" y="34"/>
                  <a:pt x="116" y="30"/>
                </a:cubicBezTo>
                <a:cubicBezTo>
                  <a:pt x="125" y="27"/>
                  <a:pt x="140" y="14"/>
                  <a:pt x="140" y="14"/>
                </a:cubicBezTo>
                <a:cubicBezTo>
                  <a:pt x="159" y="17"/>
                  <a:pt x="175" y="12"/>
                  <a:pt x="192" y="18"/>
                </a:cubicBezTo>
                <a:cubicBezTo>
                  <a:pt x="196" y="17"/>
                  <a:pt x="201" y="17"/>
                  <a:pt x="204" y="14"/>
                </a:cubicBezTo>
                <a:cubicBezTo>
                  <a:pt x="207" y="11"/>
                  <a:pt x="204" y="4"/>
                  <a:pt x="208" y="2"/>
                </a:cubicBezTo>
                <a:cubicBezTo>
                  <a:pt x="213" y="0"/>
                  <a:pt x="230" y="13"/>
                  <a:pt x="232" y="14"/>
                </a:cubicBezTo>
                <a:cubicBezTo>
                  <a:pt x="236" y="13"/>
                  <a:pt x="240" y="10"/>
                  <a:pt x="244" y="10"/>
                </a:cubicBezTo>
                <a:cubicBezTo>
                  <a:pt x="252" y="11"/>
                  <a:pt x="268" y="18"/>
                  <a:pt x="268" y="18"/>
                </a:cubicBezTo>
                <a:cubicBezTo>
                  <a:pt x="262" y="36"/>
                  <a:pt x="254" y="28"/>
                  <a:pt x="248" y="46"/>
                </a:cubicBezTo>
                <a:cubicBezTo>
                  <a:pt x="252" y="59"/>
                  <a:pt x="256" y="73"/>
                  <a:pt x="260" y="86"/>
                </a:cubicBezTo>
                <a:cubicBezTo>
                  <a:pt x="255" y="102"/>
                  <a:pt x="246" y="101"/>
                  <a:pt x="232" y="110"/>
                </a:cubicBezTo>
                <a:cubicBezTo>
                  <a:pt x="240" y="133"/>
                  <a:pt x="230" y="116"/>
                  <a:pt x="248" y="118"/>
                </a:cubicBezTo>
                <a:cubicBezTo>
                  <a:pt x="256" y="119"/>
                  <a:pt x="272" y="126"/>
                  <a:pt x="272" y="126"/>
                </a:cubicBezTo>
                <a:cubicBezTo>
                  <a:pt x="277" y="134"/>
                  <a:pt x="280" y="143"/>
                  <a:pt x="292" y="142"/>
                </a:cubicBezTo>
                <a:cubicBezTo>
                  <a:pt x="300" y="141"/>
                  <a:pt x="316" y="134"/>
                  <a:pt x="316" y="134"/>
                </a:cubicBezTo>
                <a:cubicBezTo>
                  <a:pt x="324" y="137"/>
                  <a:pt x="332" y="139"/>
                  <a:pt x="340" y="142"/>
                </a:cubicBezTo>
                <a:cubicBezTo>
                  <a:pt x="344" y="143"/>
                  <a:pt x="352" y="146"/>
                  <a:pt x="352" y="146"/>
                </a:cubicBezTo>
                <a:cubicBezTo>
                  <a:pt x="370" y="174"/>
                  <a:pt x="359" y="167"/>
                  <a:pt x="380" y="174"/>
                </a:cubicBezTo>
                <a:cubicBezTo>
                  <a:pt x="381" y="178"/>
                  <a:pt x="380" y="184"/>
                  <a:pt x="384" y="186"/>
                </a:cubicBezTo>
                <a:cubicBezTo>
                  <a:pt x="388" y="188"/>
                  <a:pt x="392" y="182"/>
                  <a:pt x="396" y="182"/>
                </a:cubicBezTo>
                <a:cubicBezTo>
                  <a:pt x="404" y="183"/>
                  <a:pt x="412" y="187"/>
                  <a:pt x="420" y="190"/>
                </a:cubicBezTo>
                <a:cubicBezTo>
                  <a:pt x="443" y="198"/>
                  <a:pt x="455" y="210"/>
                  <a:pt x="480" y="214"/>
                </a:cubicBezTo>
                <a:cubicBezTo>
                  <a:pt x="484" y="234"/>
                  <a:pt x="492" y="245"/>
                  <a:pt x="480" y="262"/>
                </a:cubicBezTo>
                <a:cubicBezTo>
                  <a:pt x="473" y="261"/>
                  <a:pt x="444" y="261"/>
                  <a:pt x="432" y="254"/>
                </a:cubicBezTo>
                <a:cubicBezTo>
                  <a:pt x="406" y="239"/>
                  <a:pt x="405" y="236"/>
                  <a:pt x="376" y="230"/>
                </a:cubicBezTo>
                <a:cubicBezTo>
                  <a:pt x="361" y="220"/>
                  <a:pt x="336" y="191"/>
                  <a:pt x="320" y="186"/>
                </a:cubicBezTo>
                <a:cubicBezTo>
                  <a:pt x="298" y="179"/>
                  <a:pt x="263" y="167"/>
                  <a:pt x="244" y="154"/>
                </a:cubicBezTo>
                <a:cubicBezTo>
                  <a:pt x="232" y="136"/>
                  <a:pt x="223" y="138"/>
                  <a:pt x="200" y="134"/>
                </a:cubicBezTo>
                <a:cubicBezTo>
                  <a:pt x="166" y="139"/>
                  <a:pt x="154" y="132"/>
                  <a:pt x="124" y="122"/>
                </a:cubicBezTo>
                <a:cubicBezTo>
                  <a:pt x="104" y="129"/>
                  <a:pt x="85" y="132"/>
                  <a:pt x="64" y="138"/>
                </a:cubicBezTo>
                <a:cubicBezTo>
                  <a:pt x="56" y="140"/>
                  <a:pt x="40" y="146"/>
                  <a:pt x="40" y="146"/>
                </a:cubicBezTo>
                <a:cubicBezTo>
                  <a:pt x="31" y="145"/>
                  <a:pt x="17" y="150"/>
                  <a:pt x="12" y="142"/>
                </a:cubicBezTo>
                <a:cubicBezTo>
                  <a:pt x="7" y="135"/>
                  <a:pt x="20" y="118"/>
                  <a:pt x="20" y="118"/>
                </a:cubicBezTo>
                <a:cubicBezTo>
                  <a:pt x="16" y="89"/>
                  <a:pt x="7" y="62"/>
                  <a:pt x="0" y="34"/>
                </a:cubicBezTo>
                <a:close/>
              </a:path>
            </a:pathLst>
          </a:cu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8"/>
          <p:cNvSpPr/>
          <p:nvPr/>
        </p:nvSpPr>
        <p:spPr>
          <a:xfrm>
            <a:off x="527040" y="2789280"/>
            <a:ext cx="18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nids  Hafs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9"/>
          <p:cNvSpPr/>
          <p:nvPr/>
        </p:nvSpPr>
        <p:spPr>
          <a:xfrm>
            <a:off x="2158920" y="2619360"/>
            <a:ext cx="857160" cy="709560"/>
          </a:xfrm>
          <a:custGeom>
            <a:avLst/>
            <a:gdLst/>
            <a:ahLst/>
            <a:rect l="l" t="t" r="r" b="b"/>
            <a:pathLst>
              <a:path w="565" h="468">
                <a:moveTo>
                  <a:pt x="1" y="196"/>
                </a:moveTo>
                <a:cubicBezTo>
                  <a:pt x="4" y="192"/>
                  <a:pt x="9" y="189"/>
                  <a:pt x="9" y="184"/>
                </a:cubicBezTo>
                <a:cubicBezTo>
                  <a:pt x="9" y="179"/>
                  <a:pt x="1" y="177"/>
                  <a:pt x="1" y="172"/>
                </a:cubicBezTo>
                <a:cubicBezTo>
                  <a:pt x="0" y="166"/>
                  <a:pt x="1" y="135"/>
                  <a:pt x="13" y="128"/>
                </a:cubicBezTo>
                <a:cubicBezTo>
                  <a:pt x="24" y="121"/>
                  <a:pt x="37" y="120"/>
                  <a:pt x="49" y="116"/>
                </a:cubicBezTo>
                <a:cubicBezTo>
                  <a:pt x="53" y="115"/>
                  <a:pt x="61" y="112"/>
                  <a:pt x="61" y="112"/>
                </a:cubicBezTo>
                <a:cubicBezTo>
                  <a:pt x="81" y="125"/>
                  <a:pt x="100" y="137"/>
                  <a:pt x="121" y="148"/>
                </a:cubicBezTo>
                <a:cubicBezTo>
                  <a:pt x="133" y="154"/>
                  <a:pt x="157" y="164"/>
                  <a:pt x="157" y="164"/>
                </a:cubicBezTo>
                <a:cubicBezTo>
                  <a:pt x="178" y="150"/>
                  <a:pt x="189" y="163"/>
                  <a:pt x="209" y="172"/>
                </a:cubicBezTo>
                <a:cubicBezTo>
                  <a:pt x="217" y="175"/>
                  <a:pt x="225" y="177"/>
                  <a:pt x="233" y="180"/>
                </a:cubicBezTo>
                <a:cubicBezTo>
                  <a:pt x="237" y="181"/>
                  <a:pt x="245" y="184"/>
                  <a:pt x="245" y="184"/>
                </a:cubicBezTo>
                <a:cubicBezTo>
                  <a:pt x="262" y="173"/>
                  <a:pt x="275" y="162"/>
                  <a:pt x="293" y="156"/>
                </a:cubicBezTo>
                <a:cubicBezTo>
                  <a:pt x="297" y="157"/>
                  <a:pt x="301" y="158"/>
                  <a:pt x="305" y="160"/>
                </a:cubicBezTo>
                <a:cubicBezTo>
                  <a:pt x="309" y="162"/>
                  <a:pt x="313" y="166"/>
                  <a:pt x="317" y="168"/>
                </a:cubicBezTo>
                <a:cubicBezTo>
                  <a:pt x="325" y="171"/>
                  <a:pt x="341" y="176"/>
                  <a:pt x="341" y="176"/>
                </a:cubicBezTo>
                <a:cubicBezTo>
                  <a:pt x="360" y="170"/>
                  <a:pt x="373" y="166"/>
                  <a:pt x="389" y="156"/>
                </a:cubicBezTo>
                <a:cubicBezTo>
                  <a:pt x="399" y="142"/>
                  <a:pt x="403" y="137"/>
                  <a:pt x="397" y="120"/>
                </a:cubicBezTo>
                <a:cubicBezTo>
                  <a:pt x="407" y="91"/>
                  <a:pt x="400" y="103"/>
                  <a:pt x="413" y="84"/>
                </a:cubicBezTo>
                <a:cubicBezTo>
                  <a:pt x="394" y="28"/>
                  <a:pt x="448" y="22"/>
                  <a:pt x="481" y="0"/>
                </a:cubicBezTo>
                <a:cubicBezTo>
                  <a:pt x="482" y="4"/>
                  <a:pt x="485" y="8"/>
                  <a:pt x="485" y="12"/>
                </a:cubicBezTo>
                <a:cubicBezTo>
                  <a:pt x="484" y="20"/>
                  <a:pt x="477" y="36"/>
                  <a:pt x="477" y="36"/>
                </a:cubicBezTo>
                <a:cubicBezTo>
                  <a:pt x="485" y="60"/>
                  <a:pt x="501" y="51"/>
                  <a:pt x="525" y="48"/>
                </a:cubicBezTo>
                <a:cubicBezTo>
                  <a:pt x="541" y="53"/>
                  <a:pt x="548" y="60"/>
                  <a:pt x="553" y="76"/>
                </a:cubicBezTo>
                <a:cubicBezTo>
                  <a:pt x="545" y="88"/>
                  <a:pt x="521" y="104"/>
                  <a:pt x="521" y="104"/>
                </a:cubicBezTo>
                <a:cubicBezTo>
                  <a:pt x="517" y="110"/>
                  <a:pt x="476" y="158"/>
                  <a:pt x="473" y="160"/>
                </a:cubicBezTo>
                <a:cubicBezTo>
                  <a:pt x="466" y="164"/>
                  <a:pt x="449" y="168"/>
                  <a:pt x="449" y="168"/>
                </a:cubicBezTo>
                <a:cubicBezTo>
                  <a:pt x="438" y="185"/>
                  <a:pt x="432" y="200"/>
                  <a:pt x="421" y="216"/>
                </a:cubicBezTo>
                <a:cubicBezTo>
                  <a:pt x="428" y="244"/>
                  <a:pt x="440" y="271"/>
                  <a:pt x="465" y="288"/>
                </a:cubicBezTo>
                <a:cubicBezTo>
                  <a:pt x="474" y="302"/>
                  <a:pt x="475" y="310"/>
                  <a:pt x="489" y="320"/>
                </a:cubicBezTo>
                <a:cubicBezTo>
                  <a:pt x="512" y="354"/>
                  <a:pt x="481" y="314"/>
                  <a:pt x="509" y="336"/>
                </a:cubicBezTo>
                <a:cubicBezTo>
                  <a:pt x="520" y="345"/>
                  <a:pt x="515" y="350"/>
                  <a:pt x="521" y="360"/>
                </a:cubicBezTo>
                <a:cubicBezTo>
                  <a:pt x="533" y="382"/>
                  <a:pt x="534" y="381"/>
                  <a:pt x="549" y="396"/>
                </a:cubicBezTo>
                <a:cubicBezTo>
                  <a:pt x="555" y="413"/>
                  <a:pt x="565" y="440"/>
                  <a:pt x="549" y="456"/>
                </a:cubicBezTo>
                <a:cubicBezTo>
                  <a:pt x="543" y="462"/>
                  <a:pt x="532" y="463"/>
                  <a:pt x="525" y="468"/>
                </a:cubicBezTo>
                <a:cubicBezTo>
                  <a:pt x="503" y="464"/>
                  <a:pt x="496" y="461"/>
                  <a:pt x="489" y="440"/>
                </a:cubicBezTo>
                <a:cubicBezTo>
                  <a:pt x="493" y="422"/>
                  <a:pt x="488" y="412"/>
                  <a:pt x="493" y="396"/>
                </a:cubicBezTo>
                <a:cubicBezTo>
                  <a:pt x="489" y="374"/>
                  <a:pt x="487" y="369"/>
                  <a:pt x="465" y="376"/>
                </a:cubicBezTo>
                <a:cubicBezTo>
                  <a:pt x="451" y="354"/>
                  <a:pt x="448" y="331"/>
                  <a:pt x="433" y="308"/>
                </a:cubicBezTo>
                <a:cubicBezTo>
                  <a:pt x="428" y="300"/>
                  <a:pt x="409" y="292"/>
                  <a:pt x="409" y="292"/>
                </a:cubicBezTo>
                <a:cubicBezTo>
                  <a:pt x="400" y="278"/>
                  <a:pt x="398" y="264"/>
                  <a:pt x="393" y="248"/>
                </a:cubicBezTo>
                <a:cubicBezTo>
                  <a:pt x="399" y="231"/>
                  <a:pt x="398" y="226"/>
                  <a:pt x="381" y="220"/>
                </a:cubicBezTo>
                <a:cubicBezTo>
                  <a:pt x="384" y="242"/>
                  <a:pt x="394" y="268"/>
                  <a:pt x="369" y="276"/>
                </a:cubicBezTo>
                <a:cubicBezTo>
                  <a:pt x="357" y="259"/>
                  <a:pt x="361" y="243"/>
                  <a:pt x="341" y="236"/>
                </a:cubicBezTo>
                <a:cubicBezTo>
                  <a:pt x="336" y="229"/>
                  <a:pt x="326" y="213"/>
                  <a:pt x="321" y="220"/>
                </a:cubicBezTo>
                <a:cubicBezTo>
                  <a:pt x="313" y="232"/>
                  <a:pt x="338" y="252"/>
                  <a:pt x="345" y="256"/>
                </a:cubicBezTo>
                <a:cubicBezTo>
                  <a:pt x="360" y="300"/>
                  <a:pt x="335" y="235"/>
                  <a:pt x="361" y="276"/>
                </a:cubicBezTo>
                <a:cubicBezTo>
                  <a:pt x="373" y="295"/>
                  <a:pt x="378" y="326"/>
                  <a:pt x="385" y="348"/>
                </a:cubicBezTo>
                <a:cubicBezTo>
                  <a:pt x="392" y="369"/>
                  <a:pt x="410" y="387"/>
                  <a:pt x="417" y="408"/>
                </a:cubicBezTo>
                <a:cubicBezTo>
                  <a:pt x="388" y="418"/>
                  <a:pt x="357" y="413"/>
                  <a:pt x="329" y="404"/>
                </a:cubicBezTo>
                <a:cubicBezTo>
                  <a:pt x="319" y="390"/>
                  <a:pt x="311" y="389"/>
                  <a:pt x="297" y="380"/>
                </a:cubicBezTo>
                <a:cubicBezTo>
                  <a:pt x="291" y="362"/>
                  <a:pt x="267" y="350"/>
                  <a:pt x="249" y="344"/>
                </a:cubicBezTo>
                <a:cubicBezTo>
                  <a:pt x="241" y="341"/>
                  <a:pt x="233" y="339"/>
                  <a:pt x="225" y="336"/>
                </a:cubicBezTo>
                <a:cubicBezTo>
                  <a:pt x="221" y="335"/>
                  <a:pt x="213" y="332"/>
                  <a:pt x="213" y="332"/>
                </a:cubicBezTo>
                <a:cubicBezTo>
                  <a:pt x="194" y="303"/>
                  <a:pt x="189" y="272"/>
                  <a:pt x="165" y="248"/>
                </a:cubicBezTo>
                <a:cubicBezTo>
                  <a:pt x="160" y="234"/>
                  <a:pt x="151" y="230"/>
                  <a:pt x="137" y="224"/>
                </a:cubicBezTo>
                <a:cubicBezTo>
                  <a:pt x="129" y="221"/>
                  <a:pt x="113" y="216"/>
                  <a:pt x="113" y="216"/>
                </a:cubicBezTo>
                <a:cubicBezTo>
                  <a:pt x="74" y="229"/>
                  <a:pt x="30" y="225"/>
                  <a:pt x="1" y="196"/>
                </a:cubicBezTo>
                <a:close/>
              </a:path>
            </a:pathLst>
          </a:cu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0"/>
          <p:cNvSpPr/>
          <p:nvPr/>
        </p:nvSpPr>
        <p:spPr>
          <a:xfrm>
            <a:off x="2128680" y="2935440"/>
            <a:ext cx="123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mluk Sultan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31"/>
          <p:cNvSpPr/>
          <p:nvPr/>
        </p:nvSpPr>
        <p:spPr>
          <a:xfrm>
            <a:off x="1112760" y="2593800"/>
            <a:ext cx="106560" cy="66960"/>
          </a:xfrm>
          <a:custGeom>
            <a:avLst/>
            <a:gdLst/>
            <a:ahLst/>
            <a:rect l="l" t="t" r="r" b="b"/>
            <a:pathLst>
              <a:path w="70" h="44">
                <a:moveTo>
                  <a:pt x="6" y="24"/>
                </a:moveTo>
                <a:cubicBezTo>
                  <a:pt x="15" y="10"/>
                  <a:pt x="22" y="5"/>
                  <a:pt x="38" y="0"/>
                </a:cubicBezTo>
                <a:cubicBezTo>
                  <a:pt x="56" y="5"/>
                  <a:pt x="64" y="6"/>
                  <a:pt x="70" y="24"/>
                </a:cubicBezTo>
                <a:cubicBezTo>
                  <a:pt x="32" y="32"/>
                  <a:pt x="64" y="37"/>
                  <a:pt x="22" y="44"/>
                </a:cubicBezTo>
                <a:cubicBezTo>
                  <a:pt x="17" y="42"/>
                  <a:pt x="0" y="40"/>
                  <a:pt x="6" y="28"/>
                </a:cubicBezTo>
                <a:cubicBezTo>
                  <a:pt x="9" y="23"/>
                  <a:pt x="35" y="24"/>
                  <a:pt x="6" y="24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32"/>
          <p:cNvSpPr/>
          <p:nvPr/>
        </p:nvSpPr>
        <p:spPr>
          <a:xfrm>
            <a:off x="527040" y="257004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33"/>
          <p:cNvSpPr/>
          <p:nvPr/>
        </p:nvSpPr>
        <p:spPr>
          <a:xfrm>
            <a:off x="1023840" y="2435400"/>
            <a:ext cx="108000" cy="195120"/>
          </a:xfrm>
          <a:custGeom>
            <a:avLst/>
            <a:gdLst/>
            <a:ahLst/>
            <a:rect l="l" t="t" r="r" b="b"/>
            <a:pathLst>
              <a:path w="71" h="129">
                <a:moveTo>
                  <a:pt x="16" y="1"/>
                </a:moveTo>
                <a:cubicBezTo>
                  <a:pt x="31" y="6"/>
                  <a:pt x="37" y="0"/>
                  <a:pt x="52" y="5"/>
                </a:cubicBezTo>
                <a:cubicBezTo>
                  <a:pt x="68" y="21"/>
                  <a:pt x="63" y="25"/>
                  <a:pt x="56" y="45"/>
                </a:cubicBezTo>
                <a:cubicBezTo>
                  <a:pt x="61" y="61"/>
                  <a:pt x="71" y="115"/>
                  <a:pt x="48" y="125"/>
                </a:cubicBezTo>
                <a:cubicBezTo>
                  <a:pt x="39" y="129"/>
                  <a:pt x="29" y="128"/>
                  <a:pt x="20" y="129"/>
                </a:cubicBezTo>
                <a:cubicBezTo>
                  <a:pt x="1" y="123"/>
                  <a:pt x="14" y="113"/>
                  <a:pt x="8" y="93"/>
                </a:cubicBezTo>
                <a:cubicBezTo>
                  <a:pt x="6" y="85"/>
                  <a:pt x="0" y="69"/>
                  <a:pt x="0" y="69"/>
                </a:cubicBezTo>
                <a:cubicBezTo>
                  <a:pt x="8" y="46"/>
                  <a:pt x="16" y="26"/>
                  <a:pt x="16" y="1"/>
                </a:cubicBez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34"/>
          <p:cNvSpPr/>
          <p:nvPr/>
        </p:nvSpPr>
        <p:spPr>
          <a:xfrm>
            <a:off x="380880" y="235116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35"/>
          <p:cNvSpPr/>
          <p:nvPr/>
        </p:nvSpPr>
        <p:spPr>
          <a:xfrm>
            <a:off x="1023840" y="2284560"/>
            <a:ext cx="335160" cy="35244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0" y="96"/>
                </a:moveTo>
                <a:cubicBezTo>
                  <a:pt x="14" y="78"/>
                  <a:pt x="20" y="63"/>
                  <a:pt x="0" y="56"/>
                </a:cubicBezTo>
                <a:cubicBezTo>
                  <a:pt x="1" y="52"/>
                  <a:pt x="1" y="46"/>
                  <a:pt x="4" y="44"/>
                </a:cubicBezTo>
                <a:cubicBezTo>
                  <a:pt x="5" y="43"/>
                  <a:pt x="58" y="22"/>
                  <a:pt x="64" y="20"/>
                </a:cubicBezTo>
                <a:cubicBezTo>
                  <a:pt x="68" y="21"/>
                  <a:pt x="72" y="24"/>
                  <a:pt x="76" y="24"/>
                </a:cubicBezTo>
                <a:cubicBezTo>
                  <a:pt x="84" y="23"/>
                  <a:pt x="100" y="16"/>
                  <a:pt x="100" y="16"/>
                </a:cubicBezTo>
                <a:cubicBezTo>
                  <a:pt x="129" y="26"/>
                  <a:pt x="119" y="17"/>
                  <a:pt x="132" y="36"/>
                </a:cubicBezTo>
                <a:cubicBezTo>
                  <a:pt x="161" y="26"/>
                  <a:pt x="149" y="23"/>
                  <a:pt x="168" y="36"/>
                </a:cubicBezTo>
                <a:cubicBezTo>
                  <a:pt x="193" y="28"/>
                  <a:pt x="181" y="48"/>
                  <a:pt x="204" y="32"/>
                </a:cubicBezTo>
                <a:cubicBezTo>
                  <a:pt x="205" y="23"/>
                  <a:pt x="204" y="12"/>
                  <a:pt x="208" y="4"/>
                </a:cubicBezTo>
                <a:cubicBezTo>
                  <a:pt x="210" y="0"/>
                  <a:pt x="212" y="12"/>
                  <a:pt x="212" y="16"/>
                </a:cubicBezTo>
                <a:cubicBezTo>
                  <a:pt x="212" y="23"/>
                  <a:pt x="210" y="29"/>
                  <a:pt x="208" y="36"/>
                </a:cubicBezTo>
                <a:cubicBezTo>
                  <a:pt x="203" y="55"/>
                  <a:pt x="194" y="66"/>
                  <a:pt x="188" y="84"/>
                </a:cubicBezTo>
                <a:cubicBezTo>
                  <a:pt x="199" y="117"/>
                  <a:pt x="183" y="66"/>
                  <a:pt x="196" y="140"/>
                </a:cubicBezTo>
                <a:cubicBezTo>
                  <a:pt x="200" y="163"/>
                  <a:pt x="213" y="179"/>
                  <a:pt x="220" y="200"/>
                </a:cubicBezTo>
                <a:cubicBezTo>
                  <a:pt x="212" y="206"/>
                  <a:pt x="200" y="206"/>
                  <a:pt x="192" y="212"/>
                </a:cubicBezTo>
                <a:cubicBezTo>
                  <a:pt x="189" y="215"/>
                  <a:pt x="191" y="221"/>
                  <a:pt x="188" y="224"/>
                </a:cubicBezTo>
                <a:cubicBezTo>
                  <a:pt x="185" y="228"/>
                  <a:pt x="180" y="229"/>
                  <a:pt x="176" y="232"/>
                </a:cubicBezTo>
                <a:cubicBezTo>
                  <a:pt x="161" y="227"/>
                  <a:pt x="152" y="223"/>
                  <a:pt x="136" y="228"/>
                </a:cubicBezTo>
                <a:cubicBezTo>
                  <a:pt x="119" y="217"/>
                  <a:pt x="106" y="206"/>
                  <a:pt x="88" y="200"/>
                </a:cubicBezTo>
                <a:cubicBezTo>
                  <a:pt x="75" y="209"/>
                  <a:pt x="69" y="219"/>
                  <a:pt x="56" y="228"/>
                </a:cubicBezTo>
                <a:cubicBezTo>
                  <a:pt x="59" y="214"/>
                  <a:pt x="68" y="188"/>
                  <a:pt x="68" y="188"/>
                </a:cubicBezTo>
                <a:cubicBezTo>
                  <a:pt x="64" y="173"/>
                  <a:pt x="60" y="159"/>
                  <a:pt x="56" y="144"/>
                </a:cubicBezTo>
                <a:cubicBezTo>
                  <a:pt x="75" y="116"/>
                  <a:pt x="80" y="125"/>
                  <a:pt x="60" y="112"/>
                </a:cubicBezTo>
                <a:cubicBezTo>
                  <a:pt x="52" y="89"/>
                  <a:pt x="62" y="106"/>
                  <a:pt x="28" y="96"/>
                </a:cubicBezTo>
                <a:cubicBezTo>
                  <a:pt x="23" y="95"/>
                  <a:pt x="21" y="88"/>
                  <a:pt x="16" y="88"/>
                </a:cubicBezTo>
                <a:cubicBezTo>
                  <a:pt x="13" y="88"/>
                  <a:pt x="19" y="93"/>
                  <a:pt x="20" y="96"/>
                </a:cubicBez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1109520" y="2351160"/>
            <a:ext cx="7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37"/>
          <p:cNvSpPr/>
          <p:nvPr/>
        </p:nvSpPr>
        <p:spPr>
          <a:xfrm>
            <a:off x="1195560" y="1944720"/>
            <a:ext cx="433080" cy="468360"/>
          </a:xfrm>
          <a:custGeom>
            <a:avLst/>
            <a:gdLst/>
            <a:ahLst/>
            <a:rect l="l" t="t" r="r" b="b"/>
            <a:pathLst>
              <a:path w="285" h="308">
                <a:moveTo>
                  <a:pt x="99" y="264"/>
                </a:moveTo>
                <a:cubicBezTo>
                  <a:pt x="105" y="247"/>
                  <a:pt x="105" y="253"/>
                  <a:pt x="99" y="232"/>
                </a:cubicBezTo>
                <a:cubicBezTo>
                  <a:pt x="97" y="224"/>
                  <a:pt x="91" y="208"/>
                  <a:pt x="91" y="208"/>
                </a:cubicBezTo>
                <a:cubicBezTo>
                  <a:pt x="95" y="187"/>
                  <a:pt x="105" y="180"/>
                  <a:pt x="87" y="168"/>
                </a:cubicBezTo>
                <a:cubicBezTo>
                  <a:pt x="80" y="157"/>
                  <a:pt x="77" y="142"/>
                  <a:pt x="67" y="132"/>
                </a:cubicBezTo>
                <a:cubicBezTo>
                  <a:pt x="52" y="117"/>
                  <a:pt x="25" y="112"/>
                  <a:pt x="7" y="100"/>
                </a:cubicBezTo>
                <a:cubicBezTo>
                  <a:pt x="0" y="80"/>
                  <a:pt x="12" y="83"/>
                  <a:pt x="27" y="88"/>
                </a:cubicBezTo>
                <a:cubicBezTo>
                  <a:pt x="34" y="66"/>
                  <a:pt x="46" y="78"/>
                  <a:pt x="55" y="92"/>
                </a:cubicBezTo>
                <a:cubicBezTo>
                  <a:pt x="71" y="87"/>
                  <a:pt x="78" y="82"/>
                  <a:pt x="87" y="68"/>
                </a:cubicBezTo>
                <a:cubicBezTo>
                  <a:pt x="86" y="64"/>
                  <a:pt x="81" y="60"/>
                  <a:pt x="83" y="56"/>
                </a:cubicBezTo>
                <a:cubicBezTo>
                  <a:pt x="85" y="52"/>
                  <a:pt x="91" y="50"/>
                  <a:pt x="95" y="52"/>
                </a:cubicBezTo>
                <a:cubicBezTo>
                  <a:pt x="99" y="54"/>
                  <a:pt x="96" y="61"/>
                  <a:pt x="99" y="64"/>
                </a:cubicBezTo>
                <a:cubicBezTo>
                  <a:pt x="102" y="68"/>
                  <a:pt x="107" y="69"/>
                  <a:pt x="111" y="72"/>
                </a:cubicBezTo>
                <a:cubicBezTo>
                  <a:pt x="119" y="67"/>
                  <a:pt x="127" y="61"/>
                  <a:pt x="135" y="56"/>
                </a:cubicBezTo>
                <a:cubicBezTo>
                  <a:pt x="139" y="53"/>
                  <a:pt x="147" y="48"/>
                  <a:pt x="147" y="48"/>
                </a:cubicBezTo>
                <a:cubicBezTo>
                  <a:pt x="152" y="41"/>
                  <a:pt x="153" y="31"/>
                  <a:pt x="159" y="24"/>
                </a:cubicBezTo>
                <a:cubicBezTo>
                  <a:pt x="167" y="13"/>
                  <a:pt x="194" y="4"/>
                  <a:pt x="207" y="0"/>
                </a:cubicBezTo>
                <a:cubicBezTo>
                  <a:pt x="233" y="9"/>
                  <a:pt x="243" y="40"/>
                  <a:pt x="251" y="64"/>
                </a:cubicBezTo>
                <a:cubicBezTo>
                  <a:pt x="254" y="72"/>
                  <a:pt x="259" y="88"/>
                  <a:pt x="259" y="88"/>
                </a:cubicBezTo>
                <a:cubicBezTo>
                  <a:pt x="263" y="141"/>
                  <a:pt x="270" y="193"/>
                  <a:pt x="283" y="244"/>
                </a:cubicBezTo>
                <a:cubicBezTo>
                  <a:pt x="282" y="252"/>
                  <a:pt x="285" y="262"/>
                  <a:pt x="279" y="268"/>
                </a:cubicBezTo>
                <a:cubicBezTo>
                  <a:pt x="273" y="274"/>
                  <a:pt x="243" y="255"/>
                  <a:pt x="239" y="252"/>
                </a:cubicBezTo>
                <a:cubicBezTo>
                  <a:pt x="224" y="257"/>
                  <a:pt x="222" y="267"/>
                  <a:pt x="207" y="272"/>
                </a:cubicBezTo>
                <a:cubicBezTo>
                  <a:pt x="195" y="307"/>
                  <a:pt x="205" y="264"/>
                  <a:pt x="215" y="288"/>
                </a:cubicBezTo>
                <a:cubicBezTo>
                  <a:pt x="222" y="306"/>
                  <a:pt x="204" y="306"/>
                  <a:pt x="195" y="308"/>
                </a:cubicBezTo>
                <a:cubicBezTo>
                  <a:pt x="171" y="292"/>
                  <a:pt x="150" y="285"/>
                  <a:pt x="123" y="276"/>
                </a:cubicBezTo>
                <a:cubicBezTo>
                  <a:pt x="98" y="268"/>
                  <a:pt x="99" y="249"/>
                  <a:pt x="99" y="264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8"/>
          <p:cNvSpPr/>
          <p:nvPr/>
        </p:nvSpPr>
        <p:spPr>
          <a:xfrm>
            <a:off x="817560" y="2060640"/>
            <a:ext cx="7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39"/>
          <p:cNvSpPr/>
          <p:nvPr/>
        </p:nvSpPr>
        <p:spPr>
          <a:xfrm>
            <a:off x="1160640" y="1720800"/>
            <a:ext cx="284040" cy="297000"/>
          </a:xfrm>
          <a:custGeom>
            <a:avLst/>
            <a:gdLst/>
            <a:ahLst/>
            <a:rect l="l" t="t" r="r" b="b"/>
            <a:pathLst>
              <a:path w="187" h="196">
                <a:moveTo>
                  <a:pt x="70" y="28"/>
                </a:moveTo>
                <a:cubicBezTo>
                  <a:pt x="76" y="11"/>
                  <a:pt x="84" y="15"/>
                  <a:pt x="94" y="0"/>
                </a:cubicBezTo>
                <a:cubicBezTo>
                  <a:pt x="111" y="6"/>
                  <a:pt x="107" y="14"/>
                  <a:pt x="122" y="24"/>
                </a:cubicBezTo>
                <a:cubicBezTo>
                  <a:pt x="132" y="39"/>
                  <a:pt x="140" y="35"/>
                  <a:pt x="146" y="52"/>
                </a:cubicBezTo>
                <a:cubicBezTo>
                  <a:pt x="145" y="59"/>
                  <a:pt x="140" y="66"/>
                  <a:pt x="142" y="72"/>
                </a:cubicBezTo>
                <a:cubicBezTo>
                  <a:pt x="142" y="73"/>
                  <a:pt x="171" y="86"/>
                  <a:pt x="178" y="88"/>
                </a:cubicBezTo>
                <a:cubicBezTo>
                  <a:pt x="187" y="116"/>
                  <a:pt x="184" y="119"/>
                  <a:pt x="174" y="148"/>
                </a:cubicBezTo>
                <a:cubicBezTo>
                  <a:pt x="170" y="161"/>
                  <a:pt x="142" y="176"/>
                  <a:pt x="142" y="176"/>
                </a:cubicBezTo>
                <a:cubicBezTo>
                  <a:pt x="122" y="175"/>
                  <a:pt x="102" y="174"/>
                  <a:pt x="82" y="172"/>
                </a:cubicBezTo>
                <a:cubicBezTo>
                  <a:pt x="78" y="172"/>
                  <a:pt x="74" y="166"/>
                  <a:pt x="70" y="168"/>
                </a:cubicBezTo>
                <a:cubicBezTo>
                  <a:pt x="62" y="172"/>
                  <a:pt x="63" y="185"/>
                  <a:pt x="58" y="192"/>
                </a:cubicBezTo>
                <a:cubicBezTo>
                  <a:pt x="41" y="181"/>
                  <a:pt x="38" y="185"/>
                  <a:pt x="22" y="196"/>
                </a:cubicBezTo>
                <a:cubicBezTo>
                  <a:pt x="0" y="181"/>
                  <a:pt x="13" y="179"/>
                  <a:pt x="30" y="168"/>
                </a:cubicBezTo>
                <a:cubicBezTo>
                  <a:pt x="36" y="150"/>
                  <a:pt x="55" y="150"/>
                  <a:pt x="70" y="140"/>
                </a:cubicBezTo>
                <a:cubicBezTo>
                  <a:pt x="47" y="132"/>
                  <a:pt x="42" y="144"/>
                  <a:pt x="18" y="128"/>
                </a:cubicBezTo>
                <a:cubicBezTo>
                  <a:pt x="33" y="118"/>
                  <a:pt x="50" y="122"/>
                  <a:pt x="30" y="108"/>
                </a:cubicBezTo>
                <a:cubicBezTo>
                  <a:pt x="38" y="85"/>
                  <a:pt x="47" y="84"/>
                  <a:pt x="66" y="72"/>
                </a:cubicBezTo>
                <a:cubicBezTo>
                  <a:pt x="67" y="68"/>
                  <a:pt x="70" y="64"/>
                  <a:pt x="70" y="60"/>
                </a:cubicBezTo>
                <a:cubicBezTo>
                  <a:pt x="70" y="56"/>
                  <a:pt x="66" y="52"/>
                  <a:pt x="66" y="48"/>
                </a:cubicBezTo>
                <a:cubicBezTo>
                  <a:pt x="68" y="29"/>
                  <a:pt x="81" y="17"/>
                  <a:pt x="70" y="28"/>
                </a:cubicBezTo>
                <a:close/>
              </a:path>
            </a:pathLst>
          </a:custGeom>
          <a:solidFill>
            <a:srgbClr val="99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40"/>
          <p:cNvSpPr/>
          <p:nvPr/>
        </p:nvSpPr>
        <p:spPr>
          <a:xfrm>
            <a:off x="1036800" y="1776240"/>
            <a:ext cx="126720" cy="181080"/>
          </a:xfrm>
          <a:custGeom>
            <a:avLst/>
            <a:gdLst/>
            <a:ahLst/>
            <a:rect l="l" t="t" r="r" b="b"/>
            <a:pathLst>
              <a:path w="84" h="119">
                <a:moveTo>
                  <a:pt x="80" y="3"/>
                </a:moveTo>
                <a:cubicBezTo>
                  <a:pt x="53" y="12"/>
                  <a:pt x="82" y="0"/>
                  <a:pt x="60" y="19"/>
                </a:cubicBezTo>
                <a:cubicBezTo>
                  <a:pt x="53" y="25"/>
                  <a:pt x="36" y="35"/>
                  <a:pt x="36" y="35"/>
                </a:cubicBezTo>
                <a:cubicBezTo>
                  <a:pt x="33" y="39"/>
                  <a:pt x="31" y="44"/>
                  <a:pt x="28" y="47"/>
                </a:cubicBezTo>
                <a:cubicBezTo>
                  <a:pt x="25" y="50"/>
                  <a:pt x="19" y="51"/>
                  <a:pt x="16" y="55"/>
                </a:cubicBezTo>
                <a:cubicBezTo>
                  <a:pt x="10" y="62"/>
                  <a:pt x="0" y="79"/>
                  <a:pt x="0" y="79"/>
                </a:cubicBezTo>
                <a:cubicBezTo>
                  <a:pt x="10" y="119"/>
                  <a:pt x="15" y="89"/>
                  <a:pt x="40" y="83"/>
                </a:cubicBezTo>
                <a:cubicBezTo>
                  <a:pt x="62" y="68"/>
                  <a:pt x="60" y="90"/>
                  <a:pt x="68" y="67"/>
                </a:cubicBezTo>
                <a:cubicBezTo>
                  <a:pt x="61" y="45"/>
                  <a:pt x="57" y="24"/>
                  <a:pt x="84" y="15"/>
                </a:cubicBezTo>
                <a:cubicBezTo>
                  <a:pt x="83" y="11"/>
                  <a:pt x="80" y="3"/>
                  <a:pt x="80" y="3"/>
                </a:cubicBezTo>
                <a:close/>
              </a:path>
            </a:pathLst>
          </a:custGeom>
          <a:solidFill>
            <a:srgbClr val="99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41"/>
          <p:cNvSpPr/>
          <p:nvPr/>
        </p:nvSpPr>
        <p:spPr>
          <a:xfrm>
            <a:off x="1127160" y="1549440"/>
            <a:ext cx="209520" cy="231840"/>
          </a:xfrm>
          <a:custGeom>
            <a:avLst/>
            <a:gdLst/>
            <a:ahLst/>
            <a:rect l="l" t="t" r="r" b="b"/>
            <a:pathLst>
              <a:path w="138" h="152">
                <a:moveTo>
                  <a:pt x="12" y="40"/>
                </a:moveTo>
                <a:cubicBezTo>
                  <a:pt x="40" y="22"/>
                  <a:pt x="39" y="33"/>
                  <a:pt x="32" y="12"/>
                </a:cubicBezTo>
                <a:cubicBezTo>
                  <a:pt x="48" y="1"/>
                  <a:pt x="55" y="6"/>
                  <a:pt x="72" y="12"/>
                </a:cubicBezTo>
                <a:cubicBezTo>
                  <a:pt x="88" y="7"/>
                  <a:pt x="104" y="0"/>
                  <a:pt x="88" y="24"/>
                </a:cubicBezTo>
                <a:cubicBezTo>
                  <a:pt x="99" y="31"/>
                  <a:pt x="124" y="40"/>
                  <a:pt x="124" y="40"/>
                </a:cubicBezTo>
                <a:cubicBezTo>
                  <a:pt x="119" y="56"/>
                  <a:pt x="114" y="63"/>
                  <a:pt x="100" y="72"/>
                </a:cubicBezTo>
                <a:cubicBezTo>
                  <a:pt x="101" y="79"/>
                  <a:pt x="101" y="86"/>
                  <a:pt x="104" y="92"/>
                </a:cubicBezTo>
                <a:cubicBezTo>
                  <a:pt x="113" y="107"/>
                  <a:pt x="138" y="94"/>
                  <a:pt x="100" y="120"/>
                </a:cubicBezTo>
                <a:cubicBezTo>
                  <a:pt x="93" y="141"/>
                  <a:pt x="81" y="141"/>
                  <a:pt x="60" y="148"/>
                </a:cubicBezTo>
                <a:cubicBezTo>
                  <a:pt x="56" y="149"/>
                  <a:pt x="48" y="152"/>
                  <a:pt x="48" y="152"/>
                </a:cubicBezTo>
                <a:cubicBezTo>
                  <a:pt x="42" y="135"/>
                  <a:pt x="46" y="130"/>
                  <a:pt x="56" y="116"/>
                </a:cubicBezTo>
                <a:cubicBezTo>
                  <a:pt x="47" y="81"/>
                  <a:pt x="57" y="120"/>
                  <a:pt x="28" y="100"/>
                </a:cubicBezTo>
                <a:cubicBezTo>
                  <a:pt x="0" y="109"/>
                  <a:pt x="7" y="116"/>
                  <a:pt x="0" y="96"/>
                </a:cubicBezTo>
                <a:cubicBezTo>
                  <a:pt x="18" y="68"/>
                  <a:pt x="13" y="81"/>
                  <a:pt x="20" y="60"/>
                </a:cubicBezTo>
                <a:cubicBezTo>
                  <a:pt x="17" y="56"/>
                  <a:pt x="13" y="53"/>
                  <a:pt x="12" y="48"/>
                </a:cubicBezTo>
                <a:cubicBezTo>
                  <a:pt x="11" y="40"/>
                  <a:pt x="22" y="30"/>
                  <a:pt x="12" y="40"/>
                </a:cubicBez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42"/>
          <p:cNvSpPr/>
          <p:nvPr/>
        </p:nvSpPr>
        <p:spPr>
          <a:xfrm>
            <a:off x="453960" y="1549440"/>
            <a:ext cx="87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tlan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43"/>
          <p:cNvSpPr/>
          <p:nvPr/>
        </p:nvSpPr>
        <p:spPr>
          <a:xfrm>
            <a:off x="447840" y="1063800"/>
            <a:ext cx="399960" cy="207720"/>
          </a:xfrm>
          <a:custGeom>
            <a:avLst/>
            <a:gdLst/>
            <a:ahLst/>
            <a:rect l="l" t="t" r="r" b="b"/>
            <a:pathLst>
              <a:path w="264" h="137">
                <a:moveTo>
                  <a:pt x="40" y="116"/>
                </a:moveTo>
                <a:cubicBezTo>
                  <a:pt x="48" y="91"/>
                  <a:pt x="60" y="112"/>
                  <a:pt x="52" y="88"/>
                </a:cubicBezTo>
                <a:cubicBezTo>
                  <a:pt x="34" y="94"/>
                  <a:pt x="18" y="84"/>
                  <a:pt x="0" y="80"/>
                </a:cubicBezTo>
                <a:cubicBezTo>
                  <a:pt x="22" y="73"/>
                  <a:pt x="25" y="83"/>
                  <a:pt x="48" y="68"/>
                </a:cubicBezTo>
                <a:cubicBezTo>
                  <a:pt x="56" y="45"/>
                  <a:pt x="33" y="51"/>
                  <a:pt x="16" y="40"/>
                </a:cubicBezTo>
                <a:cubicBezTo>
                  <a:pt x="15" y="36"/>
                  <a:pt x="9" y="31"/>
                  <a:pt x="12" y="28"/>
                </a:cubicBezTo>
                <a:cubicBezTo>
                  <a:pt x="15" y="24"/>
                  <a:pt x="23" y="26"/>
                  <a:pt x="28" y="24"/>
                </a:cubicBezTo>
                <a:cubicBezTo>
                  <a:pt x="36" y="22"/>
                  <a:pt x="52" y="16"/>
                  <a:pt x="52" y="16"/>
                </a:cubicBezTo>
                <a:cubicBezTo>
                  <a:pt x="70" y="44"/>
                  <a:pt x="65" y="31"/>
                  <a:pt x="72" y="52"/>
                </a:cubicBezTo>
                <a:cubicBezTo>
                  <a:pt x="81" y="38"/>
                  <a:pt x="89" y="17"/>
                  <a:pt x="104" y="12"/>
                </a:cubicBezTo>
                <a:cubicBezTo>
                  <a:pt x="108" y="13"/>
                  <a:pt x="113" y="13"/>
                  <a:pt x="116" y="16"/>
                </a:cubicBezTo>
                <a:cubicBezTo>
                  <a:pt x="120" y="19"/>
                  <a:pt x="119" y="27"/>
                  <a:pt x="124" y="28"/>
                </a:cubicBezTo>
                <a:cubicBezTo>
                  <a:pt x="129" y="29"/>
                  <a:pt x="132" y="22"/>
                  <a:pt x="136" y="20"/>
                </a:cubicBezTo>
                <a:cubicBezTo>
                  <a:pt x="144" y="17"/>
                  <a:pt x="160" y="12"/>
                  <a:pt x="160" y="12"/>
                </a:cubicBezTo>
                <a:cubicBezTo>
                  <a:pt x="177" y="18"/>
                  <a:pt x="180" y="9"/>
                  <a:pt x="196" y="4"/>
                </a:cubicBezTo>
                <a:cubicBezTo>
                  <a:pt x="200" y="5"/>
                  <a:pt x="204" y="8"/>
                  <a:pt x="208" y="8"/>
                </a:cubicBezTo>
                <a:cubicBezTo>
                  <a:pt x="216" y="7"/>
                  <a:pt x="232" y="0"/>
                  <a:pt x="232" y="0"/>
                </a:cubicBezTo>
                <a:cubicBezTo>
                  <a:pt x="235" y="8"/>
                  <a:pt x="237" y="16"/>
                  <a:pt x="240" y="24"/>
                </a:cubicBezTo>
                <a:cubicBezTo>
                  <a:pt x="243" y="32"/>
                  <a:pt x="264" y="32"/>
                  <a:pt x="264" y="32"/>
                </a:cubicBezTo>
                <a:cubicBezTo>
                  <a:pt x="262" y="59"/>
                  <a:pt x="260" y="105"/>
                  <a:pt x="228" y="116"/>
                </a:cubicBezTo>
                <a:cubicBezTo>
                  <a:pt x="210" y="110"/>
                  <a:pt x="209" y="123"/>
                  <a:pt x="196" y="136"/>
                </a:cubicBezTo>
                <a:cubicBezTo>
                  <a:pt x="178" y="130"/>
                  <a:pt x="162" y="135"/>
                  <a:pt x="140" y="128"/>
                </a:cubicBezTo>
                <a:cubicBezTo>
                  <a:pt x="123" y="134"/>
                  <a:pt x="119" y="137"/>
                  <a:pt x="96" y="128"/>
                </a:cubicBezTo>
                <a:cubicBezTo>
                  <a:pt x="92" y="126"/>
                  <a:pt x="92" y="119"/>
                  <a:pt x="88" y="116"/>
                </a:cubicBezTo>
                <a:cubicBezTo>
                  <a:pt x="81" y="112"/>
                  <a:pt x="64" y="108"/>
                  <a:pt x="64" y="108"/>
                </a:cubicBezTo>
                <a:cubicBezTo>
                  <a:pt x="60" y="109"/>
                  <a:pt x="56" y="110"/>
                  <a:pt x="52" y="112"/>
                </a:cubicBezTo>
                <a:cubicBezTo>
                  <a:pt x="48" y="114"/>
                  <a:pt x="43" y="123"/>
                  <a:pt x="40" y="120"/>
                </a:cubicBezTo>
                <a:cubicBezTo>
                  <a:pt x="39" y="119"/>
                  <a:pt x="51" y="84"/>
                  <a:pt x="40" y="116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44"/>
          <p:cNvSpPr/>
          <p:nvPr/>
        </p:nvSpPr>
        <p:spPr>
          <a:xfrm>
            <a:off x="1568520" y="758880"/>
            <a:ext cx="1111320" cy="1015920"/>
          </a:xfrm>
          <a:custGeom>
            <a:avLst/>
            <a:gdLst/>
            <a:ahLst/>
            <a:rect l="l" t="t" r="r" b="b"/>
            <a:pathLst>
              <a:path w="732" h="669">
                <a:moveTo>
                  <a:pt x="654" y="457"/>
                </a:moveTo>
                <a:cubicBezTo>
                  <a:pt x="661" y="417"/>
                  <a:pt x="668" y="362"/>
                  <a:pt x="630" y="337"/>
                </a:cubicBezTo>
                <a:cubicBezTo>
                  <a:pt x="617" y="318"/>
                  <a:pt x="624" y="330"/>
                  <a:pt x="614" y="301"/>
                </a:cubicBezTo>
                <a:cubicBezTo>
                  <a:pt x="611" y="293"/>
                  <a:pt x="606" y="277"/>
                  <a:pt x="606" y="277"/>
                </a:cubicBezTo>
                <a:cubicBezTo>
                  <a:pt x="612" y="189"/>
                  <a:pt x="622" y="116"/>
                  <a:pt x="714" y="85"/>
                </a:cubicBezTo>
                <a:cubicBezTo>
                  <a:pt x="715" y="84"/>
                  <a:pt x="732" y="65"/>
                  <a:pt x="718" y="61"/>
                </a:cubicBezTo>
                <a:cubicBezTo>
                  <a:pt x="710" y="59"/>
                  <a:pt x="702" y="63"/>
                  <a:pt x="694" y="65"/>
                </a:cubicBezTo>
                <a:cubicBezTo>
                  <a:pt x="686" y="67"/>
                  <a:pt x="670" y="73"/>
                  <a:pt x="670" y="73"/>
                </a:cubicBezTo>
                <a:cubicBezTo>
                  <a:pt x="666" y="70"/>
                  <a:pt x="657" y="70"/>
                  <a:pt x="658" y="65"/>
                </a:cubicBezTo>
                <a:cubicBezTo>
                  <a:pt x="659" y="55"/>
                  <a:pt x="674" y="41"/>
                  <a:pt x="674" y="41"/>
                </a:cubicBezTo>
                <a:cubicBezTo>
                  <a:pt x="653" y="34"/>
                  <a:pt x="666" y="39"/>
                  <a:pt x="638" y="21"/>
                </a:cubicBezTo>
                <a:cubicBezTo>
                  <a:pt x="634" y="18"/>
                  <a:pt x="626" y="13"/>
                  <a:pt x="626" y="13"/>
                </a:cubicBezTo>
                <a:cubicBezTo>
                  <a:pt x="597" y="23"/>
                  <a:pt x="607" y="28"/>
                  <a:pt x="594" y="9"/>
                </a:cubicBezTo>
                <a:cubicBezTo>
                  <a:pt x="529" y="31"/>
                  <a:pt x="564" y="20"/>
                  <a:pt x="526" y="45"/>
                </a:cubicBezTo>
                <a:cubicBezTo>
                  <a:pt x="520" y="27"/>
                  <a:pt x="523" y="23"/>
                  <a:pt x="538" y="13"/>
                </a:cubicBezTo>
                <a:cubicBezTo>
                  <a:pt x="518" y="0"/>
                  <a:pt x="504" y="10"/>
                  <a:pt x="482" y="17"/>
                </a:cubicBezTo>
                <a:cubicBezTo>
                  <a:pt x="474" y="20"/>
                  <a:pt x="458" y="25"/>
                  <a:pt x="458" y="25"/>
                </a:cubicBezTo>
                <a:cubicBezTo>
                  <a:pt x="482" y="41"/>
                  <a:pt x="459" y="37"/>
                  <a:pt x="442" y="41"/>
                </a:cubicBezTo>
                <a:cubicBezTo>
                  <a:pt x="434" y="64"/>
                  <a:pt x="418" y="46"/>
                  <a:pt x="410" y="69"/>
                </a:cubicBezTo>
                <a:cubicBezTo>
                  <a:pt x="396" y="60"/>
                  <a:pt x="389" y="49"/>
                  <a:pt x="382" y="69"/>
                </a:cubicBezTo>
                <a:cubicBezTo>
                  <a:pt x="413" y="74"/>
                  <a:pt x="416" y="75"/>
                  <a:pt x="390" y="93"/>
                </a:cubicBezTo>
                <a:cubicBezTo>
                  <a:pt x="378" y="75"/>
                  <a:pt x="377" y="87"/>
                  <a:pt x="358" y="81"/>
                </a:cubicBezTo>
                <a:cubicBezTo>
                  <a:pt x="350" y="56"/>
                  <a:pt x="360" y="76"/>
                  <a:pt x="346" y="81"/>
                </a:cubicBezTo>
                <a:cubicBezTo>
                  <a:pt x="342" y="83"/>
                  <a:pt x="338" y="78"/>
                  <a:pt x="334" y="77"/>
                </a:cubicBezTo>
                <a:cubicBezTo>
                  <a:pt x="320" y="87"/>
                  <a:pt x="320" y="95"/>
                  <a:pt x="306" y="105"/>
                </a:cubicBezTo>
                <a:cubicBezTo>
                  <a:pt x="297" y="133"/>
                  <a:pt x="296" y="93"/>
                  <a:pt x="294" y="85"/>
                </a:cubicBezTo>
                <a:cubicBezTo>
                  <a:pt x="274" y="92"/>
                  <a:pt x="282" y="101"/>
                  <a:pt x="270" y="113"/>
                </a:cubicBezTo>
                <a:cubicBezTo>
                  <a:pt x="267" y="116"/>
                  <a:pt x="262" y="115"/>
                  <a:pt x="258" y="117"/>
                </a:cubicBezTo>
                <a:cubicBezTo>
                  <a:pt x="250" y="122"/>
                  <a:pt x="234" y="133"/>
                  <a:pt x="234" y="133"/>
                </a:cubicBezTo>
                <a:cubicBezTo>
                  <a:pt x="242" y="157"/>
                  <a:pt x="245" y="134"/>
                  <a:pt x="258" y="121"/>
                </a:cubicBezTo>
                <a:cubicBezTo>
                  <a:pt x="262" y="122"/>
                  <a:pt x="268" y="122"/>
                  <a:pt x="270" y="125"/>
                </a:cubicBezTo>
                <a:cubicBezTo>
                  <a:pt x="275" y="132"/>
                  <a:pt x="278" y="149"/>
                  <a:pt x="278" y="149"/>
                </a:cubicBezTo>
                <a:cubicBezTo>
                  <a:pt x="263" y="159"/>
                  <a:pt x="260" y="163"/>
                  <a:pt x="266" y="181"/>
                </a:cubicBezTo>
                <a:cubicBezTo>
                  <a:pt x="258" y="184"/>
                  <a:pt x="247" y="182"/>
                  <a:pt x="242" y="189"/>
                </a:cubicBezTo>
                <a:cubicBezTo>
                  <a:pt x="232" y="205"/>
                  <a:pt x="239" y="199"/>
                  <a:pt x="222" y="205"/>
                </a:cubicBezTo>
                <a:cubicBezTo>
                  <a:pt x="216" y="222"/>
                  <a:pt x="211" y="227"/>
                  <a:pt x="194" y="221"/>
                </a:cubicBezTo>
                <a:cubicBezTo>
                  <a:pt x="191" y="250"/>
                  <a:pt x="197" y="268"/>
                  <a:pt x="170" y="277"/>
                </a:cubicBezTo>
                <a:cubicBezTo>
                  <a:pt x="162" y="300"/>
                  <a:pt x="153" y="301"/>
                  <a:pt x="134" y="313"/>
                </a:cubicBezTo>
                <a:cubicBezTo>
                  <a:pt x="124" y="327"/>
                  <a:pt x="116" y="328"/>
                  <a:pt x="102" y="337"/>
                </a:cubicBezTo>
                <a:cubicBezTo>
                  <a:pt x="97" y="353"/>
                  <a:pt x="88" y="352"/>
                  <a:pt x="74" y="361"/>
                </a:cubicBezTo>
                <a:cubicBezTo>
                  <a:pt x="39" y="352"/>
                  <a:pt x="78" y="357"/>
                  <a:pt x="42" y="381"/>
                </a:cubicBezTo>
                <a:cubicBezTo>
                  <a:pt x="31" y="388"/>
                  <a:pt x="6" y="397"/>
                  <a:pt x="6" y="397"/>
                </a:cubicBezTo>
                <a:cubicBezTo>
                  <a:pt x="0" y="414"/>
                  <a:pt x="4" y="428"/>
                  <a:pt x="10" y="445"/>
                </a:cubicBezTo>
                <a:cubicBezTo>
                  <a:pt x="12" y="457"/>
                  <a:pt x="20" y="526"/>
                  <a:pt x="30" y="533"/>
                </a:cubicBezTo>
                <a:cubicBezTo>
                  <a:pt x="49" y="546"/>
                  <a:pt x="37" y="539"/>
                  <a:pt x="66" y="549"/>
                </a:cubicBezTo>
                <a:cubicBezTo>
                  <a:pt x="70" y="550"/>
                  <a:pt x="78" y="553"/>
                  <a:pt x="78" y="553"/>
                </a:cubicBezTo>
                <a:cubicBezTo>
                  <a:pt x="90" y="541"/>
                  <a:pt x="98" y="534"/>
                  <a:pt x="114" y="529"/>
                </a:cubicBezTo>
                <a:cubicBezTo>
                  <a:pt x="117" y="525"/>
                  <a:pt x="118" y="520"/>
                  <a:pt x="122" y="517"/>
                </a:cubicBezTo>
                <a:cubicBezTo>
                  <a:pt x="125" y="514"/>
                  <a:pt x="131" y="516"/>
                  <a:pt x="134" y="513"/>
                </a:cubicBezTo>
                <a:cubicBezTo>
                  <a:pt x="155" y="492"/>
                  <a:pt x="118" y="508"/>
                  <a:pt x="150" y="497"/>
                </a:cubicBezTo>
                <a:cubicBezTo>
                  <a:pt x="170" y="467"/>
                  <a:pt x="161" y="512"/>
                  <a:pt x="174" y="521"/>
                </a:cubicBezTo>
                <a:cubicBezTo>
                  <a:pt x="182" y="526"/>
                  <a:pt x="198" y="537"/>
                  <a:pt x="198" y="537"/>
                </a:cubicBezTo>
                <a:cubicBezTo>
                  <a:pt x="199" y="544"/>
                  <a:pt x="200" y="550"/>
                  <a:pt x="202" y="557"/>
                </a:cubicBezTo>
                <a:cubicBezTo>
                  <a:pt x="204" y="565"/>
                  <a:pt x="210" y="581"/>
                  <a:pt x="210" y="581"/>
                </a:cubicBezTo>
                <a:cubicBezTo>
                  <a:pt x="199" y="614"/>
                  <a:pt x="189" y="609"/>
                  <a:pt x="170" y="637"/>
                </a:cubicBezTo>
                <a:cubicBezTo>
                  <a:pt x="180" y="666"/>
                  <a:pt x="171" y="656"/>
                  <a:pt x="190" y="669"/>
                </a:cubicBezTo>
                <a:cubicBezTo>
                  <a:pt x="197" y="648"/>
                  <a:pt x="178" y="629"/>
                  <a:pt x="202" y="621"/>
                </a:cubicBezTo>
                <a:cubicBezTo>
                  <a:pt x="217" y="631"/>
                  <a:pt x="228" y="633"/>
                  <a:pt x="246" y="637"/>
                </a:cubicBezTo>
                <a:cubicBezTo>
                  <a:pt x="284" y="627"/>
                  <a:pt x="250" y="642"/>
                  <a:pt x="258" y="621"/>
                </a:cubicBezTo>
                <a:cubicBezTo>
                  <a:pt x="262" y="612"/>
                  <a:pt x="285" y="610"/>
                  <a:pt x="290" y="609"/>
                </a:cubicBezTo>
                <a:cubicBezTo>
                  <a:pt x="299" y="595"/>
                  <a:pt x="306" y="590"/>
                  <a:pt x="322" y="585"/>
                </a:cubicBezTo>
                <a:cubicBezTo>
                  <a:pt x="321" y="580"/>
                  <a:pt x="321" y="573"/>
                  <a:pt x="318" y="569"/>
                </a:cubicBezTo>
                <a:cubicBezTo>
                  <a:pt x="315" y="566"/>
                  <a:pt x="307" y="569"/>
                  <a:pt x="306" y="565"/>
                </a:cubicBezTo>
                <a:cubicBezTo>
                  <a:pt x="304" y="557"/>
                  <a:pt x="308" y="549"/>
                  <a:pt x="310" y="541"/>
                </a:cubicBezTo>
                <a:cubicBezTo>
                  <a:pt x="319" y="503"/>
                  <a:pt x="315" y="517"/>
                  <a:pt x="362" y="513"/>
                </a:cubicBezTo>
                <a:cubicBezTo>
                  <a:pt x="363" y="504"/>
                  <a:pt x="362" y="494"/>
                  <a:pt x="366" y="485"/>
                </a:cubicBezTo>
                <a:cubicBezTo>
                  <a:pt x="368" y="481"/>
                  <a:pt x="376" y="481"/>
                  <a:pt x="378" y="477"/>
                </a:cubicBezTo>
                <a:cubicBezTo>
                  <a:pt x="382" y="466"/>
                  <a:pt x="350" y="457"/>
                  <a:pt x="350" y="457"/>
                </a:cubicBezTo>
                <a:cubicBezTo>
                  <a:pt x="337" y="444"/>
                  <a:pt x="328" y="439"/>
                  <a:pt x="334" y="421"/>
                </a:cubicBezTo>
                <a:cubicBezTo>
                  <a:pt x="333" y="416"/>
                  <a:pt x="330" y="410"/>
                  <a:pt x="330" y="405"/>
                </a:cubicBezTo>
                <a:cubicBezTo>
                  <a:pt x="330" y="400"/>
                  <a:pt x="335" y="394"/>
                  <a:pt x="334" y="389"/>
                </a:cubicBezTo>
                <a:cubicBezTo>
                  <a:pt x="333" y="381"/>
                  <a:pt x="326" y="365"/>
                  <a:pt x="326" y="365"/>
                </a:cubicBezTo>
                <a:cubicBezTo>
                  <a:pt x="341" y="360"/>
                  <a:pt x="353" y="358"/>
                  <a:pt x="366" y="349"/>
                </a:cubicBezTo>
                <a:cubicBezTo>
                  <a:pt x="369" y="345"/>
                  <a:pt x="370" y="340"/>
                  <a:pt x="374" y="337"/>
                </a:cubicBezTo>
                <a:cubicBezTo>
                  <a:pt x="377" y="334"/>
                  <a:pt x="386" y="329"/>
                  <a:pt x="386" y="333"/>
                </a:cubicBezTo>
                <a:cubicBezTo>
                  <a:pt x="386" y="338"/>
                  <a:pt x="374" y="336"/>
                  <a:pt x="374" y="341"/>
                </a:cubicBezTo>
                <a:cubicBezTo>
                  <a:pt x="374" y="345"/>
                  <a:pt x="382" y="339"/>
                  <a:pt x="386" y="337"/>
                </a:cubicBezTo>
                <a:cubicBezTo>
                  <a:pt x="394" y="332"/>
                  <a:pt x="410" y="321"/>
                  <a:pt x="410" y="321"/>
                </a:cubicBezTo>
                <a:cubicBezTo>
                  <a:pt x="425" y="298"/>
                  <a:pt x="431" y="264"/>
                  <a:pt x="458" y="249"/>
                </a:cubicBezTo>
                <a:cubicBezTo>
                  <a:pt x="470" y="242"/>
                  <a:pt x="498" y="237"/>
                  <a:pt x="498" y="237"/>
                </a:cubicBezTo>
                <a:cubicBezTo>
                  <a:pt x="514" y="242"/>
                  <a:pt x="524" y="239"/>
                  <a:pt x="530" y="257"/>
                </a:cubicBezTo>
                <a:cubicBezTo>
                  <a:pt x="525" y="273"/>
                  <a:pt x="520" y="280"/>
                  <a:pt x="506" y="289"/>
                </a:cubicBezTo>
                <a:cubicBezTo>
                  <a:pt x="499" y="309"/>
                  <a:pt x="489" y="316"/>
                  <a:pt x="470" y="325"/>
                </a:cubicBezTo>
                <a:cubicBezTo>
                  <a:pt x="462" y="328"/>
                  <a:pt x="446" y="333"/>
                  <a:pt x="446" y="333"/>
                </a:cubicBezTo>
                <a:cubicBezTo>
                  <a:pt x="437" y="346"/>
                  <a:pt x="435" y="358"/>
                  <a:pt x="430" y="373"/>
                </a:cubicBezTo>
                <a:cubicBezTo>
                  <a:pt x="438" y="398"/>
                  <a:pt x="441" y="406"/>
                  <a:pt x="426" y="429"/>
                </a:cubicBezTo>
                <a:cubicBezTo>
                  <a:pt x="431" y="445"/>
                  <a:pt x="434" y="452"/>
                  <a:pt x="450" y="457"/>
                </a:cubicBezTo>
                <a:cubicBezTo>
                  <a:pt x="468" y="451"/>
                  <a:pt x="467" y="463"/>
                  <a:pt x="482" y="473"/>
                </a:cubicBezTo>
                <a:cubicBezTo>
                  <a:pt x="500" y="469"/>
                  <a:pt x="509" y="463"/>
                  <a:pt x="526" y="457"/>
                </a:cubicBezTo>
                <a:cubicBezTo>
                  <a:pt x="543" y="463"/>
                  <a:pt x="537" y="463"/>
                  <a:pt x="558" y="457"/>
                </a:cubicBezTo>
                <a:cubicBezTo>
                  <a:pt x="566" y="455"/>
                  <a:pt x="582" y="449"/>
                  <a:pt x="582" y="449"/>
                </a:cubicBezTo>
                <a:cubicBezTo>
                  <a:pt x="602" y="456"/>
                  <a:pt x="620" y="458"/>
                  <a:pt x="642" y="461"/>
                </a:cubicBezTo>
                <a:cubicBezTo>
                  <a:pt x="646" y="460"/>
                  <a:pt x="654" y="457"/>
                  <a:pt x="654" y="457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45"/>
          <p:cNvSpPr/>
          <p:nvPr/>
        </p:nvSpPr>
        <p:spPr>
          <a:xfrm>
            <a:off x="1689120" y="1608120"/>
            <a:ext cx="135000" cy="211320"/>
          </a:xfrm>
          <a:custGeom>
            <a:avLst/>
            <a:gdLst/>
            <a:ahLst/>
            <a:rect l="l" t="t" r="r" b="b"/>
            <a:pathLst>
              <a:path w="89" h="139">
                <a:moveTo>
                  <a:pt x="26" y="130"/>
                </a:moveTo>
                <a:cubicBezTo>
                  <a:pt x="0" y="139"/>
                  <a:pt x="7" y="124"/>
                  <a:pt x="22" y="114"/>
                </a:cubicBezTo>
                <a:cubicBezTo>
                  <a:pt x="21" y="109"/>
                  <a:pt x="21" y="102"/>
                  <a:pt x="18" y="98"/>
                </a:cubicBezTo>
                <a:cubicBezTo>
                  <a:pt x="15" y="95"/>
                  <a:pt x="8" y="98"/>
                  <a:pt x="6" y="94"/>
                </a:cubicBezTo>
                <a:cubicBezTo>
                  <a:pt x="1" y="84"/>
                  <a:pt x="18" y="76"/>
                  <a:pt x="22" y="74"/>
                </a:cubicBezTo>
                <a:cubicBezTo>
                  <a:pt x="16" y="56"/>
                  <a:pt x="29" y="52"/>
                  <a:pt x="10" y="46"/>
                </a:cubicBezTo>
                <a:cubicBezTo>
                  <a:pt x="2" y="22"/>
                  <a:pt x="33" y="29"/>
                  <a:pt x="54" y="22"/>
                </a:cubicBezTo>
                <a:cubicBezTo>
                  <a:pt x="60" y="13"/>
                  <a:pt x="63" y="0"/>
                  <a:pt x="74" y="18"/>
                </a:cubicBezTo>
                <a:cubicBezTo>
                  <a:pt x="78" y="25"/>
                  <a:pt x="82" y="42"/>
                  <a:pt x="82" y="42"/>
                </a:cubicBezTo>
                <a:cubicBezTo>
                  <a:pt x="79" y="46"/>
                  <a:pt x="78" y="51"/>
                  <a:pt x="74" y="54"/>
                </a:cubicBezTo>
                <a:cubicBezTo>
                  <a:pt x="69" y="57"/>
                  <a:pt x="60" y="53"/>
                  <a:pt x="58" y="58"/>
                </a:cubicBezTo>
                <a:cubicBezTo>
                  <a:pt x="56" y="63"/>
                  <a:pt x="80" y="69"/>
                  <a:pt x="82" y="70"/>
                </a:cubicBezTo>
                <a:cubicBezTo>
                  <a:pt x="89" y="92"/>
                  <a:pt x="86" y="95"/>
                  <a:pt x="62" y="90"/>
                </a:cubicBezTo>
                <a:cubicBezTo>
                  <a:pt x="51" y="107"/>
                  <a:pt x="56" y="112"/>
                  <a:pt x="74" y="118"/>
                </a:cubicBezTo>
                <a:cubicBezTo>
                  <a:pt x="78" y="117"/>
                  <a:pt x="84" y="110"/>
                  <a:pt x="86" y="114"/>
                </a:cubicBezTo>
                <a:cubicBezTo>
                  <a:pt x="89" y="119"/>
                  <a:pt x="86" y="126"/>
                  <a:pt x="82" y="130"/>
                </a:cubicBezTo>
                <a:cubicBezTo>
                  <a:pt x="74" y="137"/>
                  <a:pt x="60" y="135"/>
                  <a:pt x="50" y="138"/>
                </a:cubicBezTo>
                <a:cubicBezTo>
                  <a:pt x="42" y="135"/>
                  <a:pt x="26" y="130"/>
                  <a:pt x="26" y="130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46"/>
          <p:cNvSpPr/>
          <p:nvPr/>
        </p:nvSpPr>
        <p:spPr>
          <a:xfrm>
            <a:off x="744480" y="966960"/>
            <a:ext cx="15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on of Kal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1523880" y="1754280"/>
            <a:ext cx="592200" cy="585720"/>
          </a:xfrm>
          <a:custGeom>
            <a:avLst/>
            <a:gdLst/>
            <a:ahLst/>
            <a:rect l="l" t="t" r="r" b="b"/>
            <a:pathLst>
              <a:path w="390" h="386">
                <a:moveTo>
                  <a:pt x="383" y="6"/>
                </a:moveTo>
                <a:cubicBezTo>
                  <a:pt x="356" y="15"/>
                  <a:pt x="390" y="6"/>
                  <a:pt x="351" y="6"/>
                </a:cubicBezTo>
                <a:cubicBezTo>
                  <a:pt x="341" y="6"/>
                  <a:pt x="332" y="12"/>
                  <a:pt x="323" y="14"/>
                </a:cubicBezTo>
                <a:cubicBezTo>
                  <a:pt x="319" y="17"/>
                  <a:pt x="314" y="19"/>
                  <a:pt x="311" y="22"/>
                </a:cubicBezTo>
                <a:cubicBezTo>
                  <a:pt x="308" y="25"/>
                  <a:pt x="307" y="31"/>
                  <a:pt x="303" y="34"/>
                </a:cubicBezTo>
                <a:cubicBezTo>
                  <a:pt x="296" y="40"/>
                  <a:pt x="286" y="41"/>
                  <a:pt x="279" y="46"/>
                </a:cubicBezTo>
                <a:cubicBezTo>
                  <a:pt x="272" y="45"/>
                  <a:pt x="264" y="46"/>
                  <a:pt x="259" y="42"/>
                </a:cubicBezTo>
                <a:cubicBezTo>
                  <a:pt x="251" y="36"/>
                  <a:pt x="243" y="18"/>
                  <a:pt x="243" y="18"/>
                </a:cubicBezTo>
                <a:cubicBezTo>
                  <a:pt x="226" y="22"/>
                  <a:pt x="220" y="32"/>
                  <a:pt x="203" y="26"/>
                </a:cubicBezTo>
                <a:cubicBezTo>
                  <a:pt x="173" y="46"/>
                  <a:pt x="196" y="47"/>
                  <a:pt x="147" y="42"/>
                </a:cubicBezTo>
                <a:cubicBezTo>
                  <a:pt x="129" y="36"/>
                  <a:pt x="98" y="58"/>
                  <a:pt x="75" y="62"/>
                </a:cubicBezTo>
                <a:cubicBezTo>
                  <a:pt x="66" y="76"/>
                  <a:pt x="67" y="85"/>
                  <a:pt x="51" y="90"/>
                </a:cubicBezTo>
                <a:cubicBezTo>
                  <a:pt x="45" y="72"/>
                  <a:pt x="58" y="68"/>
                  <a:pt x="39" y="62"/>
                </a:cubicBezTo>
                <a:cubicBezTo>
                  <a:pt x="35" y="75"/>
                  <a:pt x="38" y="91"/>
                  <a:pt x="31" y="102"/>
                </a:cubicBezTo>
                <a:cubicBezTo>
                  <a:pt x="26" y="110"/>
                  <a:pt x="7" y="118"/>
                  <a:pt x="7" y="118"/>
                </a:cubicBezTo>
                <a:cubicBezTo>
                  <a:pt x="0" y="138"/>
                  <a:pt x="14" y="133"/>
                  <a:pt x="23" y="150"/>
                </a:cubicBezTo>
                <a:cubicBezTo>
                  <a:pt x="39" y="181"/>
                  <a:pt x="47" y="212"/>
                  <a:pt x="55" y="246"/>
                </a:cubicBezTo>
                <a:cubicBezTo>
                  <a:pt x="56" y="256"/>
                  <a:pt x="67" y="323"/>
                  <a:pt x="59" y="346"/>
                </a:cubicBezTo>
                <a:cubicBezTo>
                  <a:pt x="64" y="361"/>
                  <a:pt x="66" y="373"/>
                  <a:pt x="75" y="386"/>
                </a:cubicBezTo>
                <a:cubicBezTo>
                  <a:pt x="97" y="379"/>
                  <a:pt x="113" y="365"/>
                  <a:pt x="135" y="358"/>
                </a:cubicBezTo>
                <a:cubicBezTo>
                  <a:pt x="144" y="359"/>
                  <a:pt x="155" y="357"/>
                  <a:pt x="163" y="362"/>
                </a:cubicBezTo>
                <a:cubicBezTo>
                  <a:pt x="171" y="367"/>
                  <a:pt x="179" y="386"/>
                  <a:pt x="179" y="386"/>
                </a:cubicBezTo>
                <a:cubicBezTo>
                  <a:pt x="198" y="358"/>
                  <a:pt x="187" y="367"/>
                  <a:pt x="207" y="354"/>
                </a:cubicBezTo>
                <a:cubicBezTo>
                  <a:pt x="213" y="345"/>
                  <a:pt x="218" y="323"/>
                  <a:pt x="227" y="318"/>
                </a:cubicBezTo>
                <a:cubicBezTo>
                  <a:pt x="234" y="314"/>
                  <a:pt x="251" y="310"/>
                  <a:pt x="251" y="310"/>
                </a:cubicBezTo>
                <a:cubicBezTo>
                  <a:pt x="256" y="326"/>
                  <a:pt x="263" y="329"/>
                  <a:pt x="279" y="334"/>
                </a:cubicBezTo>
                <a:cubicBezTo>
                  <a:pt x="293" y="313"/>
                  <a:pt x="291" y="299"/>
                  <a:pt x="283" y="274"/>
                </a:cubicBezTo>
                <a:cubicBezTo>
                  <a:pt x="287" y="228"/>
                  <a:pt x="291" y="211"/>
                  <a:pt x="311" y="174"/>
                </a:cubicBezTo>
                <a:cubicBezTo>
                  <a:pt x="316" y="166"/>
                  <a:pt x="322" y="158"/>
                  <a:pt x="327" y="150"/>
                </a:cubicBezTo>
                <a:cubicBezTo>
                  <a:pt x="332" y="143"/>
                  <a:pt x="335" y="126"/>
                  <a:pt x="335" y="126"/>
                </a:cubicBezTo>
                <a:cubicBezTo>
                  <a:pt x="330" y="110"/>
                  <a:pt x="327" y="103"/>
                  <a:pt x="311" y="98"/>
                </a:cubicBezTo>
                <a:cubicBezTo>
                  <a:pt x="300" y="66"/>
                  <a:pt x="320" y="49"/>
                  <a:pt x="343" y="34"/>
                </a:cubicBezTo>
                <a:cubicBezTo>
                  <a:pt x="351" y="29"/>
                  <a:pt x="367" y="18"/>
                  <a:pt x="367" y="18"/>
                </a:cubicBezTo>
                <a:cubicBezTo>
                  <a:pt x="361" y="0"/>
                  <a:pt x="359" y="6"/>
                  <a:pt x="383" y="6"/>
                </a:cubicBez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48"/>
          <p:cNvSpPr/>
          <p:nvPr/>
        </p:nvSpPr>
        <p:spPr>
          <a:xfrm>
            <a:off x="1473120" y="1768320"/>
            <a:ext cx="88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ly Roman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1989000" y="1684440"/>
            <a:ext cx="781200" cy="636480"/>
          </a:xfrm>
          <a:custGeom>
            <a:avLst/>
            <a:gdLst/>
            <a:ahLst/>
            <a:rect l="l" t="t" r="r" b="b"/>
            <a:pathLst>
              <a:path w="515" h="420">
                <a:moveTo>
                  <a:pt x="425" y="328"/>
                </a:moveTo>
                <a:cubicBezTo>
                  <a:pt x="428" y="324"/>
                  <a:pt x="428" y="317"/>
                  <a:pt x="433" y="316"/>
                </a:cubicBezTo>
                <a:cubicBezTo>
                  <a:pt x="441" y="315"/>
                  <a:pt x="457" y="324"/>
                  <a:pt x="457" y="324"/>
                </a:cubicBezTo>
                <a:cubicBezTo>
                  <a:pt x="461" y="323"/>
                  <a:pt x="466" y="323"/>
                  <a:pt x="469" y="320"/>
                </a:cubicBezTo>
                <a:cubicBezTo>
                  <a:pt x="473" y="317"/>
                  <a:pt x="473" y="311"/>
                  <a:pt x="477" y="308"/>
                </a:cubicBezTo>
                <a:cubicBezTo>
                  <a:pt x="484" y="304"/>
                  <a:pt x="501" y="300"/>
                  <a:pt x="501" y="300"/>
                </a:cubicBezTo>
                <a:cubicBezTo>
                  <a:pt x="507" y="282"/>
                  <a:pt x="515" y="267"/>
                  <a:pt x="497" y="252"/>
                </a:cubicBezTo>
                <a:cubicBezTo>
                  <a:pt x="490" y="246"/>
                  <a:pt x="481" y="244"/>
                  <a:pt x="473" y="240"/>
                </a:cubicBezTo>
                <a:cubicBezTo>
                  <a:pt x="465" y="237"/>
                  <a:pt x="449" y="232"/>
                  <a:pt x="449" y="232"/>
                </a:cubicBezTo>
                <a:cubicBezTo>
                  <a:pt x="426" y="198"/>
                  <a:pt x="457" y="238"/>
                  <a:pt x="429" y="216"/>
                </a:cubicBezTo>
                <a:cubicBezTo>
                  <a:pt x="413" y="203"/>
                  <a:pt x="409" y="168"/>
                  <a:pt x="405" y="148"/>
                </a:cubicBezTo>
                <a:cubicBezTo>
                  <a:pt x="414" y="87"/>
                  <a:pt x="423" y="108"/>
                  <a:pt x="405" y="80"/>
                </a:cubicBezTo>
                <a:cubicBezTo>
                  <a:pt x="401" y="61"/>
                  <a:pt x="404" y="50"/>
                  <a:pt x="385" y="44"/>
                </a:cubicBezTo>
                <a:cubicBezTo>
                  <a:pt x="366" y="15"/>
                  <a:pt x="337" y="5"/>
                  <a:pt x="305" y="0"/>
                </a:cubicBezTo>
                <a:cubicBezTo>
                  <a:pt x="290" y="5"/>
                  <a:pt x="288" y="15"/>
                  <a:pt x="273" y="20"/>
                </a:cubicBezTo>
                <a:cubicBezTo>
                  <a:pt x="260" y="40"/>
                  <a:pt x="254" y="62"/>
                  <a:pt x="233" y="76"/>
                </a:cubicBezTo>
                <a:cubicBezTo>
                  <a:pt x="230" y="80"/>
                  <a:pt x="229" y="85"/>
                  <a:pt x="225" y="88"/>
                </a:cubicBezTo>
                <a:cubicBezTo>
                  <a:pt x="218" y="92"/>
                  <a:pt x="201" y="96"/>
                  <a:pt x="201" y="96"/>
                </a:cubicBezTo>
                <a:cubicBezTo>
                  <a:pt x="193" y="93"/>
                  <a:pt x="185" y="91"/>
                  <a:pt x="177" y="88"/>
                </a:cubicBezTo>
                <a:cubicBezTo>
                  <a:pt x="173" y="87"/>
                  <a:pt x="165" y="84"/>
                  <a:pt x="165" y="84"/>
                </a:cubicBezTo>
                <a:cubicBezTo>
                  <a:pt x="152" y="93"/>
                  <a:pt x="148" y="103"/>
                  <a:pt x="133" y="108"/>
                </a:cubicBezTo>
                <a:cubicBezTo>
                  <a:pt x="83" y="96"/>
                  <a:pt x="104" y="102"/>
                  <a:pt x="89" y="56"/>
                </a:cubicBezTo>
                <a:cubicBezTo>
                  <a:pt x="89" y="56"/>
                  <a:pt x="63" y="62"/>
                  <a:pt x="61" y="64"/>
                </a:cubicBezTo>
                <a:cubicBezTo>
                  <a:pt x="58" y="67"/>
                  <a:pt x="60" y="73"/>
                  <a:pt x="57" y="76"/>
                </a:cubicBezTo>
                <a:cubicBezTo>
                  <a:pt x="51" y="82"/>
                  <a:pt x="40" y="83"/>
                  <a:pt x="33" y="88"/>
                </a:cubicBezTo>
                <a:cubicBezTo>
                  <a:pt x="28" y="96"/>
                  <a:pt x="22" y="104"/>
                  <a:pt x="17" y="112"/>
                </a:cubicBezTo>
                <a:cubicBezTo>
                  <a:pt x="14" y="116"/>
                  <a:pt x="9" y="124"/>
                  <a:pt x="9" y="124"/>
                </a:cubicBezTo>
                <a:cubicBezTo>
                  <a:pt x="13" y="139"/>
                  <a:pt x="20" y="149"/>
                  <a:pt x="25" y="164"/>
                </a:cubicBezTo>
                <a:cubicBezTo>
                  <a:pt x="5" y="195"/>
                  <a:pt x="24" y="158"/>
                  <a:pt x="21" y="188"/>
                </a:cubicBezTo>
                <a:cubicBezTo>
                  <a:pt x="19" y="207"/>
                  <a:pt x="7" y="230"/>
                  <a:pt x="1" y="248"/>
                </a:cubicBezTo>
                <a:cubicBezTo>
                  <a:pt x="0" y="252"/>
                  <a:pt x="9" y="245"/>
                  <a:pt x="13" y="244"/>
                </a:cubicBezTo>
                <a:cubicBezTo>
                  <a:pt x="27" y="247"/>
                  <a:pt x="53" y="256"/>
                  <a:pt x="53" y="256"/>
                </a:cubicBezTo>
                <a:cubicBezTo>
                  <a:pt x="64" y="272"/>
                  <a:pt x="70" y="275"/>
                  <a:pt x="89" y="280"/>
                </a:cubicBezTo>
                <a:cubicBezTo>
                  <a:pt x="93" y="283"/>
                  <a:pt x="98" y="284"/>
                  <a:pt x="101" y="288"/>
                </a:cubicBezTo>
                <a:cubicBezTo>
                  <a:pt x="105" y="295"/>
                  <a:pt x="109" y="312"/>
                  <a:pt x="109" y="312"/>
                </a:cubicBezTo>
                <a:cubicBezTo>
                  <a:pt x="94" y="371"/>
                  <a:pt x="165" y="368"/>
                  <a:pt x="201" y="392"/>
                </a:cubicBezTo>
                <a:cubicBezTo>
                  <a:pt x="212" y="408"/>
                  <a:pt x="218" y="411"/>
                  <a:pt x="237" y="416"/>
                </a:cubicBezTo>
                <a:cubicBezTo>
                  <a:pt x="280" y="413"/>
                  <a:pt x="295" y="420"/>
                  <a:pt x="325" y="400"/>
                </a:cubicBezTo>
                <a:cubicBezTo>
                  <a:pt x="337" y="383"/>
                  <a:pt x="333" y="367"/>
                  <a:pt x="353" y="360"/>
                </a:cubicBezTo>
                <a:cubicBezTo>
                  <a:pt x="381" y="369"/>
                  <a:pt x="369" y="371"/>
                  <a:pt x="389" y="364"/>
                </a:cubicBezTo>
                <a:cubicBezTo>
                  <a:pt x="394" y="348"/>
                  <a:pt x="403" y="349"/>
                  <a:pt x="417" y="340"/>
                </a:cubicBezTo>
                <a:cubicBezTo>
                  <a:pt x="420" y="336"/>
                  <a:pt x="425" y="328"/>
                  <a:pt x="425" y="328"/>
                </a:cubicBez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1947960" y="2066760"/>
            <a:ext cx="363600" cy="260640"/>
          </a:xfrm>
          <a:custGeom>
            <a:avLst/>
            <a:gdLst/>
            <a:ahLst/>
            <a:rect l="l" t="t" r="r" b="b"/>
            <a:pathLst>
              <a:path w="240" h="172">
                <a:moveTo>
                  <a:pt x="32" y="160"/>
                </a:moveTo>
                <a:cubicBezTo>
                  <a:pt x="27" y="152"/>
                  <a:pt x="21" y="144"/>
                  <a:pt x="16" y="136"/>
                </a:cubicBezTo>
                <a:cubicBezTo>
                  <a:pt x="13" y="132"/>
                  <a:pt x="8" y="124"/>
                  <a:pt x="8" y="124"/>
                </a:cubicBezTo>
                <a:cubicBezTo>
                  <a:pt x="9" y="120"/>
                  <a:pt x="12" y="116"/>
                  <a:pt x="12" y="112"/>
                </a:cubicBezTo>
                <a:cubicBezTo>
                  <a:pt x="11" y="104"/>
                  <a:pt x="4" y="88"/>
                  <a:pt x="4" y="88"/>
                </a:cubicBezTo>
                <a:cubicBezTo>
                  <a:pt x="10" y="57"/>
                  <a:pt x="0" y="19"/>
                  <a:pt x="28" y="0"/>
                </a:cubicBezTo>
                <a:cubicBezTo>
                  <a:pt x="60" y="21"/>
                  <a:pt x="20" y="0"/>
                  <a:pt x="52" y="0"/>
                </a:cubicBezTo>
                <a:cubicBezTo>
                  <a:pt x="66" y="0"/>
                  <a:pt x="77" y="9"/>
                  <a:pt x="88" y="16"/>
                </a:cubicBezTo>
                <a:cubicBezTo>
                  <a:pt x="95" y="27"/>
                  <a:pt x="116" y="44"/>
                  <a:pt x="128" y="48"/>
                </a:cubicBezTo>
                <a:cubicBezTo>
                  <a:pt x="140" y="83"/>
                  <a:pt x="138" y="76"/>
                  <a:pt x="168" y="96"/>
                </a:cubicBezTo>
                <a:cubicBezTo>
                  <a:pt x="177" y="122"/>
                  <a:pt x="165" y="96"/>
                  <a:pt x="184" y="112"/>
                </a:cubicBezTo>
                <a:cubicBezTo>
                  <a:pt x="188" y="115"/>
                  <a:pt x="188" y="121"/>
                  <a:pt x="192" y="124"/>
                </a:cubicBezTo>
                <a:cubicBezTo>
                  <a:pt x="199" y="128"/>
                  <a:pt x="216" y="132"/>
                  <a:pt x="216" y="132"/>
                </a:cubicBezTo>
                <a:cubicBezTo>
                  <a:pt x="225" y="145"/>
                  <a:pt x="235" y="149"/>
                  <a:pt x="240" y="164"/>
                </a:cubicBezTo>
                <a:cubicBezTo>
                  <a:pt x="236" y="167"/>
                  <a:pt x="233" y="172"/>
                  <a:pt x="228" y="172"/>
                </a:cubicBezTo>
                <a:cubicBezTo>
                  <a:pt x="220" y="172"/>
                  <a:pt x="204" y="164"/>
                  <a:pt x="204" y="164"/>
                </a:cubicBezTo>
                <a:lnTo>
                  <a:pt x="160" y="168"/>
                </a:lnTo>
                <a:cubicBezTo>
                  <a:pt x="160" y="168"/>
                  <a:pt x="124" y="156"/>
                  <a:pt x="124" y="156"/>
                </a:cubicBezTo>
                <a:cubicBezTo>
                  <a:pt x="120" y="155"/>
                  <a:pt x="112" y="152"/>
                  <a:pt x="112" y="152"/>
                </a:cubicBezTo>
                <a:cubicBezTo>
                  <a:pt x="90" y="159"/>
                  <a:pt x="69" y="155"/>
                  <a:pt x="48" y="148"/>
                </a:cubicBezTo>
                <a:cubicBezTo>
                  <a:pt x="33" y="153"/>
                  <a:pt x="38" y="148"/>
                  <a:pt x="32" y="160"/>
                </a:cubicBezTo>
                <a:close/>
              </a:path>
            </a:pathLst>
          </a:cu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51"/>
          <p:cNvSpPr/>
          <p:nvPr/>
        </p:nvSpPr>
        <p:spPr>
          <a:xfrm>
            <a:off x="2117880" y="2290680"/>
            <a:ext cx="861840" cy="409680"/>
          </a:xfrm>
          <a:custGeom>
            <a:avLst/>
            <a:gdLst/>
            <a:ahLst/>
            <a:rect l="l" t="t" r="r" b="b"/>
            <a:pathLst>
              <a:path w="568" h="270">
                <a:moveTo>
                  <a:pt x="0" y="4"/>
                </a:moveTo>
                <a:cubicBezTo>
                  <a:pt x="6" y="22"/>
                  <a:pt x="12" y="22"/>
                  <a:pt x="28" y="12"/>
                </a:cubicBezTo>
                <a:cubicBezTo>
                  <a:pt x="43" y="17"/>
                  <a:pt x="57" y="19"/>
                  <a:pt x="72" y="24"/>
                </a:cubicBezTo>
                <a:cubicBezTo>
                  <a:pt x="104" y="13"/>
                  <a:pt x="64" y="24"/>
                  <a:pt x="96" y="24"/>
                </a:cubicBezTo>
                <a:cubicBezTo>
                  <a:pt x="101" y="24"/>
                  <a:pt x="126" y="18"/>
                  <a:pt x="132" y="16"/>
                </a:cubicBezTo>
                <a:cubicBezTo>
                  <a:pt x="141" y="18"/>
                  <a:pt x="150" y="25"/>
                  <a:pt x="160" y="24"/>
                </a:cubicBezTo>
                <a:cubicBezTo>
                  <a:pt x="182" y="22"/>
                  <a:pt x="211" y="11"/>
                  <a:pt x="232" y="4"/>
                </a:cubicBezTo>
                <a:cubicBezTo>
                  <a:pt x="237" y="5"/>
                  <a:pt x="245" y="3"/>
                  <a:pt x="248" y="8"/>
                </a:cubicBezTo>
                <a:cubicBezTo>
                  <a:pt x="255" y="19"/>
                  <a:pt x="234" y="42"/>
                  <a:pt x="228" y="48"/>
                </a:cubicBezTo>
                <a:cubicBezTo>
                  <a:pt x="231" y="62"/>
                  <a:pt x="240" y="88"/>
                  <a:pt x="240" y="88"/>
                </a:cubicBezTo>
                <a:cubicBezTo>
                  <a:pt x="237" y="92"/>
                  <a:pt x="236" y="97"/>
                  <a:pt x="232" y="100"/>
                </a:cubicBezTo>
                <a:cubicBezTo>
                  <a:pt x="225" y="104"/>
                  <a:pt x="208" y="108"/>
                  <a:pt x="208" y="108"/>
                </a:cubicBezTo>
                <a:cubicBezTo>
                  <a:pt x="219" y="115"/>
                  <a:pt x="244" y="124"/>
                  <a:pt x="244" y="124"/>
                </a:cubicBezTo>
                <a:cubicBezTo>
                  <a:pt x="263" y="118"/>
                  <a:pt x="274" y="114"/>
                  <a:pt x="252" y="100"/>
                </a:cubicBezTo>
                <a:cubicBezTo>
                  <a:pt x="259" y="80"/>
                  <a:pt x="264" y="95"/>
                  <a:pt x="280" y="100"/>
                </a:cubicBezTo>
                <a:cubicBezTo>
                  <a:pt x="312" y="89"/>
                  <a:pt x="321" y="88"/>
                  <a:pt x="356" y="84"/>
                </a:cubicBezTo>
                <a:cubicBezTo>
                  <a:pt x="386" y="74"/>
                  <a:pt x="405" y="74"/>
                  <a:pt x="440" y="72"/>
                </a:cubicBezTo>
                <a:cubicBezTo>
                  <a:pt x="448" y="73"/>
                  <a:pt x="456" y="74"/>
                  <a:pt x="464" y="76"/>
                </a:cubicBezTo>
                <a:cubicBezTo>
                  <a:pt x="472" y="78"/>
                  <a:pt x="488" y="84"/>
                  <a:pt x="488" y="84"/>
                </a:cubicBezTo>
                <a:cubicBezTo>
                  <a:pt x="518" y="81"/>
                  <a:pt x="539" y="78"/>
                  <a:pt x="568" y="88"/>
                </a:cubicBezTo>
                <a:cubicBezTo>
                  <a:pt x="558" y="118"/>
                  <a:pt x="558" y="104"/>
                  <a:pt x="564" y="132"/>
                </a:cubicBezTo>
                <a:cubicBezTo>
                  <a:pt x="556" y="137"/>
                  <a:pt x="548" y="143"/>
                  <a:pt x="540" y="148"/>
                </a:cubicBezTo>
                <a:cubicBezTo>
                  <a:pt x="533" y="153"/>
                  <a:pt x="535" y="164"/>
                  <a:pt x="532" y="172"/>
                </a:cubicBezTo>
                <a:cubicBezTo>
                  <a:pt x="525" y="193"/>
                  <a:pt x="530" y="180"/>
                  <a:pt x="512" y="208"/>
                </a:cubicBezTo>
                <a:cubicBezTo>
                  <a:pt x="508" y="214"/>
                  <a:pt x="483" y="220"/>
                  <a:pt x="476" y="224"/>
                </a:cubicBezTo>
                <a:cubicBezTo>
                  <a:pt x="468" y="229"/>
                  <a:pt x="452" y="240"/>
                  <a:pt x="452" y="240"/>
                </a:cubicBezTo>
                <a:cubicBezTo>
                  <a:pt x="434" y="267"/>
                  <a:pt x="433" y="239"/>
                  <a:pt x="416" y="228"/>
                </a:cubicBezTo>
                <a:cubicBezTo>
                  <a:pt x="399" y="239"/>
                  <a:pt x="397" y="229"/>
                  <a:pt x="380" y="240"/>
                </a:cubicBezTo>
                <a:cubicBezTo>
                  <a:pt x="360" y="270"/>
                  <a:pt x="337" y="244"/>
                  <a:pt x="312" y="236"/>
                </a:cubicBezTo>
                <a:cubicBezTo>
                  <a:pt x="309" y="232"/>
                  <a:pt x="309" y="224"/>
                  <a:pt x="304" y="224"/>
                </a:cubicBezTo>
                <a:cubicBezTo>
                  <a:pt x="299" y="224"/>
                  <a:pt x="300" y="233"/>
                  <a:pt x="296" y="236"/>
                </a:cubicBezTo>
                <a:cubicBezTo>
                  <a:pt x="289" y="240"/>
                  <a:pt x="272" y="244"/>
                  <a:pt x="272" y="244"/>
                </a:cubicBezTo>
                <a:cubicBezTo>
                  <a:pt x="240" y="233"/>
                  <a:pt x="256" y="235"/>
                  <a:pt x="224" y="240"/>
                </a:cubicBezTo>
                <a:cubicBezTo>
                  <a:pt x="193" y="209"/>
                  <a:pt x="230" y="252"/>
                  <a:pt x="216" y="204"/>
                </a:cubicBezTo>
                <a:cubicBezTo>
                  <a:pt x="215" y="201"/>
                  <a:pt x="190" y="198"/>
                  <a:pt x="180" y="196"/>
                </a:cubicBezTo>
                <a:cubicBezTo>
                  <a:pt x="168" y="177"/>
                  <a:pt x="179" y="178"/>
                  <a:pt x="196" y="172"/>
                </a:cubicBezTo>
                <a:cubicBezTo>
                  <a:pt x="186" y="156"/>
                  <a:pt x="186" y="164"/>
                  <a:pt x="192" y="144"/>
                </a:cubicBezTo>
                <a:cubicBezTo>
                  <a:pt x="194" y="136"/>
                  <a:pt x="200" y="120"/>
                  <a:pt x="200" y="120"/>
                </a:cubicBezTo>
                <a:cubicBezTo>
                  <a:pt x="183" y="114"/>
                  <a:pt x="174" y="108"/>
                  <a:pt x="156" y="104"/>
                </a:cubicBezTo>
                <a:cubicBezTo>
                  <a:pt x="106" y="114"/>
                  <a:pt x="169" y="110"/>
                  <a:pt x="128" y="124"/>
                </a:cubicBezTo>
                <a:cubicBezTo>
                  <a:pt x="120" y="121"/>
                  <a:pt x="112" y="119"/>
                  <a:pt x="104" y="116"/>
                </a:cubicBezTo>
                <a:cubicBezTo>
                  <a:pt x="99" y="114"/>
                  <a:pt x="106" y="127"/>
                  <a:pt x="108" y="132"/>
                </a:cubicBezTo>
                <a:cubicBezTo>
                  <a:pt x="112" y="141"/>
                  <a:pt x="119" y="148"/>
                  <a:pt x="124" y="156"/>
                </a:cubicBezTo>
                <a:cubicBezTo>
                  <a:pt x="127" y="160"/>
                  <a:pt x="132" y="168"/>
                  <a:pt x="132" y="168"/>
                </a:cubicBezTo>
                <a:cubicBezTo>
                  <a:pt x="136" y="184"/>
                  <a:pt x="141" y="192"/>
                  <a:pt x="136" y="208"/>
                </a:cubicBezTo>
                <a:cubicBezTo>
                  <a:pt x="107" y="202"/>
                  <a:pt x="119" y="196"/>
                  <a:pt x="96" y="188"/>
                </a:cubicBezTo>
                <a:cubicBezTo>
                  <a:pt x="101" y="203"/>
                  <a:pt x="111" y="207"/>
                  <a:pt x="120" y="220"/>
                </a:cubicBezTo>
                <a:cubicBezTo>
                  <a:pt x="102" y="232"/>
                  <a:pt x="89" y="228"/>
                  <a:pt x="72" y="216"/>
                </a:cubicBezTo>
                <a:cubicBezTo>
                  <a:pt x="64" y="191"/>
                  <a:pt x="84" y="203"/>
                  <a:pt x="68" y="180"/>
                </a:cubicBezTo>
                <a:cubicBezTo>
                  <a:pt x="49" y="192"/>
                  <a:pt x="56" y="211"/>
                  <a:pt x="48" y="188"/>
                </a:cubicBezTo>
                <a:cubicBezTo>
                  <a:pt x="57" y="174"/>
                  <a:pt x="68" y="167"/>
                  <a:pt x="48" y="160"/>
                </a:cubicBezTo>
                <a:cubicBezTo>
                  <a:pt x="39" y="133"/>
                  <a:pt x="48" y="166"/>
                  <a:pt x="48" y="124"/>
                </a:cubicBezTo>
                <a:cubicBezTo>
                  <a:pt x="48" y="117"/>
                  <a:pt x="42" y="85"/>
                  <a:pt x="40" y="76"/>
                </a:cubicBezTo>
                <a:cubicBezTo>
                  <a:pt x="34" y="53"/>
                  <a:pt x="15" y="38"/>
                  <a:pt x="8" y="16"/>
                </a:cubicBezTo>
                <a:cubicBezTo>
                  <a:pt x="19" y="0"/>
                  <a:pt x="21" y="4"/>
                  <a:pt x="0" y="4"/>
                </a:cubicBezTo>
                <a:close/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52"/>
          <p:cNvSpPr/>
          <p:nvPr/>
        </p:nvSpPr>
        <p:spPr>
          <a:xfrm>
            <a:off x="1984320" y="1695600"/>
            <a:ext cx="80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and-Lithu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3"/>
          <p:cNvSpPr/>
          <p:nvPr/>
        </p:nvSpPr>
        <p:spPr>
          <a:xfrm>
            <a:off x="1911240" y="206064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54"/>
          <p:cNvSpPr/>
          <p:nvPr/>
        </p:nvSpPr>
        <p:spPr>
          <a:xfrm>
            <a:off x="1984320" y="235116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toman 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55"/>
          <p:cNvSpPr/>
          <p:nvPr/>
        </p:nvSpPr>
        <p:spPr>
          <a:xfrm>
            <a:off x="2365200" y="893880"/>
            <a:ext cx="1325880" cy="909360"/>
          </a:xfrm>
          <a:custGeom>
            <a:avLst/>
            <a:gdLst/>
            <a:ahLst/>
            <a:rect l="l" t="t" r="r" b="b"/>
            <a:pathLst>
              <a:path w="874" h="599">
                <a:moveTo>
                  <a:pt x="153" y="584"/>
                </a:moveTo>
                <a:cubicBezTo>
                  <a:pt x="176" y="592"/>
                  <a:pt x="213" y="586"/>
                  <a:pt x="237" y="588"/>
                </a:cubicBezTo>
                <a:cubicBezTo>
                  <a:pt x="269" y="599"/>
                  <a:pt x="305" y="582"/>
                  <a:pt x="337" y="576"/>
                </a:cubicBezTo>
                <a:cubicBezTo>
                  <a:pt x="391" y="565"/>
                  <a:pt x="451" y="551"/>
                  <a:pt x="497" y="520"/>
                </a:cubicBezTo>
                <a:cubicBezTo>
                  <a:pt x="507" y="506"/>
                  <a:pt x="511" y="501"/>
                  <a:pt x="505" y="484"/>
                </a:cubicBezTo>
                <a:cubicBezTo>
                  <a:pt x="507" y="469"/>
                  <a:pt x="502" y="451"/>
                  <a:pt x="513" y="440"/>
                </a:cubicBezTo>
                <a:cubicBezTo>
                  <a:pt x="521" y="432"/>
                  <a:pt x="552" y="423"/>
                  <a:pt x="561" y="420"/>
                </a:cubicBezTo>
                <a:cubicBezTo>
                  <a:pt x="584" y="412"/>
                  <a:pt x="609" y="400"/>
                  <a:pt x="633" y="392"/>
                </a:cubicBezTo>
                <a:cubicBezTo>
                  <a:pt x="657" y="384"/>
                  <a:pt x="692" y="383"/>
                  <a:pt x="717" y="380"/>
                </a:cubicBezTo>
                <a:cubicBezTo>
                  <a:pt x="738" y="373"/>
                  <a:pt x="758" y="363"/>
                  <a:pt x="777" y="352"/>
                </a:cubicBezTo>
                <a:cubicBezTo>
                  <a:pt x="785" y="347"/>
                  <a:pt x="801" y="336"/>
                  <a:pt x="801" y="336"/>
                </a:cubicBezTo>
                <a:cubicBezTo>
                  <a:pt x="810" y="323"/>
                  <a:pt x="820" y="315"/>
                  <a:pt x="825" y="300"/>
                </a:cubicBezTo>
                <a:cubicBezTo>
                  <a:pt x="828" y="265"/>
                  <a:pt x="824" y="253"/>
                  <a:pt x="841" y="228"/>
                </a:cubicBezTo>
                <a:cubicBezTo>
                  <a:pt x="844" y="203"/>
                  <a:pt x="839" y="180"/>
                  <a:pt x="845" y="156"/>
                </a:cubicBezTo>
                <a:cubicBezTo>
                  <a:pt x="840" y="133"/>
                  <a:pt x="845" y="115"/>
                  <a:pt x="853" y="92"/>
                </a:cubicBezTo>
                <a:cubicBezTo>
                  <a:pt x="856" y="67"/>
                  <a:pt x="874" y="23"/>
                  <a:pt x="841" y="12"/>
                </a:cubicBezTo>
                <a:cubicBezTo>
                  <a:pt x="831" y="27"/>
                  <a:pt x="827" y="34"/>
                  <a:pt x="809" y="28"/>
                </a:cubicBezTo>
                <a:cubicBezTo>
                  <a:pt x="792" y="34"/>
                  <a:pt x="757" y="40"/>
                  <a:pt x="757" y="40"/>
                </a:cubicBezTo>
                <a:cubicBezTo>
                  <a:pt x="739" y="34"/>
                  <a:pt x="741" y="26"/>
                  <a:pt x="737" y="8"/>
                </a:cubicBezTo>
                <a:cubicBezTo>
                  <a:pt x="712" y="25"/>
                  <a:pt x="690" y="32"/>
                  <a:pt x="661" y="40"/>
                </a:cubicBezTo>
                <a:cubicBezTo>
                  <a:pt x="651" y="43"/>
                  <a:pt x="628" y="47"/>
                  <a:pt x="621" y="52"/>
                </a:cubicBezTo>
                <a:cubicBezTo>
                  <a:pt x="602" y="65"/>
                  <a:pt x="614" y="58"/>
                  <a:pt x="585" y="68"/>
                </a:cubicBezTo>
                <a:cubicBezTo>
                  <a:pt x="581" y="69"/>
                  <a:pt x="573" y="72"/>
                  <a:pt x="573" y="72"/>
                </a:cubicBezTo>
                <a:cubicBezTo>
                  <a:pt x="582" y="106"/>
                  <a:pt x="565" y="100"/>
                  <a:pt x="533" y="96"/>
                </a:cubicBezTo>
                <a:cubicBezTo>
                  <a:pt x="528" y="93"/>
                  <a:pt x="504" y="73"/>
                  <a:pt x="521" y="64"/>
                </a:cubicBezTo>
                <a:cubicBezTo>
                  <a:pt x="529" y="60"/>
                  <a:pt x="540" y="61"/>
                  <a:pt x="549" y="60"/>
                </a:cubicBezTo>
                <a:cubicBezTo>
                  <a:pt x="562" y="22"/>
                  <a:pt x="501" y="28"/>
                  <a:pt x="477" y="24"/>
                </a:cubicBezTo>
                <a:cubicBezTo>
                  <a:pt x="482" y="44"/>
                  <a:pt x="493" y="47"/>
                  <a:pt x="481" y="64"/>
                </a:cubicBezTo>
                <a:cubicBezTo>
                  <a:pt x="485" y="77"/>
                  <a:pt x="501" y="100"/>
                  <a:pt x="501" y="100"/>
                </a:cubicBezTo>
                <a:cubicBezTo>
                  <a:pt x="494" y="122"/>
                  <a:pt x="487" y="120"/>
                  <a:pt x="465" y="116"/>
                </a:cubicBezTo>
                <a:cubicBezTo>
                  <a:pt x="435" y="126"/>
                  <a:pt x="407" y="138"/>
                  <a:pt x="377" y="148"/>
                </a:cubicBezTo>
                <a:cubicBezTo>
                  <a:pt x="371" y="165"/>
                  <a:pt x="372" y="170"/>
                  <a:pt x="389" y="176"/>
                </a:cubicBezTo>
                <a:cubicBezTo>
                  <a:pt x="404" y="198"/>
                  <a:pt x="392" y="198"/>
                  <a:pt x="373" y="192"/>
                </a:cubicBezTo>
                <a:cubicBezTo>
                  <a:pt x="353" y="199"/>
                  <a:pt x="337" y="191"/>
                  <a:pt x="321" y="180"/>
                </a:cubicBezTo>
                <a:cubicBezTo>
                  <a:pt x="316" y="181"/>
                  <a:pt x="294" y="183"/>
                  <a:pt x="297" y="196"/>
                </a:cubicBezTo>
                <a:cubicBezTo>
                  <a:pt x="300" y="210"/>
                  <a:pt x="323" y="206"/>
                  <a:pt x="337" y="208"/>
                </a:cubicBezTo>
                <a:cubicBezTo>
                  <a:pt x="308" y="227"/>
                  <a:pt x="322" y="222"/>
                  <a:pt x="297" y="228"/>
                </a:cubicBezTo>
                <a:cubicBezTo>
                  <a:pt x="280" y="216"/>
                  <a:pt x="279" y="199"/>
                  <a:pt x="257" y="192"/>
                </a:cubicBezTo>
                <a:cubicBezTo>
                  <a:pt x="252" y="172"/>
                  <a:pt x="251" y="178"/>
                  <a:pt x="257" y="156"/>
                </a:cubicBezTo>
                <a:cubicBezTo>
                  <a:pt x="259" y="148"/>
                  <a:pt x="265" y="132"/>
                  <a:pt x="265" y="132"/>
                </a:cubicBezTo>
                <a:cubicBezTo>
                  <a:pt x="245" y="125"/>
                  <a:pt x="225" y="120"/>
                  <a:pt x="205" y="116"/>
                </a:cubicBezTo>
                <a:cubicBezTo>
                  <a:pt x="191" y="95"/>
                  <a:pt x="197" y="91"/>
                  <a:pt x="221" y="96"/>
                </a:cubicBezTo>
                <a:cubicBezTo>
                  <a:pt x="254" y="118"/>
                  <a:pt x="214" y="114"/>
                  <a:pt x="277" y="120"/>
                </a:cubicBezTo>
                <a:cubicBezTo>
                  <a:pt x="305" y="129"/>
                  <a:pt x="271" y="120"/>
                  <a:pt x="321" y="120"/>
                </a:cubicBezTo>
                <a:cubicBezTo>
                  <a:pt x="331" y="120"/>
                  <a:pt x="340" y="126"/>
                  <a:pt x="349" y="128"/>
                </a:cubicBezTo>
                <a:cubicBezTo>
                  <a:pt x="353" y="127"/>
                  <a:pt x="357" y="124"/>
                  <a:pt x="361" y="124"/>
                </a:cubicBezTo>
                <a:cubicBezTo>
                  <a:pt x="365" y="124"/>
                  <a:pt x="369" y="128"/>
                  <a:pt x="373" y="128"/>
                </a:cubicBezTo>
                <a:cubicBezTo>
                  <a:pt x="381" y="127"/>
                  <a:pt x="389" y="123"/>
                  <a:pt x="397" y="120"/>
                </a:cubicBezTo>
                <a:cubicBezTo>
                  <a:pt x="401" y="119"/>
                  <a:pt x="409" y="116"/>
                  <a:pt x="409" y="116"/>
                </a:cubicBezTo>
                <a:cubicBezTo>
                  <a:pt x="415" y="97"/>
                  <a:pt x="404" y="102"/>
                  <a:pt x="389" y="92"/>
                </a:cubicBezTo>
                <a:cubicBezTo>
                  <a:pt x="397" y="89"/>
                  <a:pt x="405" y="87"/>
                  <a:pt x="413" y="84"/>
                </a:cubicBezTo>
                <a:cubicBezTo>
                  <a:pt x="418" y="82"/>
                  <a:pt x="405" y="78"/>
                  <a:pt x="401" y="76"/>
                </a:cubicBezTo>
                <a:cubicBezTo>
                  <a:pt x="393" y="73"/>
                  <a:pt x="377" y="68"/>
                  <a:pt x="377" y="68"/>
                </a:cubicBezTo>
                <a:cubicBezTo>
                  <a:pt x="354" y="33"/>
                  <a:pt x="326" y="18"/>
                  <a:pt x="285" y="12"/>
                </a:cubicBezTo>
                <a:cubicBezTo>
                  <a:pt x="251" y="1"/>
                  <a:pt x="269" y="5"/>
                  <a:pt x="229" y="0"/>
                </a:cubicBezTo>
                <a:cubicBezTo>
                  <a:pt x="198" y="8"/>
                  <a:pt x="167" y="14"/>
                  <a:pt x="137" y="24"/>
                </a:cubicBezTo>
                <a:cubicBezTo>
                  <a:pt x="127" y="55"/>
                  <a:pt x="103" y="77"/>
                  <a:pt x="93" y="108"/>
                </a:cubicBezTo>
                <a:cubicBezTo>
                  <a:pt x="89" y="163"/>
                  <a:pt x="90" y="197"/>
                  <a:pt x="113" y="244"/>
                </a:cubicBezTo>
                <a:cubicBezTo>
                  <a:pt x="119" y="256"/>
                  <a:pt x="128" y="268"/>
                  <a:pt x="133" y="280"/>
                </a:cubicBezTo>
                <a:cubicBezTo>
                  <a:pt x="136" y="288"/>
                  <a:pt x="141" y="304"/>
                  <a:pt x="141" y="304"/>
                </a:cubicBezTo>
                <a:cubicBezTo>
                  <a:pt x="140" y="323"/>
                  <a:pt x="144" y="343"/>
                  <a:pt x="137" y="360"/>
                </a:cubicBezTo>
                <a:cubicBezTo>
                  <a:pt x="134" y="368"/>
                  <a:pt x="121" y="367"/>
                  <a:pt x="113" y="372"/>
                </a:cubicBezTo>
                <a:cubicBezTo>
                  <a:pt x="105" y="377"/>
                  <a:pt x="97" y="383"/>
                  <a:pt x="89" y="388"/>
                </a:cubicBezTo>
                <a:cubicBezTo>
                  <a:pt x="81" y="393"/>
                  <a:pt x="65" y="404"/>
                  <a:pt x="65" y="404"/>
                </a:cubicBezTo>
                <a:cubicBezTo>
                  <a:pt x="43" y="400"/>
                  <a:pt x="36" y="395"/>
                  <a:pt x="13" y="400"/>
                </a:cubicBezTo>
                <a:cubicBezTo>
                  <a:pt x="11" y="409"/>
                  <a:pt x="4" y="418"/>
                  <a:pt x="5" y="428"/>
                </a:cubicBezTo>
                <a:cubicBezTo>
                  <a:pt x="6" y="436"/>
                  <a:pt x="10" y="444"/>
                  <a:pt x="13" y="452"/>
                </a:cubicBezTo>
                <a:cubicBezTo>
                  <a:pt x="14" y="456"/>
                  <a:pt x="17" y="464"/>
                  <a:pt x="17" y="464"/>
                </a:cubicBezTo>
                <a:cubicBezTo>
                  <a:pt x="13" y="510"/>
                  <a:pt x="0" y="521"/>
                  <a:pt x="41" y="528"/>
                </a:cubicBezTo>
                <a:cubicBezTo>
                  <a:pt x="66" y="512"/>
                  <a:pt x="77" y="519"/>
                  <a:pt x="105" y="528"/>
                </a:cubicBezTo>
                <a:cubicBezTo>
                  <a:pt x="114" y="531"/>
                  <a:pt x="129" y="544"/>
                  <a:pt x="129" y="544"/>
                </a:cubicBezTo>
                <a:cubicBezTo>
                  <a:pt x="132" y="548"/>
                  <a:pt x="179" y="597"/>
                  <a:pt x="153" y="584"/>
                </a:cubicBez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56"/>
          <p:cNvSpPr/>
          <p:nvPr/>
        </p:nvSpPr>
        <p:spPr>
          <a:xfrm>
            <a:off x="2597040" y="1311120"/>
            <a:ext cx="1573200" cy="102564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76" y="19"/>
                </a:moveTo>
                <a:cubicBezTo>
                  <a:pt x="669" y="41"/>
                  <a:pt x="656" y="77"/>
                  <a:pt x="634" y="91"/>
                </a:cubicBezTo>
                <a:cubicBezTo>
                  <a:pt x="594" y="116"/>
                  <a:pt x="521" y="122"/>
                  <a:pt x="478" y="127"/>
                </a:cubicBezTo>
                <a:cubicBezTo>
                  <a:pt x="441" y="139"/>
                  <a:pt x="402" y="148"/>
                  <a:pt x="370" y="169"/>
                </a:cubicBezTo>
                <a:cubicBezTo>
                  <a:pt x="350" y="200"/>
                  <a:pt x="377" y="222"/>
                  <a:pt x="346" y="247"/>
                </a:cubicBezTo>
                <a:cubicBezTo>
                  <a:pt x="341" y="251"/>
                  <a:pt x="334" y="250"/>
                  <a:pt x="328" y="253"/>
                </a:cubicBezTo>
                <a:cubicBezTo>
                  <a:pt x="295" y="272"/>
                  <a:pt x="259" y="306"/>
                  <a:pt x="220" y="313"/>
                </a:cubicBezTo>
                <a:cubicBezTo>
                  <a:pt x="192" y="318"/>
                  <a:pt x="164" y="320"/>
                  <a:pt x="136" y="325"/>
                </a:cubicBezTo>
                <a:cubicBezTo>
                  <a:pt x="130" y="323"/>
                  <a:pt x="124" y="319"/>
                  <a:pt x="118" y="319"/>
                </a:cubicBezTo>
                <a:cubicBezTo>
                  <a:pt x="112" y="319"/>
                  <a:pt x="106" y="326"/>
                  <a:pt x="100" y="325"/>
                </a:cubicBezTo>
                <a:cubicBezTo>
                  <a:pt x="87" y="324"/>
                  <a:pt x="64" y="313"/>
                  <a:pt x="64" y="313"/>
                </a:cubicBezTo>
                <a:cubicBezTo>
                  <a:pt x="31" y="319"/>
                  <a:pt x="10" y="319"/>
                  <a:pt x="22" y="355"/>
                </a:cubicBezTo>
                <a:cubicBezTo>
                  <a:pt x="10" y="391"/>
                  <a:pt x="0" y="430"/>
                  <a:pt x="46" y="445"/>
                </a:cubicBezTo>
                <a:cubicBezTo>
                  <a:pt x="54" y="469"/>
                  <a:pt x="61" y="479"/>
                  <a:pt x="82" y="493"/>
                </a:cubicBezTo>
                <a:cubicBezTo>
                  <a:pt x="90" y="505"/>
                  <a:pt x="98" y="517"/>
                  <a:pt x="106" y="529"/>
                </a:cubicBezTo>
                <a:cubicBezTo>
                  <a:pt x="114" y="541"/>
                  <a:pt x="82" y="545"/>
                  <a:pt x="70" y="553"/>
                </a:cubicBezTo>
                <a:cubicBezTo>
                  <a:pt x="45" y="570"/>
                  <a:pt x="59" y="563"/>
                  <a:pt x="28" y="571"/>
                </a:cubicBezTo>
                <a:cubicBezTo>
                  <a:pt x="36" y="595"/>
                  <a:pt x="61" y="617"/>
                  <a:pt x="82" y="631"/>
                </a:cubicBezTo>
                <a:cubicBezTo>
                  <a:pt x="89" y="620"/>
                  <a:pt x="92" y="605"/>
                  <a:pt x="100" y="595"/>
                </a:cubicBezTo>
                <a:cubicBezTo>
                  <a:pt x="113" y="579"/>
                  <a:pt x="120" y="586"/>
                  <a:pt x="136" y="577"/>
                </a:cubicBezTo>
                <a:cubicBezTo>
                  <a:pt x="198" y="543"/>
                  <a:pt x="149" y="561"/>
                  <a:pt x="190" y="547"/>
                </a:cubicBezTo>
                <a:cubicBezTo>
                  <a:pt x="192" y="553"/>
                  <a:pt x="200" y="560"/>
                  <a:pt x="196" y="565"/>
                </a:cubicBezTo>
                <a:cubicBezTo>
                  <a:pt x="188" y="577"/>
                  <a:pt x="160" y="589"/>
                  <a:pt x="160" y="589"/>
                </a:cubicBezTo>
                <a:cubicBezTo>
                  <a:pt x="137" y="623"/>
                  <a:pt x="105" y="609"/>
                  <a:pt x="166" y="619"/>
                </a:cubicBezTo>
                <a:cubicBezTo>
                  <a:pt x="203" y="675"/>
                  <a:pt x="230" y="620"/>
                  <a:pt x="268" y="613"/>
                </a:cubicBezTo>
                <a:cubicBezTo>
                  <a:pt x="296" y="608"/>
                  <a:pt x="324" y="609"/>
                  <a:pt x="352" y="607"/>
                </a:cubicBezTo>
                <a:cubicBezTo>
                  <a:pt x="374" y="614"/>
                  <a:pt x="396" y="618"/>
                  <a:pt x="418" y="625"/>
                </a:cubicBezTo>
                <a:cubicBezTo>
                  <a:pt x="452" y="602"/>
                  <a:pt x="487" y="572"/>
                  <a:pt x="526" y="559"/>
                </a:cubicBezTo>
                <a:cubicBezTo>
                  <a:pt x="532" y="561"/>
                  <a:pt x="539" y="561"/>
                  <a:pt x="544" y="565"/>
                </a:cubicBezTo>
                <a:cubicBezTo>
                  <a:pt x="550" y="570"/>
                  <a:pt x="550" y="579"/>
                  <a:pt x="556" y="583"/>
                </a:cubicBezTo>
                <a:cubicBezTo>
                  <a:pt x="567" y="590"/>
                  <a:pt x="592" y="595"/>
                  <a:pt x="592" y="595"/>
                </a:cubicBezTo>
                <a:cubicBezTo>
                  <a:pt x="612" y="588"/>
                  <a:pt x="626" y="578"/>
                  <a:pt x="646" y="571"/>
                </a:cubicBezTo>
                <a:cubicBezTo>
                  <a:pt x="690" y="586"/>
                  <a:pt x="670" y="580"/>
                  <a:pt x="706" y="589"/>
                </a:cubicBezTo>
                <a:cubicBezTo>
                  <a:pt x="749" y="575"/>
                  <a:pt x="731" y="584"/>
                  <a:pt x="760" y="565"/>
                </a:cubicBezTo>
                <a:cubicBezTo>
                  <a:pt x="772" y="602"/>
                  <a:pt x="743" y="595"/>
                  <a:pt x="778" y="607"/>
                </a:cubicBezTo>
                <a:cubicBezTo>
                  <a:pt x="805" y="567"/>
                  <a:pt x="794" y="514"/>
                  <a:pt x="820" y="475"/>
                </a:cubicBezTo>
                <a:cubicBezTo>
                  <a:pt x="827" y="464"/>
                  <a:pt x="829" y="448"/>
                  <a:pt x="838" y="439"/>
                </a:cubicBezTo>
                <a:cubicBezTo>
                  <a:pt x="848" y="429"/>
                  <a:pt x="874" y="415"/>
                  <a:pt x="874" y="415"/>
                </a:cubicBezTo>
                <a:cubicBezTo>
                  <a:pt x="881" y="404"/>
                  <a:pt x="883" y="388"/>
                  <a:pt x="892" y="379"/>
                </a:cubicBezTo>
                <a:cubicBezTo>
                  <a:pt x="902" y="369"/>
                  <a:pt x="928" y="355"/>
                  <a:pt x="928" y="355"/>
                </a:cubicBezTo>
                <a:cubicBezTo>
                  <a:pt x="940" y="320"/>
                  <a:pt x="925" y="352"/>
                  <a:pt x="952" y="325"/>
                </a:cubicBezTo>
                <a:cubicBezTo>
                  <a:pt x="963" y="314"/>
                  <a:pt x="975" y="286"/>
                  <a:pt x="982" y="271"/>
                </a:cubicBezTo>
                <a:cubicBezTo>
                  <a:pt x="1008" y="212"/>
                  <a:pt x="1025" y="142"/>
                  <a:pt x="1036" y="79"/>
                </a:cubicBezTo>
                <a:cubicBezTo>
                  <a:pt x="1023" y="41"/>
                  <a:pt x="988" y="42"/>
                  <a:pt x="952" y="37"/>
                </a:cubicBezTo>
                <a:cubicBezTo>
                  <a:pt x="940" y="33"/>
                  <a:pt x="928" y="29"/>
                  <a:pt x="916" y="25"/>
                </a:cubicBezTo>
                <a:cubicBezTo>
                  <a:pt x="889" y="16"/>
                  <a:pt x="832" y="13"/>
                  <a:pt x="832" y="13"/>
                </a:cubicBezTo>
                <a:cubicBezTo>
                  <a:pt x="805" y="4"/>
                  <a:pt x="788" y="0"/>
                  <a:pt x="760" y="7"/>
                </a:cubicBezTo>
                <a:cubicBezTo>
                  <a:pt x="738" y="0"/>
                  <a:pt x="728" y="8"/>
                  <a:pt x="706" y="1"/>
                </a:cubicBezTo>
                <a:cubicBezTo>
                  <a:pt x="698" y="3"/>
                  <a:pt x="688" y="2"/>
                  <a:pt x="682" y="7"/>
                </a:cubicBezTo>
                <a:cubicBezTo>
                  <a:pt x="675" y="12"/>
                  <a:pt x="676" y="36"/>
                  <a:pt x="676" y="19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57"/>
          <p:cNvSpPr/>
          <p:nvPr/>
        </p:nvSpPr>
        <p:spPr>
          <a:xfrm>
            <a:off x="3076560" y="2224080"/>
            <a:ext cx="173160" cy="146160"/>
          </a:xfrm>
          <a:custGeom>
            <a:avLst/>
            <a:gdLst/>
            <a:ahLst/>
            <a:rect l="l" t="t" r="r" b="b"/>
            <a:pathLst>
              <a:path w="114" h="96">
                <a:moveTo>
                  <a:pt x="0" y="0"/>
                </a:moveTo>
                <a:cubicBezTo>
                  <a:pt x="4" y="6"/>
                  <a:pt x="6" y="14"/>
                  <a:pt x="12" y="18"/>
                </a:cubicBezTo>
                <a:cubicBezTo>
                  <a:pt x="23" y="25"/>
                  <a:pt x="48" y="30"/>
                  <a:pt x="48" y="30"/>
                </a:cubicBezTo>
                <a:cubicBezTo>
                  <a:pt x="53" y="46"/>
                  <a:pt x="63" y="79"/>
                  <a:pt x="78" y="84"/>
                </a:cubicBezTo>
                <a:cubicBezTo>
                  <a:pt x="90" y="88"/>
                  <a:pt x="114" y="96"/>
                  <a:pt x="114" y="96"/>
                </a:cubicBezTo>
                <a:cubicBezTo>
                  <a:pt x="108" y="74"/>
                  <a:pt x="112" y="46"/>
                  <a:pt x="96" y="30"/>
                </a:cubicBezTo>
                <a:cubicBezTo>
                  <a:pt x="86" y="20"/>
                  <a:pt x="60" y="6"/>
                  <a:pt x="60" y="6"/>
                </a:cubicBezTo>
                <a:cubicBezTo>
                  <a:pt x="25" y="13"/>
                  <a:pt x="19" y="29"/>
                  <a:pt x="0" y="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58"/>
          <p:cNvSpPr/>
          <p:nvPr/>
        </p:nvSpPr>
        <p:spPr>
          <a:xfrm>
            <a:off x="2567160" y="1112760"/>
            <a:ext cx="87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ian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59"/>
          <p:cNvSpPr/>
          <p:nvPr/>
        </p:nvSpPr>
        <p:spPr>
          <a:xfrm>
            <a:off x="2639880" y="1695600"/>
            <a:ext cx="131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hanate of the Golden Ho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60"/>
          <p:cNvSpPr/>
          <p:nvPr/>
        </p:nvSpPr>
        <p:spPr>
          <a:xfrm>
            <a:off x="3795840" y="1604880"/>
            <a:ext cx="1012680" cy="701640"/>
          </a:xfrm>
          <a:custGeom>
            <a:avLst/>
            <a:gdLst/>
            <a:ahLst/>
            <a:rect l="l" t="t" r="r" b="b"/>
            <a:pathLst>
              <a:path w="667" h="462">
                <a:moveTo>
                  <a:pt x="12" y="408"/>
                </a:moveTo>
                <a:cubicBezTo>
                  <a:pt x="55" y="415"/>
                  <a:pt x="95" y="404"/>
                  <a:pt x="138" y="414"/>
                </a:cubicBezTo>
                <a:cubicBezTo>
                  <a:pt x="197" y="427"/>
                  <a:pt x="253" y="455"/>
                  <a:pt x="312" y="462"/>
                </a:cubicBezTo>
                <a:cubicBezTo>
                  <a:pt x="382" y="439"/>
                  <a:pt x="450" y="414"/>
                  <a:pt x="522" y="402"/>
                </a:cubicBezTo>
                <a:cubicBezTo>
                  <a:pt x="562" y="415"/>
                  <a:pt x="554" y="383"/>
                  <a:pt x="588" y="372"/>
                </a:cubicBezTo>
                <a:cubicBezTo>
                  <a:pt x="602" y="351"/>
                  <a:pt x="612" y="344"/>
                  <a:pt x="636" y="336"/>
                </a:cubicBezTo>
                <a:cubicBezTo>
                  <a:pt x="667" y="290"/>
                  <a:pt x="654" y="254"/>
                  <a:pt x="648" y="192"/>
                </a:cubicBezTo>
                <a:cubicBezTo>
                  <a:pt x="643" y="139"/>
                  <a:pt x="611" y="125"/>
                  <a:pt x="570" y="102"/>
                </a:cubicBezTo>
                <a:cubicBezTo>
                  <a:pt x="545" y="88"/>
                  <a:pt x="522" y="70"/>
                  <a:pt x="498" y="54"/>
                </a:cubicBezTo>
                <a:cubicBezTo>
                  <a:pt x="488" y="47"/>
                  <a:pt x="449" y="43"/>
                  <a:pt x="444" y="42"/>
                </a:cubicBezTo>
                <a:cubicBezTo>
                  <a:pt x="403" y="33"/>
                  <a:pt x="368" y="13"/>
                  <a:pt x="330" y="0"/>
                </a:cubicBezTo>
                <a:cubicBezTo>
                  <a:pt x="290" y="4"/>
                  <a:pt x="255" y="8"/>
                  <a:pt x="216" y="18"/>
                </a:cubicBezTo>
                <a:cubicBezTo>
                  <a:pt x="203" y="56"/>
                  <a:pt x="186" y="89"/>
                  <a:pt x="174" y="126"/>
                </a:cubicBezTo>
                <a:cubicBezTo>
                  <a:pt x="169" y="142"/>
                  <a:pt x="147" y="148"/>
                  <a:pt x="138" y="162"/>
                </a:cubicBezTo>
                <a:cubicBezTo>
                  <a:pt x="122" y="185"/>
                  <a:pt x="133" y="178"/>
                  <a:pt x="108" y="186"/>
                </a:cubicBezTo>
                <a:cubicBezTo>
                  <a:pt x="101" y="197"/>
                  <a:pt x="99" y="213"/>
                  <a:pt x="90" y="222"/>
                </a:cubicBezTo>
                <a:cubicBezTo>
                  <a:pt x="81" y="231"/>
                  <a:pt x="65" y="233"/>
                  <a:pt x="54" y="240"/>
                </a:cubicBezTo>
                <a:cubicBezTo>
                  <a:pt x="50" y="252"/>
                  <a:pt x="46" y="264"/>
                  <a:pt x="42" y="276"/>
                </a:cubicBezTo>
                <a:cubicBezTo>
                  <a:pt x="37" y="290"/>
                  <a:pt x="23" y="298"/>
                  <a:pt x="18" y="312"/>
                </a:cubicBezTo>
                <a:cubicBezTo>
                  <a:pt x="10" y="336"/>
                  <a:pt x="6" y="360"/>
                  <a:pt x="0" y="384"/>
                </a:cubicBezTo>
                <a:cubicBezTo>
                  <a:pt x="7" y="405"/>
                  <a:pt x="2" y="398"/>
                  <a:pt x="12" y="408"/>
                </a:cubicBez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61"/>
          <p:cNvSpPr/>
          <p:nvPr/>
        </p:nvSpPr>
        <p:spPr>
          <a:xfrm>
            <a:off x="3951360" y="1695600"/>
            <a:ext cx="101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gatai Khan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62"/>
          <p:cNvSpPr/>
          <p:nvPr/>
        </p:nvSpPr>
        <p:spPr>
          <a:xfrm>
            <a:off x="5011560" y="1832040"/>
            <a:ext cx="1881360" cy="1593720"/>
          </a:xfrm>
          <a:custGeom>
            <a:avLst/>
            <a:gdLst/>
            <a:ahLst/>
            <a:rect l="l" t="t" r="r" b="b"/>
            <a:pathLst>
              <a:path w="1239" h="1050">
                <a:moveTo>
                  <a:pt x="1221" y="0"/>
                </a:moveTo>
                <a:cubicBezTo>
                  <a:pt x="1215" y="6"/>
                  <a:pt x="1207" y="11"/>
                  <a:pt x="1203" y="18"/>
                </a:cubicBezTo>
                <a:cubicBezTo>
                  <a:pt x="1186" y="48"/>
                  <a:pt x="1207" y="71"/>
                  <a:pt x="1167" y="84"/>
                </a:cubicBezTo>
                <a:cubicBezTo>
                  <a:pt x="1163" y="90"/>
                  <a:pt x="1160" y="97"/>
                  <a:pt x="1155" y="102"/>
                </a:cubicBezTo>
                <a:cubicBezTo>
                  <a:pt x="1150" y="107"/>
                  <a:pt x="1142" y="108"/>
                  <a:pt x="1137" y="114"/>
                </a:cubicBezTo>
                <a:cubicBezTo>
                  <a:pt x="1133" y="119"/>
                  <a:pt x="1136" y="128"/>
                  <a:pt x="1131" y="132"/>
                </a:cubicBezTo>
                <a:cubicBezTo>
                  <a:pt x="1121" y="139"/>
                  <a:pt x="1106" y="137"/>
                  <a:pt x="1095" y="144"/>
                </a:cubicBezTo>
                <a:cubicBezTo>
                  <a:pt x="1083" y="152"/>
                  <a:pt x="1059" y="168"/>
                  <a:pt x="1059" y="168"/>
                </a:cubicBezTo>
                <a:cubicBezTo>
                  <a:pt x="1030" y="254"/>
                  <a:pt x="967" y="268"/>
                  <a:pt x="885" y="276"/>
                </a:cubicBezTo>
                <a:cubicBezTo>
                  <a:pt x="827" y="295"/>
                  <a:pt x="772" y="316"/>
                  <a:pt x="711" y="324"/>
                </a:cubicBezTo>
                <a:cubicBezTo>
                  <a:pt x="679" y="335"/>
                  <a:pt x="698" y="326"/>
                  <a:pt x="657" y="354"/>
                </a:cubicBezTo>
                <a:cubicBezTo>
                  <a:pt x="637" y="367"/>
                  <a:pt x="607" y="380"/>
                  <a:pt x="585" y="390"/>
                </a:cubicBezTo>
                <a:cubicBezTo>
                  <a:pt x="566" y="398"/>
                  <a:pt x="531" y="402"/>
                  <a:pt x="513" y="414"/>
                </a:cubicBezTo>
                <a:cubicBezTo>
                  <a:pt x="490" y="430"/>
                  <a:pt x="502" y="424"/>
                  <a:pt x="477" y="432"/>
                </a:cubicBezTo>
                <a:cubicBezTo>
                  <a:pt x="459" y="426"/>
                  <a:pt x="441" y="420"/>
                  <a:pt x="423" y="414"/>
                </a:cubicBezTo>
                <a:cubicBezTo>
                  <a:pt x="417" y="412"/>
                  <a:pt x="405" y="408"/>
                  <a:pt x="405" y="408"/>
                </a:cubicBezTo>
                <a:cubicBezTo>
                  <a:pt x="395" y="410"/>
                  <a:pt x="384" y="409"/>
                  <a:pt x="375" y="414"/>
                </a:cubicBezTo>
                <a:cubicBezTo>
                  <a:pt x="348" y="429"/>
                  <a:pt x="360" y="479"/>
                  <a:pt x="321" y="492"/>
                </a:cubicBezTo>
                <a:cubicBezTo>
                  <a:pt x="286" y="480"/>
                  <a:pt x="318" y="495"/>
                  <a:pt x="291" y="468"/>
                </a:cubicBezTo>
                <a:cubicBezTo>
                  <a:pt x="275" y="452"/>
                  <a:pt x="251" y="449"/>
                  <a:pt x="231" y="444"/>
                </a:cubicBezTo>
                <a:cubicBezTo>
                  <a:pt x="229" y="425"/>
                  <a:pt x="236" y="389"/>
                  <a:pt x="207" y="384"/>
                </a:cubicBezTo>
                <a:cubicBezTo>
                  <a:pt x="195" y="382"/>
                  <a:pt x="180" y="398"/>
                  <a:pt x="171" y="402"/>
                </a:cubicBezTo>
                <a:cubicBezTo>
                  <a:pt x="159" y="407"/>
                  <a:pt x="147" y="410"/>
                  <a:pt x="135" y="414"/>
                </a:cubicBezTo>
                <a:cubicBezTo>
                  <a:pt x="123" y="418"/>
                  <a:pt x="99" y="426"/>
                  <a:pt x="99" y="426"/>
                </a:cubicBezTo>
                <a:cubicBezTo>
                  <a:pt x="51" y="410"/>
                  <a:pt x="111" y="426"/>
                  <a:pt x="63" y="426"/>
                </a:cubicBezTo>
                <a:cubicBezTo>
                  <a:pt x="42" y="426"/>
                  <a:pt x="28" y="420"/>
                  <a:pt x="9" y="414"/>
                </a:cubicBezTo>
                <a:cubicBezTo>
                  <a:pt x="0" y="442"/>
                  <a:pt x="5" y="462"/>
                  <a:pt x="21" y="486"/>
                </a:cubicBezTo>
                <a:cubicBezTo>
                  <a:pt x="42" y="454"/>
                  <a:pt x="37" y="475"/>
                  <a:pt x="69" y="486"/>
                </a:cubicBezTo>
                <a:cubicBezTo>
                  <a:pt x="73" y="481"/>
                  <a:pt x="91" y="450"/>
                  <a:pt x="99" y="450"/>
                </a:cubicBezTo>
                <a:cubicBezTo>
                  <a:pt x="106" y="450"/>
                  <a:pt x="105" y="463"/>
                  <a:pt x="111" y="468"/>
                </a:cubicBezTo>
                <a:cubicBezTo>
                  <a:pt x="116" y="472"/>
                  <a:pt x="123" y="472"/>
                  <a:pt x="129" y="474"/>
                </a:cubicBezTo>
                <a:cubicBezTo>
                  <a:pt x="135" y="472"/>
                  <a:pt x="143" y="464"/>
                  <a:pt x="147" y="468"/>
                </a:cubicBezTo>
                <a:cubicBezTo>
                  <a:pt x="156" y="477"/>
                  <a:pt x="159" y="504"/>
                  <a:pt x="159" y="504"/>
                </a:cubicBezTo>
                <a:cubicBezTo>
                  <a:pt x="155" y="515"/>
                  <a:pt x="148" y="548"/>
                  <a:pt x="135" y="558"/>
                </a:cubicBezTo>
                <a:cubicBezTo>
                  <a:pt x="125" y="566"/>
                  <a:pt x="110" y="569"/>
                  <a:pt x="99" y="576"/>
                </a:cubicBezTo>
                <a:cubicBezTo>
                  <a:pt x="97" y="582"/>
                  <a:pt x="92" y="588"/>
                  <a:pt x="93" y="594"/>
                </a:cubicBezTo>
                <a:cubicBezTo>
                  <a:pt x="95" y="611"/>
                  <a:pt x="109" y="663"/>
                  <a:pt x="117" y="678"/>
                </a:cubicBezTo>
                <a:cubicBezTo>
                  <a:pt x="124" y="691"/>
                  <a:pt x="136" y="700"/>
                  <a:pt x="141" y="714"/>
                </a:cubicBezTo>
                <a:cubicBezTo>
                  <a:pt x="154" y="752"/>
                  <a:pt x="158" y="790"/>
                  <a:pt x="171" y="828"/>
                </a:cubicBezTo>
                <a:cubicBezTo>
                  <a:pt x="175" y="840"/>
                  <a:pt x="195" y="836"/>
                  <a:pt x="207" y="840"/>
                </a:cubicBezTo>
                <a:cubicBezTo>
                  <a:pt x="228" y="847"/>
                  <a:pt x="244" y="858"/>
                  <a:pt x="267" y="864"/>
                </a:cubicBezTo>
                <a:cubicBezTo>
                  <a:pt x="289" y="897"/>
                  <a:pt x="336" y="914"/>
                  <a:pt x="369" y="936"/>
                </a:cubicBezTo>
                <a:cubicBezTo>
                  <a:pt x="380" y="943"/>
                  <a:pt x="393" y="944"/>
                  <a:pt x="405" y="948"/>
                </a:cubicBezTo>
                <a:cubicBezTo>
                  <a:pt x="411" y="950"/>
                  <a:pt x="423" y="954"/>
                  <a:pt x="423" y="954"/>
                </a:cubicBezTo>
                <a:cubicBezTo>
                  <a:pt x="434" y="986"/>
                  <a:pt x="449" y="1001"/>
                  <a:pt x="411" y="1014"/>
                </a:cubicBezTo>
                <a:cubicBezTo>
                  <a:pt x="407" y="1020"/>
                  <a:pt x="397" y="1025"/>
                  <a:pt x="399" y="1032"/>
                </a:cubicBezTo>
                <a:cubicBezTo>
                  <a:pt x="403" y="1050"/>
                  <a:pt x="453" y="1026"/>
                  <a:pt x="453" y="1026"/>
                </a:cubicBezTo>
                <a:cubicBezTo>
                  <a:pt x="474" y="994"/>
                  <a:pt x="455" y="1008"/>
                  <a:pt x="435" y="978"/>
                </a:cubicBezTo>
                <a:cubicBezTo>
                  <a:pt x="451" y="967"/>
                  <a:pt x="489" y="954"/>
                  <a:pt x="489" y="954"/>
                </a:cubicBezTo>
                <a:cubicBezTo>
                  <a:pt x="497" y="929"/>
                  <a:pt x="505" y="921"/>
                  <a:pt x="531" y="930"/>
                </a:cubicBezTo>
                <a:cubicBezTo>
                  <a:pt x="555" y="922"/>
                  <a:pt x="560" y="910"/>
                  <a:pt x="585" y="918"/>
                </a:cubicBezTo>
                <a:cubicBezTo>
                  <a:pt x="601" y="907"/>
                  <a:pt x="621" y="896"/>
                  <a:pt x="639" y="888"/>
                </a:cubicBezTo>
                <a:cubicBezTo>
                  <a:pt x="651" y="883"/>
                  <a:pt x="675" y="876"/>
                  <a:pt x="675" y="876"/>
                </a:cubicBezTo>
                <a:cubicBezTo>
                  <a:pt x="683" y="852"/>
                  <a:pt x="691" y="828"/>
                  <a:pt x="699" y="804"/>
                </a:cubicBezTo>
                <a:cubicBezTo>
                  <a:pt x="701" y="798"/>
                  <a:pt x="699" y="788"/>
                  <a:pt x="705" y="786"/>
                </a:cubicBezTo>
                <a:cubicBezTo>
                  <a:pt x="717" y="782"/>
                  <a:pt x="741" y="774"/>
                  <a:pt x="741" y="774"/>
                </a:cubicBezTo>
                <a:cubicBezTo>
                  <a:pt x="758" y="749"/>
                  <a:pt x="751" y="744"/>
                  <a:pt x="735" y="720"/>
                </a:cubicBezTo>
                <a:cubicBezTo>
                  <a:pt x="739" y="698"/>
                  <a:pt x="739" y="638"/>
                  <a:pt x="723" y="618"/>
                </a:cubicBezTo>
                <a:cubicBezTo>
                  <a:pt x="719" y="613"/>
                  <a:pt x="711" y="614"/>
                  <a:pt x="705" y="612"/>
                </a:cubicBezTo>
                <a:cubicBezTo>
                  <a:pt x="687" y="586"/>
                  <a:pt x="691" y="570"/>
                  <a:pt x="717" y="552"/>
                </a:cubicBezTo>
                <a:cubicBezTo>
                  <a:pt x="732" y="529"/>
                  <a:pt x="750" y="521"/>
                  <a:pt x="717" y="510"/>
                </a:cubicBezTo>
                <a:cubicBezTo>
                  <a:pt x="686" y="531"/>
                  <a:pt x="671" y="515"/>
                  <a:pt x="645" y="498"/>
                </a:cubicBezTo>
                <a:cubicBezTo>
                  <a:pt x="643" y="492"/>
                  <a:pt x="635" y="485"/>
                  <a:pt x="639" y="480"/>
                </a:cubicBezTo>
                <a:cubicBezTo>
                  <a:pt x="647" y="468"/>
                  <a:pt x="675" y="456"/>
                  <a:pt x="675" y="456"/>
                </a:cubicBezTo>
                <a:cubicBezTo>
                  <a:pt x="689" y="436"/>
                  <a:pt x="706" y="425"/>
                  <a:pt x="723" y="408"/>
                </a:cubicBezTo>
                <a:cubicBezTo>
                  <a:pt x="764" y="418"/>
                  <a:pt x="746" y="422"/>
                  <a:pt x="735" y="456"/>
                </a:cubicBezTo>
                <a:cubicBezTo>
                  <a:pt x="750" y="502"/>
                  <a:pt x="756" y="462"/>
                  <a:pt x="771" y="450"/>
                </a:cubicBezTo>
                <a:cubicBezTo>
                  <a:pt x="781" y="442"/>
                  <a:pt x="796" y="439"/>
                  <a:pt x="807" y="432"/>
                </a:cubicBezTo>
                <a:cubicBezTo>
                  <a:pt x="809" y="426"/>
                  <a:pt x="808" y="418"/>
                  <a:pt x="813" y="414"/>
                </a:cubicBezTo>
                <a:cubicBezTo>
                  <a:pt x="823" y="407"/>
                  <a:pt x="849" y="402"/>
                  <a:pt x="849" y="402"/>
                </a:cubicBezTo>
                <a:cubicBezTo>
                  <a:pt x="863" y="404"/>
                  <a:pt x="877" y="409"/>
                  <a:pt x="891" y="408"/>
                </a:cubicBezTo>
                <a:cubicBezTo>
                  <a:pt x="904" y="407"/>
                  <a:pt x="927" y="396"/>
                  <a:pt x="927" y="396"/>
                </a:cubicBezTo>
                <a:cubicBezTo>
                  <a:pt x="970" y="410"/>
                  <a:pt x="935" y="383"/>
                  <a:pt x="963" y="366"/>
                </a:cubicBezTo>
                <a:cubicBezTo>
                  <a:pt x="982" y="354"/>
                  <a:pt x="1018" y="348"/>
                  <a:pt x="1041" y="342"/>
                </a:cubicBezTo>
                <a:cubicBezTo>
                  <a:pt x="1085" y="313"/>
                  <a:pt x="1112" y="268"/>
                  <a:pt x="1155" y="240"/>
                </a:cubicBezTo>
                <a:cubicBezTo>
                  <a:pt x="1183" y="198"/>
                  <a:pt x="1167" y="212"/>
                  <a:pt x="1197" y="192"/>
                </a:cubicBezTo>
                <a:cubicBezTo>
                  <a:pt x="1206" y="164"/>
                  <a:pt x="1211" y="144"/>
                  <a:pt x="1227" y="120"/>
                </a:cubicBezTo>
                <a:cubicBezTo>
                  <a:pt x="1233" y="92"/>
                  <a:pt x="1239" y="65"/>
                  <a:pt x="1239" y="36"/>
                </a:cubicBezTo>
                <a:cubicBezTo>
                  <a:pt x="1239" y="14"/>
                  <a:pt x="1208" y="13"/>
                  <a:pt x="1221" y="0"/>
                </a:cubicBezTo>
                <a:close/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63"/>
          <p:cNvSpPr/>
          <p:nvPr/>
        </p:nvSpPr>
        <p:spPr>
          <a:xfrm>
            <a:off x="5262480" y="2570040"/>
            <a:ext cx="80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g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64"/>
          <p:cNvSpPr/>
          <p:nvPr/>
        </p:nvSpPr>
        <p:spPr>
          <a:xfrm>
            <a:off x="5105520" y="2825640"/>
            <a:ext cx="166680" cy="273240"/>
          </a:xfrm>
          <a:custGeom>
            <a:avLst/>
            <a:gdLst/>
            <a:ahLst/>
            <a:rect l="l" t="t" r="r" b="b"/>
            <a:pathLst>
              <a:path w="110" h="180">
                <a:moveTo>
                  <a:pt x="50" y="0"/>
                </a:moveTo>
                <a:cubicBezTo>
                  <a:pt x="61" y="32"/>
                  <a:pt x="76" y="47"/>
                  <a:pt x="38" y="60"/>
                </a:cubicBezTo>
                <a:cubicBezTo>
                  <a:pt x="20" y="87"/>
                  <a:pt x="0" y="123"/>
                  <a:pt x="44" y="138"/>
                </a:cubicBezTo>
                <a:cubicBezTo>
                  <a:pt x="55" y="154"/>
                  <a:pt x="55" y="160"/>
                  <a:pt x="74" y="168"/>
                </a:cubicBezTo>
                <a:cubicBezTo>
                  <a:pt x="86" y="173"/>
                  <a:pt x="110" y="180"/>
                  <a:pt x="110" y="180"/>
                </a:cubicBezTo>
                <a:cubicBezTo>
                  <a:pt x="104" y="156"/>
                  <a:pt x="96" y="144"/>
                  <a:pt x="104" y="120"/>
                </a:cubicBezTo>
                <a:cubicBezTo>
                  <a:pt x="96" y="97"/>
                  <a:pt x="93" y="36"/>
                  <a:pt x="56" y="54"/>
                </a:cubicBezTo>
              </a:path>
            </a:pathLst>
          </a:custGeom>
          <a:solidFill>
            <a:srgbClr val="cc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65"/>
          <p:cNvSpPr/>
          <p:nvPr/>
        </p:nvSpPr>
        <p:spPr>
          <a:xfrm>
            <a:off x="2889360" y="2197080"/>
            <a:ext cx="1454040" cy="947880"/>
          </a:xfrm>
          <a:custGeom>
            <a:avLst/>
            <a:gdLst/>
            <a:ahLst/>
            <a:rect l="l" t="t" r="r" b="b"/>
            <a:pathLst>
              <a:path w="958" h="625">
                <a:moveTo>
                  <a:pt x="880" y="66"/>
                </a:moveTo>
                <a:cubicBezTo>
                  <a:pt x="847" y="77"/>
                  <a:pt x="830" y="61"/>
                  <a:pt x="802" y="48"/>
                </a:cubicBezTo>
                <a:cubicBezTo>
                  <a:pt x="756" y="28"/>
                  <a:pt x="701" y="19"/>
                  <a:pt x="652" y="12"/>
                </a:cubicBezTo>
                <a:cubicBezTo>
                  <a:pt x="569" y="20"/>
                  <a:pt x="592" y="12"/>
                  <a:pt x="556" y="66"/>
                </a:cubicBezTo>
                <a:cubicBezTo>
                  <a:pt x="519" y="59"/>
                  <a:pt x="517" y="54"/>
                  <a:pt x="508" y="18"/>
                </a:cubicBezTo>
                <a:cubicBezTo>
                  <a:pt x="469" y="31"/>
                  <a:pt x="509" y="24"/>
                  <a:pt x="478" y="6"/>
                </a:cubicBezTo>
                <a:cubicBezTo>
                  <a:pt x="469" y="1"/>
                  <a:pt x="458" y="2"/>
                  <a:pt x="448" y="0"/>
                </a:cubicBezTo>
                <a:cubicBezTo>
                  <a:pt x="405" y="29"/>
                  <a:pt x="426" y="27"/>
                  <a:pt x="388" y="18"/>
                </a:cubicBezTo>
                <a:cubicBezTo>
                  <a:pt x="364" y="24"/>
                  <a:pt x="348" y="28"/>
                  <a:pt x="328" y="42"/>
                </a:cubicBezTo>
                <a:cubicBezTo>
                  <a:pt x="306" y="74"/>
                  <a:pt x="324" y="107"/>
                  <a:pt x="352" y="126"/>
                </a:cubicBezTo>
                <a:cubicBezTo>
                  <a:pt x="372" y="186"/>
                  <a:pt x="341" y="93"/>
                  <a:pt x="364" y="168"/>
                </a:cubicBezTo>
                <a:cubicBezTo>
                  <a:pt x="368" y="180"/>
                  <a:pt x="376" y="204"/>
                  <a:pt x="376" y="204"/>
                </a:cubicBezTo>
                <a:cubicBezTo>
                  <a:pt x="381" y="237"/>
                  <a:pt x="404" y="281"/>
                  <a:pt x="364" y="294"/>
                </a:cubicBezTo>
                <a:cubicBezTo>
                  <a:pt x="315" y="261"/>
                  <a:pt x="342" y="272"/>
                  <a:pt x="280" y="264"/>
                </a:cubicBezTo>
                <a:cubicBezTo>
                  <a:pt x="262" y="237"/>
                  <a:pt x="251" y="236"/>
                  <a:pt x="280" y="216"/>
                </a:cubicBezTo>
                <a:cubicBezTo>
                  <a:pt x="278" y="201"/>
                  <a:pt x="279" y="140"/>
                  <a:pt x="256" y="126"/>
                </a:cubicBezTo>
                <a:cubicBezTo>
                  <a:pt x="245" y="119"/>
                  <a:pt x="220" y="114"/>
                  <a:pt x="220" y="114"/>
                </a:cubicBezTo>
                <a:cubicBezTo>
                  <a:pt x="197" y="122"/>
                  <a:pt x="162" y="117"/>
                  <a:pt x="136" y="120"/>
                </a:cubicBezTo>
                <a:cubicBezTo>
                  <a:pt x="124" y="124"/>
                  <a:pt x="112" y="128"/>
                  <a:pt x="100" y="132"/>
                </a:cubicBezTo>
                <a:cubicBezTo>
                  <a:pt x="94" y="134"/>
                  <a:pt x="82" y="138"/>
                  <a:pt x="82" y="138"/>
                </a:cubicBezTo>
                <a:cubicBezTo>
                  <a:pt x="61" y="170"/>
                  <a:pt x="51" y="211"/>
                  <a:pt x="34" y="246"/>
                </a:cubicBezTo>
                <a:cubicBezTo>
                  <a:pt x="31" y="252"/>
                  <a:pt x="25" y="257"/>
                  <a:pt x="22" y="264"/>
                </a:cubicBezTo>
                <a:cubicBezTo>
                  <a:pt x="17" y="276"/>
                  <a:pt x="10" y="300"/>
                  <a:pt x="10" y="300"/>
                </a:cubicBezTo>
                <a:cubicBezTo>
                  <a:pt x="25" y="345"/>
                  <a:pt x="0" y="289"/>
                  <a:pt x="46" y="324"/>
                </a:cubicBezTo>
                <a:cubicBezTo>
                  <a:pt x="57" y="333"/>
                  <a:pt x="62" y="348"/>
                  <a:pt x="70" y="360"/>
                </a:cubicBezTo>
                <a:cubicBezTo>
                  <a:pt x="74" y="365"/>
                  <a:pt x="82" y="363"/>
                  <a:pt x="88" y="366"/>
                </a:cubicBezTo>
                <a:cubicBezTo>
                  <a:pt x="113" y="379"/>
                  <a:pt x="119" y="395"/>
                  <a:pt x="148" y="402"/>
                </a:cubicBezTo>
                <a:cubicBezTo>
                  <a:pt x="154" y="406"/>
                  <a:pt x="161" y="409"/>
                  <a:pt x="166" y="414"/>
                </a:cubicBezTo>
                <a:cubicBezTo>
                  <a:pt x="175" y="425"/>
                  <a:pt x="176" y="445"/>
                  <a:pt x="190" y="450"/>
                </a:cubicBezTo>
                <a:cubicBezTo>
                  <a:pt x="215" y="458"/>
                  <a:pt x="203" y="452"/>
                  <a:pt x="226" y="468"/>
                </a:cubicBezTo>
                <a:cubicBezTo>
                  <a:pt x="245" y="497"/>
                  <a:pt x="228" y="492"/>
                  <a:pt x="238" y="522"/>
                </a:cubicBezTo>
                <a:cubicBezTo>
                  <a:pt x="242" y="516"/>
                  <a:pt x="249" y="511"/>
                  <a:pt x="250" y="504"/>
                </a:cubicBezTo>
                <a:cubicBezTo>
                  <a:pt x="251" y="498"/>
                  <a:pt x="240" y="490"/>
                  <a:pt x="244" y="486"/>
                </a:cubicBezTo>
                <a:cubicBezTo>
                  <a:pt x="253" y="477"/>
                  <a:pt x="268" y="478"/>
                  <a:pt x="280" y="474"/>
                </a:cubicBezTo>
                <a:cubicBezTo>
                  <a:pt x="286" y="472"/>
                  <a:pt x="298" y="468"/>
                  <a:pt x="298" y="468"/>
                </a:cubicBezTo>
                <a:cubicBezTo>
                  <a:pt x="315" y="519"/>
                  <a:pt x="320" y="539"/>
                  <a:pt x="376" y="558"/>
                </a:cubicBezTo>
                <a:cubicBezTo>
                  <a:pt x="380" y="564"/>
                  <a:pt x="382" y="572"/>
                  <a:pt x="388" y="576"/>
                </a:cubicBezTo>
                <a:cubicBezTo>
                  <a:pt x="399" y="583"/>
                  <a:pt x="424" y="588"/>
                  <a:pt x="424" y="588"/>
                </a:cubicBezTo>
                <a:cubicBezTo>
                  <a:pt x="481" y="550"/>
                  <a:pt x="441" y="564"/>
                  <a:pt x="496" y="582"/>
                </a:cubicBezTo>
                <a:cubicBezTo>
                  <a:pt x="503" y="602"/>
                  <a:pt x="499" y="603"/>
                  <a:pt x="520" y="612"/>
                </a:cubicBezTo>
                <a:cubicBezTo>
                  <a:pt x="532" y="617"/>
                  <a:pt x="556" y="624"/>
                  <a:pt x="556" y="624"/>
                </a:cubicBezTo>
                <a:cubicBezTo>
                  <a:pt x="562" y="622"/>
                  <a:pt x="568" y="618"/>
                  <a:pt x="574" y="618"/>
                </a:cubicBezTo>
                <a:cubicBezTo>
                  <a:pt x="580" y="618"/>
                  <a:pt x="586" y="625"/>
                  <a:pt x="592" y="624"/>
                </a:cubicBezTo>
                <a:cubicBezTo>
                  <a:pt x="605" y="623"/>
                  <a:pt x="628" y="612"/>
                  <a:pt x="628" y="612"/>
                </a:cubicBezTo>
                <a:cubicBezTo>
                  <a:pt x="642" y="614"/>
                  <a:pt x="656" y="619"/>
                  <a:pt x="670" y="618"/>
                </a:cubicBezTo>
                <a:cubicBezTo>
                  <a:pt x="723" y="614"/>
                  <a:pt x="692" y="599"/>
                  <a:pt x="742" y="582"/>
                </a:cubicBezTo>
                <a:cubicBezTo>
                  <a:pt x="754" y="578"/>
                  <a:pt x="778" y="570"/>
                  <a:pt x="778" y="570"/>
                </a:cubicBezTo>
                <a:cubicBezTo>
                  <a:pt x="803" y="578"/>
                  <a:pt x="811" y="572"/>
                  <a:pt x="832" y="558"/>
                </a:cubicBezTo>
                <a:cubicBezTo>
                  <a:pt x="844" y="540"/>
                  <a:pt x="856" y="522"/>
                  <a:pt x="868" y="504"/>
                </a:cubicBezTo>
                <a:cubicBezTo>
                  <a:pt x="872" y="499"/>
                  <a:pt x="880" y="501"/>
                  <a:pt x="886" y="498"/>
                </a:cubicBezTo>
                <a:cubicBezTo>
                  <a:pt x="913" y="483"/>
                  <a:pt x="930" y="465"/>
                  <a:pt x="958" y="456"/>
                </a:cubicBezTo>
                <a:cubicBezTo>
                  <a:pt x="955" y="442"/>
                  <a:pt x="949" y="401"/>
                  <a:pt x="940" y="390"/>
                </a:cubicBezTo>
                <a:cubicBezTo>
                  <a:pt x="936" y="385"/>
                  <a:pt x="928" y="386"/>
                  <a:pt x="922" y="384"/>
                </a:cubicBezTo>
                <a:cubicBezTo>
                  <a:pt x="898" y="348"/>
                  <a:pt x="882" y="345"/>
                  <a:pt x="922" y="318"/>
                </a:cubicBezTo>
                <a:cubicBezTo>
                  <a:pt x="940" y="264"/>
                  <a:pt x="908" y="187"/>
                  <a:pt x="892" y="132"/>
                </a:cubicBezTo>
                <a:cubicBezTo>
                  <a:pt x="888" y="116"/>
                  <a:pt x="876" y="83"/>
                  <a:pt x="862" y="78"/>
                </a:cubicBezTo>
                <a:cubicBezTo>
                  <a:pt x="842" y="71"/>
                  <a:pt x="844" y="66"/>
                  <a:pt x="844" y="78"/>
                </a:cubicBez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66"/>
          <p:cNvSpPr/>
          <p:nvPr/>
        </p:nvSpPr>
        <p:spPr>
          <a:xfrm>
            <a:off x="3003480" y="24969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urid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7"/>
          <p:cNvSpPr/>
          <p:nvPr/>
        </p:nvSpPr>
        <p:spPr>
          <a:xfrm>
            <a:off x="457200" y="48657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States and Empires in 1400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82ED-0D14-4551-86C1-FC3EEB15833E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2"/>
          <p:cNvSpPr/>
          <p:nvPr/>
        </p:nvSpPr>
        <p:spPr>
          <a:xfrm>
            <a:off x="76320" y="241200"/>
            <a:ext cx="4008240" cy="3770280"/>
          </a:xfrm>
          <a:prstGeom prst="wedgeEllipseCallout">
            <a:avLst>
              <a:gd name="adj1" fmla="val -19685"/>
              <a:gd name="adj2" fmla="val 69615"/>
            </a:avLst>
          </a:prstGeom>
          <a:solidFill>
            <a:srgbClr val="ffffff"/>
          </a:solidFill>
          <a:ln w="12600">
            <a:solidFill>
              <a:srgbClr val="0a5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How did states and empires stimulate cultural exchanges in Afroeur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2895480" y="685800"/>
            <a:ext cx="5867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4267080" y="380880"/>
            <a:ext cx="449604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Wars led to destruction but produced new in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Strong governments protected trade routes and stabilized curr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Royal courts were patrons of science, religious institutions, and 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Large states brought together many ethnic, language, and religious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14" descr="mundo_puzzled"/>
          <p:cNvPicPr/>
          <p:nvPr/>
        </p:nvPicPr>
        <p:blipFill>
          <a:blip r:embed="rId1"/>
          <a:stretch/>
        </p:blipFill>
        <p:spPr>
          <a:xfrm>
            <a:off x="380880" y="4809960"/>
            <a:ext cx="2000520" cy="19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3D3A-0AD3-4347-BB8B-579A75016C64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5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Patterns of Interregional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6" descr="earth_anim"/>
          <p:cNvPicPr/>
          <p:nvPr/>
        </p:nvPicPr>
        <p:blipFill>
          <a:blip r:embed="rId1"/>
          <a:stretch/>
        </p:blipFill>
        <p:spPr>
          <a:xfrm>
            <a:off x="32004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7" descr="mundo-front"/>
          <p:cNvPicPr/>
          <p:nvPr/>
        </p:nvPicPr>
        <p:blipFill>
          <a:blip r:embed="rId2"/>
          <a:stretch/>
        </p:blipFill>
        <p:spPr>
          <a:xfrm>
            <a:off x="3200400" y="3048120"/>
            <a:ext cx="1828800" cy="182088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"/>
          <p:cNvSpPr/>
          <p:nvPr/>
        </p:nvSpPr>
        <p:spPr>
          <a:xfrm>
            <a:off x="4456800" y="326088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914400" y="1523880"/>
            <a:ext cx="2665440" cy="1172520"/>
          </a:xfrm>
          <a:prstGeom prst="wedgeEllipseCallout">
            <a:avLst>
              <a:gd name="adj1" fmla="val 36574"/>
              <a:gd name="adj2" fmla="val 66018"/>
            </a:avLst>
          </a:prstGeom>
          <a:solidFill>
            <a:srgbClr val="ffffff"/>
          </a:solidFill>
          <a:ln w="12600">
            <a:solidFill>
              <a:srgbClr val="0a5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6a4"/>
                </a:solidFill>
                <a:latin typeface="Arial"/>
              </a:rPr>
              <a:t>Welcome to </a:t>
            </a:r>
            <a:br>
              <a:rPr sz="2400"/>
            </a:br>
            <a:r>
              <a:rPr b="1" lang="en-US" sz="2400" spc="-1" strike="noStrike">
                <a:solidFill>
                  <a:srgbClr val="0a56a4"/>
                </a:solidFill>
                <a:latin typeface="Arial"/>
              </a:rPr>
              <a:t>Era 1</a:t>
            </a:r>
            <a:r>
              <a:rPr b="0" lang="en-US" sz="2400" spc="-1" strike="noStrike">
                <a:solidFill>
                  <a:srgbClr val="0a56a4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65"/>
          <p:cNvSpPr/>
          <p:nvPr/>
        </p:nvSpPr>
        <p:spPr>
          <a:xfrm>
            <a:off x="4572000" y="1143000"/>
            <a:ext cx="3578400" cy="1692360"/>
          </a:xfrm>
          <a:prstGeom prst="wedgeEllipseCallout">
            <a:avLst>
              <a:gd name="adj1" fmla="val -40648"/>
              <a:gd name="adj2" fmla="val 79495"/>
            </a:avLst>
          </a:prstGeom>
          <a:solidFill>
            <a:srgbClr val="ffffff"/>
          </a:solidFill>
          <a:ln w="12600">
            <a:solidFill>
              <a:srgbClr val="0a5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6a4"/>
                </a:solidFill>
                <a:latin typeface="Arial"/>
              </a:rPr>
              <a:t>Era 1 lasted from 500 CE to 1400 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7"/>
          <p:cNvSpPr/>
          <p:nvPr/>
        </p:nvSpPr>
        <p:spPr>
          <a:xfrm flipH="1">
            <a:off x="8763120" y="5715000"/>
            <a:ext cx="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92"/>
          <p:cNvGrpSpPr/>
          <p:nvPr/>
        </p:nvGrpSpPr>
        <p:grpSpPr>
          <a:xfrm>
            <a:off x="2286000" y="5715000"/>
            <a:ext cx="3659040" cy="457200"/>
            <a:chOff x="2286000" y="5715000"/>
            <a:chExt cx="3659040" cy="457200"/>
          </a:xfrm>
        </p:grpSpPr>
        <p:sp>
          <p:nvSpPr>
            <p:cNvPr id="566" name="Line 27"/>
            <p:cNvSpPr/>
            <p:nvPr/>
          </p:nvSpPr>
          <p:spPr>
            <a:xfrm>
              <a:off x="2286000" y="5715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3"/>
            <p:cNvSpPr/>
            <p:nvPr/>
          </p:nvSpPr>
          <p:spPr>
            <a:xfrm flipH="1">
              <a:off x="5943600" y="571500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77"/>
          <p:cNvGrpSpPr/>
          <p:nvPr/>
        </p:nvGrpSpPr>
        <p:grpSpPr>
          <a:xfrm>
            <a:off x="228600" y="4419720"/>
            <a:ext cx="8915400" cy="2057400"/>
            <a:chOff x="228600" y="4419720"/>
            <a:chExt cx="8915400" cy="2057400"/>
          </a:xfrm>
        </p:grpSpPr>
        <p:sp>
          <p:nvSpPr>
            <p:cNvPr id="569" name="Text Box 61"/>
            <p:cNvSpPr/>
            <p:nvPr/>
          </p:nvSpPr>
          <p:spPr>
            <a:xfrm>
              <a:off x="1066680" y="5715000"/>
              <a:ext cx="1219320" cy="384120"/>
            </a:xfrm>
            <a:prstGeom prst="rect">
              <a:avLst/>
            </a:prstGeom>
            <a:solidFill>
              <a:srgbClr val="a5b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1"/>
            <p:cNvSpPr/>
            <p:nvPr/>
          </p:nvSpPr>
          <p:spPr>
            <a:xfrm>
              <a:off x="5943600" y="44197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00 CE – 1400 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45"/>
            <p:cNvSpPr/>
            <p:nvPr/>
          </p:nvSpPr>
          <p:spPr>
            <a:xfrm rot="5400000">
              <a:off x="7010640" y="4800600"/>
              <a:ext cx="761760" cy="914400"/>
            </a:xfrm>
            <a:custGeom>
              <a:avLst/>
              <a:gdLst>
                <a:gd name="textAreaLeft" fmla="*/ 486720 w 761760"/>
                <a:gd name="textAreaRight" fmla="*/ 762120 w 7617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4"/>
            <p:cNvSpPr/>
            <p:nvPr/>
          </p:nvSpPr>
          <p:spPr>
            <a:xfrm>
              <a:off x="2286000" y="5715000"/>
              <a:ext cx="3657600" cy="380880"/>
            </a:xfrm>
            <a:prstGeom prst="rect">
              <a:avLst/>
            </a:prstGeom>
            <a:solidFill>
              <a:srgbClr val="cb7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7"/>
            <p:cNvSpPr/>
            <p:nvPr/>
          </p:nvSpPr>
          <p:spPr>
            <a:xfrm flipH="1">
              <a:off x="6858000" y="5715000"/>
              <a:ext cx="990720" cy="380880"/>
            </a:xfrm>
            <a:prstGeom prst="rect">
              <a:avLst/>
            </a:prstGeom>
            <a:solidFill>
              <a:srgbClr val="a5b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21"/>
            <p:cNvSpPr/>
            <p:nvPr/>
          </p:nvSpPr>
          <p:spPr>
            <a:xfrm>
              <a:off x="5943600" y="5715000"/>
              <a:ext cx="990720" cy="3808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40"/>
            <p:cNvSpPr/>
            <p:nvPr/>
          </p:nvSpPr>
          <p:spPr>
            <a:xfrm rot="16200000">
              <a:off x="342720" y="544788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a5b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69"/>
            <p:cNvSpPr/>
            <p:nvPr/>
          </p:nvSpPr>
          <p:spPr>
            <a:xfrm>
              <a:off x="8229600" y="617220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700 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70"/>
            <p:cNvSpPr/>
            <p:nvPr/>
          </p:nvSpPr>
          <p:spPr>
            <a:xfrm>
              <a:off x="1981080" y="61722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0,000 B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72"/>
            <p:cNvSpPr/>
            <p:nvPr/>
          </p:nvSpPr>
          <p:spPr>
            <a:xfrm>
              <a:off x="5486400" y="61722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000 B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74"/>
            <p:cNvSpPr/>
            <p:nvPr/>
          </p:nvSpPr>
          <p:spPr>
            <a:xfrm flipH="1">
              <a:off x="8763120" y="571500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>
              <a:off x="2286000" y="5715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76"/>
            <p:cNvSpPr/>
            <p:nvPr/>
          </p:nvSpPr>
          <p:spPr>
            <a:xfrm flipH="1">
              <a:off x="5943600" y="5715000"/>
              <a:ext cx="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94"/>
          <p:cNvGrpSpPr/>
          <p:nvPr/>
        </p:nvGrpSpPr>
        <p:grpSpPr>
          <a:xfrm>
            <a:off x="228600" y="4876920"/>
            <a:ext cx="8535960" cy="1523880"/>
            <a:chOff x="228600" y="4876920"/>
            <a:chExt cx="8535960" cy="1523880"/>
          </a:xfrm>
        </p:grpSpPr>
        <p:sp>
          <p:nvSpPr>
            <p:cNvPr id="583" name="Rectangle 8"/>
            <p:cNvSpPr/>
            <p:nvPr/>
          </p:nvSpPr>
          <p:spPr>
            <a:xfrm>
              <a:off x="7772400" y="5715000"/>
              <a:ext cx="990720" cy="380880"/>
            </a:xfrm>
            <a:prstGeom prst="rect">
              <a:avLst/>
            </a:prstGeom>
            <a:solidFill>
              <a:srgbClr val="cb7d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g Era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78"/>
            <p:cNvGrpSpPr/>
            <p:nvPr/>
          </p:nvGrpSpPr>
          <p:grpSpPr>
            <a:xfrm>
              <a:off x="228600" y="4876920"/>
              <a:ext cx="8535960" cy="1523880"/>
              <a:chOff x="228600" y="4876920"/>
              <a:chExt cx="8535960" cy="1523880"/>
            </a:xfrm>
          </p:grpSpPr>
          <p:sp>
            <p:nvSpPr>
              <p:cNvPr id="585" name="Text Box 79"/>
              <p:cNvSpPr/>
              <p:nvPr/>
            </p:nvSpPr>
            <p:spPr>
              <a:xfrm>
                <a:off x="1066680" y="5715000"/>
                <a:ext cx="1219320" cy="384120"/>
              </a:xfrm>
              <a:prstGeom prst="rect">
                <a:avLst/>
              </a:prstGeom>
              <a:solidFill>
                <a:srgbClr val="a5b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81"/>
              <p:cNvSpPr/>
              <p:nvPr/>
            </p:nvSpPr>
            <p:spPr>
              <a:xfrm rot="5400000">
                <a:off x="7010640" y="4800600"/>
                <a:ext cx="761760" cy="914400"/>
              </a:xfrm>
              <a:custGeom>
                <a:avLst/>
                <a:gdLst>
                  <a:gd name="textAreaLeft" fmla="*/ 486720 w 761760"/>
                  <a:gd name="textAreaRight" fmla="*/ 762120 w 76176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80804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82"/>
              <p:cNvSpPr/>
              <p:nvPr/>
            </p:nvSpPr>
            <p:spPr>
              <a:xfrm>
                <a:off x="2286000" y="5715000"/>
                <a:ext cx="3657600" cy="380880"/>
              </a:xfrm>
              <a:prstGeom prst="rect">
                <a:avLst/>
              </a:prstGeom>
              <a:solidFill>
                <a:srgbClr val="cb7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83"/>
              <p:cNvSpPr/>
              <p:nvPr/>
            </p:nvSpPr>
            <p:spPr>
              <a:xfrm flipH="1">
                <a:off x="6858000" y="5715000"/>
                <a:ext cx="990720" cy="380880"/>
              </a:xfrm>
              <a:prstGeom prst="rect">
                <a:avLst/>
              </a:prstGeom>
              <a:solidFill>
                <a:srgbClr val="a5b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g Era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84"/>
              <p:cNvSpPr/>
              <p:nvPr/>
            </p:nvSpPr>
            <p:spPr>
              <a:xfrm>
                <a:off x="5943600" y="5715000"/>
                <a:ext cx="990720" cy="38088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85"/>
              <p:cNvSpPr/>
              <p:nvPr/>
            </p:nvSpPr>
            <p:spPr>
              <a:xfrm rot="16200000">
                <a:off x="342720" y="5447880"/>
                <a:ext cx="6094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a5b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87"/>
              <p:cNvSpPr/>
              <p:nvPr/>
            </p:nvSpPr>
            <p:spPr>
              <a:xfrm>
                <a:off x="1981080" y="617220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10,000 B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88"/>
              <p:cNvSpPr/>
              <p:nvPr/>
            </p:nvSpPr>
            <p:spPr>
              <a:xfrm>
                <a:off x="5486400" y="617220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1000 B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89"/>
              <p:cNvSpPr/>
              <p:nvPr/>
            </p:nvSpPr>
            <p:spPr>
              <a:xfrm flipH="1">
                <a:off x="8763120" y="5715000"/>
                <a:ext cx="14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90"/>
              <p:cNvSpPr/>
              <p:nvPr/>
            </p:nvSpPr>
            <p:spPr>
              <a:xfrm>
                <a:off x="2286000" y="5715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91"/>
              <p:cNvSpPr/>
              <p:nvPr/>
            </p:nvSpPr>
            <p:spPr>
              <a:xfrm flipH="1">
                <a:off x="5943600" y="5715000"/>
                <a:ext cx="14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D202-701A-4662-AFE2-47512FE7969E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84" descr="slide0042_image013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83"/>
          <p:cNvSpPr/>
          <p:nvPr/>
        </p:nvSpPr>
        <p:spPr>
          <a:xfrm>
            <a:off x="380880" y="5257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During Era One, many connections were established among regions. These formed </a:t>
            </a:r>
            <a:r>
              <a:rPr b="1" i="1" lang="en-US" sz="2800" spc="-1" strike="noStrike">
                <a:solidFill>
                  <a:srgbClr val="cd7c11"/>
                </a:solidFill>
                <a:latin typeface="Verdana"/>
              </a:rPr>
              <a:t>interregional</a:t>
            </a: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 patterns of 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49"/>
          <p:cNvSpPr/>
          <p:nvPr/>
        </p:nvSpPr>
        <p:spPr>
          <a:xfrm rot="5838600">
            <a:off x="2216160" y="2187360"/>
            <a:ext cx="152280" cy="457200"/>
          </a:xfrm>
          <a:custGeom>
            <a:avLst/>
            <a:gdLst>
              <a:gd name="textAreaLeft" fmla="*/ 20160 w 152280"/>
              <a:gd name="textAreaRight" fmla="*/ 132120 w 1522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21"/>
          <p:cNvGrpSpPr/>
          <p:nvPr/>
        </p:nvGrpSpPr>
        <p:grpSpPr>
          <a:xfrm>
            <a:off x="285480" y="1636200"/>
            <a:ext cx="4665600" cy="2841480"/>
            <a:chOff x="285480" y="1636200"/>
            <a:chExt cx="4665600" cy="2841480"/>
          </a:xfrm>
        </p:grpSpPr>
        <p:sp>
          <p:nvSpPr>
            <p:cNvPr id="601" name="AutoShape 39"/>
            <p:cNvSpPr/>
            <p:nvPr/>
          </p:nvSpPr>
          <p:spPr>
            <a:xfrm rot="8782200">
              <a:off x="1603080" y="2350800"/>
              <a:ext cx="328680" cy="934920"/>
            </a:xfrm>
            <a:custGeom>
              <a:avLst/>
              <a:gdLst>
                <a:gd name="textAreaLeft" fmla="*/ 43920 w 328680"/>
                <a:gd name="textAreaRight" fmla="*/ 284760 w 328680"/>
                <a:gd name="textAreaTop" fmla="*/ 163440 h 934920"/>
                <a:gd name="textAreaBottom" fmla="*/ 67788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40"/>
            <p:cNvSpPr/>
            <p:nvPr/>
          </p:nvSpPr>
          <p:spPr>
            <a:xfrm flipV="1" rot="9272400">
              <a:off x="2497680" y="3339720"/>
              <a:ext cx="176040" cy="1155600"/>
            </a:xfrm>
            <a:custGeom>
              <a:avLst/>
              <a:gdLst>
                <a:gd name="textAreaLeft" fmla="*/ 23400 w 176040"/>
                <a:gd name="textAreaRight" fmla="*/ 152640 w 176040"/>
                <a:gd name="textAreaTop" fmla="*/ 201960 h 1155600"/>
                <a:gd name="textAreaBottom" fmla="*/ 837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43"/>
            <p:cNvSpPr/>
            <p:nvPr/>
          </p:nvSpPr>
          <p:spPr>
            <a:xfrm rot="1684200">
              <a:off x="4535280" y="1833480"/>
              <a:ext cx="280800" cy="642960"/>
            </a:xfrm>
            <a:custGeom>
              <a:avLst/>
              <a:gdLst>
                <a:gd name="textAreaLeft" fmla="*/ 37440 w 280800"/>
                <a:gd name="textAreaRight" fmla="*/ 243360 w 280800"/>
                <a:gd name="textAreaTop" fmla="*/ 112320 h 642960"/>
                <a:gd name="textAreaBottom" fmla="*/ 4662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52"/>
            <p:cNvSpPr/>
            <p:nvPr/>
          </p:nvSpPr>
          <p:spPr>
            <a:xfrm rot="1684200">
              <a:off x="4346280" y="2503440"/>
              <a:ext cx="207720" cy="642960"/>
            </a:xfrm>
            <a:custGeom>
              <a:avLst/>
              <a:gdLst>
                <a:gd name="textAreaLeft" fmla="*/ 27720 w 207720"/>
                <a:gd name="textAreaRight" fmla="*/ 180000 w 207720"/>
                <a:gd name="textAreaTop" fmla="*/ 112320 h 642960"/>
                <a:gd name="textAreaBottom" fmla="*/ 4662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41"/>
            <p:cNvSpPr/>
            <p:nvPr/>
          </p:nvSpPr>
          <p:spPr>
            <a:xfrm flipV="1" rot="20151600">
              <a:off x="1904760" y="2208960"/>
              <a:ext cx="382320" cy="939960"/>
            </a:xfrm>
            <a:custGeom>
              <a:avLst/>
              <a:gdLst>
                <a:gd name="textAreaLeft" fmla="*/ 51120 w 382320"/>
                <a:gd name="textAreaRight" fmla="*/ 331200 w 382320"/>
                <a:gd name="textAreaTop" fmla="*/ 164160 h 939960"/>
                <a:gd name="textAreaBottom" fmla="*/ 6811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4"/>
            <p:cNvSpPr/>
            <p:nvPr/>
          </p:nvSpPr>
          <p:spPr>
            <a:xfrm rot="12114000">
              <a:off x="4220640" y="1665000"/>
              <a:ext cx="281160" cy="642960"/>
            </a:xfrm>
            <a:custGeom>
              <a:avLst/>
              <a:gdLst>
                <a:gd name="textAreaLeft" fmla="*/ 37440 w 281160"/>
                <a:gd name="textAreaRight" fmla="*/ 243720 w 281160"/>
                <a:gd name="textAreaTop" fmla="*/ 112320 h 642960"/>
                <a:gd name="textAreaBottom" fmla="*/ 4662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50"/>
            <p:cNvSpPr/>
            <p:nvPr/>
          </p:nvSpPr>
          <p:spPr>
            <a:xfrm rot="16269000">
              <a:off x="2279160" y="1828080"/>
              <a:ext cx="211320" cy="633240"/>
            </a:xfrm>
            <a:custGeom>
              <a:avLst/>
              <a:gdLst>
                <a:gd name="textAreaLeft" fmla="*/ 28080 w 211320"/>
                <a:gd name="textAreaRight" fmla="*/ 183240 w 211320"/>
                <a:gd name="textAreaTop" fmla="*/ 110880 h 633240"/>
                <a:gd name="textAreaBottom" fmla="*/ 459360 h 63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02"/>
            <p:cNvSpPr/>
            <p:nvPr/>
          </p:nvSpPr>
          <p:spPr>
            <a:xfrm flipV="1" rot="5783400">
              <a:off x="1028520" y="3161520"/>
              <a:ext cx="457200" cy="190476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333000 h 1904760"/>
                <a:gd name="textAreaBottom" fmla="*/ 138060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04"/>
            <p:cNvSpPr/>
            <p:nvPr/>
          </p:nvSpPr>
          <p:spPr>
            <a:xfrm flipH="1" rot="9272400">
              <a:off x="2684160" y="3139560"/>
              <a:ext cx="304920" cy="120816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211320 h 1208160"/>
                <a:gd name="textAreaBottom" fmla="*/ 875880 h 12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35"/>
          <p:cNvSpPr/>
          <p:nvPr/>
        </p:nvSpPr>
        <p:spPr>
          <a:xfrm rot="15786000">
            <a:off x="6003000" y="255960"/>
            <a:ext cx="592200" cy="2670120"/>
          </a:xfrm>
          <a:custGeom>
            <a:avLst/>
            <a:gdLst>
              <a:gd name="textAreaLeft" fmla="*/ 79200 w 592200"/>
              <a:gd name="textAreaRight" fmla="*/ 513000 w 592200"/>
              <a:gd name="textAreaTop" fmla="*/ 467280 h 2670120"/>
              <a:gd name="textAreaBottom" fmla="*/ 1936080 h 267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6"/>
          <p:cNvSpPr/>
          <p:nvPr/>
        </p:nvSpPr>
        <p:spPr>
          <a:xfrm rot="17331000">
            <a:off x="5514840" y="1655280"/>
            <a:ext cx="265320" cy="1487520"/>
          </a:xfrm>
          <a:custGeom>
            <a:avLst/>
            <a:gdLst>
              <a:gd name="textAreaLeft" fmla="*/ 35280 w 265320"/>
              <a:gd name="textAreaRight" fmla="*/ 230040 w 265320"/>
              <a:gd name="textAreaTop" fmla="*/ 260280 h 1487520"/>
              <a:gd name="textAreaBottom" fmla="*/ 1078560 h 14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6"/>
          <p:cNvSpPr/>
          <p:nvPr/>
        </p:nvSpPr>
        <p:spPr>
          <a:xfrm flipV="1" rot="14817000">
            <a:off x="5264280" y="2346480"/>
            <a:ext cx="515880" cy="1438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51280 h 1438200"/>
              <a:gd name="textAreaBottom" fmla="*/ 104256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87"/>
          <p:cNvSpPr/>
          <p:nvPr/>
        </p:nvSpPr>
        <p:spPr>
          <a:xfrm flipH="1" flipV="1" rot="1579200">
            <a:off x="6631920" y="2197440"/>
            <a:ext cx="522360" cy="1067400"/>
          </a:xfrm>
          <a:custGeom>
            <a:avLst/>
            <a:gdLst>
              <a:gd name="textAreaLeft" fmla="*/ 69840 w 522360"/>
              <a:gd name="textAreaRight" fmla="*/ 452520 w 522360"/>
              <a:gd name="textAreaTop" fmla="*/ 186840 h 1067400"/>
              <a:gd name="textAreaBottom" fmla="*/ 77400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4"/>
          <p:cNvSpPr/>
          <p:nvPr/>
        </p:nvSpPr>
        <p:spPr>
          <a:xfrm rot="1579200">
            <a:off x="6936840" y="2503440"/>
            <a:ext cx="522360" cy="1066680"/>
          </a:xfrm>
          <a:custGeom>
            <a:avLst/>
            <a:gdLst>
              <a:gd name="textAreaLeft" fmla="*/ 69840 w 522360"/>
              <a:gd name="textAreaRight" fmla="*/ 452520 w 5223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7"/>
          <p:cNvSpPr/>
          <p:nvPr/>
        </p:nvSpPr>
        <p:spPr>
          <a:xfrm rot="5269800">
            <a:off x="5784120" y="762120"/>
            <a:ext cx="576360" cy="2522520"/>
          </a:xfrm>
          <a:custGeom>
            <a:avLst/>
            <a:gdLst>
              <a:gd name="textAreaLeft" fmla="*/ 77040 w 576360"/>
              <a:gd name="textAreaRight" fmla="*/ 499320 w 576360"/>
              <a:gd name="textAreaTop" fmla="*/ 436320 h 2522520"/>
              <a:gd name="textAreaBottom" fmla="*/ 1855080 h 25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72" stAng="-5400000" swAng="5400000"/>
                <a:lnTo>
                  <a:pt x="21600" y="12149"/>
                </a:lnTo>
                <a:arcTo wR="21600" hR="7472" stAng="0" swAng="2662515"/>
                <a:lnTo>
                  <a:pt x="7200" y="21173"/>
                </a:lnTo>
                <a:lnTo>
                  <a:pt x="0" y="17283"/>
                </a:lnTo>
                <a:lnTo>
                  <a:pt x="7200" y="12538"/>
                </a:lnTo>
                <a:lnTo>
                  <a:pt x="7200" y="14517"/>
                </a:lnTo>
                <a:arcTo wR="21600" hR="7472" stAng="2662515" swAng="-2272329"/>
                <a:lnTo>
                  <a:pt x="20515" y="9811"/>
                </a:lnTo>
                <a:arcTo wR="21600" hR="7472" stAng="-390186" swAng="-5009814"/>
                <a:close/>
              </a:path>
              <a:path fill="darkenLess" w="21600" h="21600">
                <a:moveTo>
                  <a:pt x="0" y="0"/>
                </a:moveTo>
                <a:arcTo wR="21600" hR="7472" stAng="-5400000" swAng="5400000"/>
                <a:lnTo>
                  <a:pt x="21600" y="12149"/>
                </a:lnTo>
                <a:arcTo wR="21600" hR="7472" stAng="0" swAng="-390186"/>
                <a:lnTo>
                  <a:pt x="20515" y="9811"/>
                </a:lnTo>
                <a:arcTo wR="21600" hR="7472" stAng="-390186" swAng="-5009814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47"/>
          <p:cNvSpPr/>
          <p:nvPr/>
        </p:nvSpPr>
        <p:spPr>
          <a:xfrm rot="6160800">
            <a:off x="5225040" y="1938600"/>
            <a:ext cx="330120" cy="1436760"/>
          </a:xfrm>
          <a:custGeom>
            <a:avLst/>
            <a:gdLst>
              <a:gd name="textAreaLeft" fmla="*/ 43920 w 330120"/>
              <a:gd name="textAreaRight" fmla="*/ 286200 w 330120"/>
              <a:gd name="textAreaTop" fmla="*/ 251280 h 1436760"/>
              <a:gd name="textAreaBottom" fmla="*/ 1041840 h 14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53"/>
          <p:cNvSpPr/>
          <p:nvPr/>
        </p:nvSpPr>
        <p:spPr>
          <a:xfrm rot="12114000">
            <a:off x="4049280" y="2420640"/>
            <a:ext cx="208080" cy="642960"/>
          </a:xfrm>
          <a:custGeom>
            <a:avLst/>
            <a:gdLst>
              <a:gd name="textAreaLeft" fmla="*/ 27720 w 208080"/>
              <a:gd name="textAreaRight" fmla="*/ 180360 w 208080"/>
              <a:gd name="textAreaTop" fmla="*/ 112320 h 642960"/>
              <a:gd name="textAreaBottom" fmla="*/ 466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8"/>
          <p:cNvSpPr/>
          <p:nvPr/>
        </p:nvSpPr>
        <p:spPr>
          <a:xfrm flipV="1" rot="4017000">
            <a:off x="5577840" y="2644920"/>
            <a:ext cx="515880" cy="1438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51280 h 1438200"/>
              <a:gd name="textAreaBottom" fmla="*/ 104256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00"/>
          <p:cNvSpPr/>
          <p:nvPr/>
        </p:nvSpPr>
        <p:spPr>
          <a:xfrm rot="14754000">
            <a:off x="7898040" y="2303640"/>
            <a:ext cx="451080" cy="1154160"/>
          </a:xfrm>
          <a:custGeom>
            <a:avLst/>
            <a:gdLst>
              <a:gd name="textAreaLeft" fmla="*/ 60480 w 451080"/>
              <a:gd name="textAreaRight" fmla="*/ 390600 w 451080"/>
              <a:gd name="textAreaTop" fmla="*/ 201960 h 1154160"/>
              <a:gd name="textAreaBottom" fmla="*/ 837000 h 11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01"/>
          <p:cNvSpPr/>
          <p:nvPr/>
        </p:nvSpPr>
        <p:spPr>
          <a:xfrm rot="317400">
            <a:off x="8384760" y="2808360"/>
            <a:ext cx="536760" cy="1585800"/>
          </a:xfrm>
          <a:custGeom>
            <a:avLst/>
            <a:gdLst>
              <a:gd name="textAreaLeft" fmla="*/ 71640 w 536760"/>
              <a:gd name="textAreaRight" fmla="*/ 465120 w 536760"/>
              <a:gd name="textAreaTop" fmla="*/ 277560 h 1585800"/>
              <a:gd name="textAreaBottom" fmla="*/ 114984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0"/>
          <p:cNvSpPr/>
          <p:nvPr/>
        </p:nvSpPr>
        <p:spPr>
          <a:xfrm rot="1684200">
            <a:off x="4343040" y="2514240"/>
            <a:ext cx="208080" cy="642960"/>
          </a:xfrm>
          <a:custGeom>
            <a:avLst/>
            <a:gdLst>
              <a:gd name="textAreaLeft" fmla="*/ 27720 w 208080"/>
              <a:gd name="textAreaRight" fmla="*/ 180360 w 208080"/>
              <a:gd name="textAreaTop" fmla="*/ 112320 h 642960"/>
              <a:gd name="textAreaBottom" fmla="*/ 466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09"/>
          <p:cNvSpPr/>
          <p:nvPr/>
        </p:nvSpPr>
        <p:spPr>
          <a:xfrm rot="1684200">
            <a:off x="4532040" y="1844640"/>
            <a:ext cx="280800" cy="642960"/>
          </a:xfrm>
          <a:custGeom>
            <a:avLst/>
            <a:gdLst>
              <a:gd name="textAreaLeft" fmla="*/ 37440 w 280800"/>
              <a:gd name="textAreaRight" fmla="*/ 243360 w 280800"/>
              <a:gd name="textAreaTop" fmla="*/ 112320 h 642960"/>
              <a:gd name="textAreaBottom" fmla="*/ 466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2"/>
          <p:cNvSpPr/>
          <p:nvPr/>
        </p:nvSpPr>
        <p:spPr>
          <a:xfrm rot="12114000">
            <a:off x="4218120" y="1676160"/>
            <a:ext cx="280800" cy="642960"/>
          </a:xfrm>
          <a:custGeom>
            <a:avLst/>
            <a:gdLst>
              <a:gd name="textAreaLeft" fmla="*/ 37440 w 280800"/>
              <a:gd name="textAreaRight" fmla="*/ 243360 w 280800"/>
              <a:gd name="textAreaTop" fmla="*/ 112320 h 642960"/>
              <a:gd name="textAreaBottom" fmla="*/ 466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06"/>
          <p:cNvSpPr/>
          <p:nvPr/>
        </p:nvSpPr>
        <p:spPr>
          <a:xfrm rot="5838600">
            <a:off x="2212920" y="2198520"/>
            <a:ext cx="152280" cy="457200"/>
          </a:xfrm>
          <a:custGeom>
            <a:avLst/>
            <a:gdLst>
              <a:gd name="textAreaLeft" fmla="*/ 20160 w 152280"/>
              <a:gd name="textAreaRight" fmla="*/ 132120 w 1522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07"/>
          <p:cNvSpPr/>
          <p:nvPr/>
        </p:nvSpPr>
        <p:spPr>
          <a:xfrm rot="8782200">
            <a:off x="1599840" y="2361960"/>
            <a:ext cx="328680" cy="934920"/>
          </a:xfrm>
          <a:custGeom>
            <a:avLst/>
            <a:gdLst>
              <a:gd name="textAreaLeft" fmla="*/ 43920 w 328680"/>
              <a:gd name="textAreaRight" fmla="*/ 284760 w 32868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08"/>
          <p:cNvSpPr/>
          <p:nvPr/>
        </p:nvSpPr>
        <p:spPr>
          <a:xfrm flipV="1" rot="9272400">
            <a:off x="2495880" y="3350520"/>
            <a:ext cx="176400" cy="1155600"/>
          </a:xfrm>
          <a:custGeom>
            <a:avLst/>
            <a:gdLst>
              <a:gd name="textAreaLeft" fmla="*/ 23400 w 176400"/>
              <a:gd name="textAreaRight" fmla="*/ 153000 w 176400"/>
              <a:gd name="textAreaTop" fmla="*/ 201960 h 1155600"/>
              <a:gd name="textAreaBottom" fmla="*/ 83772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11"/>
          <p:cNvSpPr/>
          <p:nvPr/>
        </p:nvSpPr>
        <p:spPr>
          <a:xfrm flipV="1" rot="20151600">
            <a:off x="1901520" y="2220120"/>
            <a:ext cx="382680" cy="939600"/>
          </a:xfrm>
          <a:custGeom>
            <a:avLst/>
            <a:gdLst>
              <a:gd name="textAreaLeft" fmla="*/ 51120 w 382680"/>
              <a:gd name="textAreaRight" fmla="*/ 331560 w 382680"/>
              <a:gd name="textAreaTop" fmla="*/ 164160 h 939600"/>
              <a:gd name="textAreaBottom" fmla="*/ 68112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3"/>
          <p:cNvSpPr/>
          <p:nvPr/>
        </p:nvSpPr>
        <p:spPr>
          <a:xfrm rot="16269000">
            <a:off x="2276280" y="1839240"/>
            <a:ext cx="211320" cy="633600"/>
          </a:xfrm>
          <a:custGeom>
            <a:avLst/>
            <a:gdLst>
              <a:gd name="textAreaLeft" fmla="*/ 28080 w 211320"/>
              <a:gd name="textAreaRight" fmla="*/ 183240 w 211320"/>
              <a:gd name="textAreaTop" fmla="*/ 110880 h 633600"/>
              <a:gd name="textAreaBottom" fmla="*/ 4593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14"/>
          <p:cNvSpPr/>
          <p:nvPr/>
        </p:nvSpPr>
        <p:spPr>
          <a:xfrm flipV="1" rot="5783400">
            <a:off x="1025640" y="3172680"/>
            <a:ext cx="457200" cy="1905120"/>
          </a:xfrm>
          <a:custGeom>
            <a:avLst/>
            <a:gdLst>
              <a:gd name="textAreaLeft" fmla="*/ 61200 w 457200"/>
              <a:gd name="textAreaRight" fmla="*/ 396000 w 457200"/>
              <a:gd name="textAreaTop" fmla="*/ 333720 h 1905120"/>
              <a:gd name="textAreaBottom" fmla="*/ 13816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15"/>
          <p:cNvSpPr/>
          <p:nvPr/>
        </p:nvSpPr>
        <p:spPr>
          <a:xfrm flipH="1" rot="9272400">
            <a:off x="2680920" y="3150720"/>
            <a:ext cx="304920" cy="1208160"/>
          </a:xfrm>
          <a:custGeom>
            <a:avLst/>
            <a:gdLst>
              <a:gd name="textAreaLeft" fmla="*/ 40680 w 304920"/>
              <a:gd name="textAreaRight" fmla="*/ 264240 w 304920"/>
              <a:gd name="textAreaTop" fmla="*/ 211320 h 1208160"/>
              <a:gd name="textAreaBottom" fmla="*/ 875880 h 12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2"/>
          <p:cNvSpPr/>
          <p:nvPr/>
        </p:nvSpPr>
        <p:spPr>
          <a:xfrm>
            <a:off x="533520" y="4800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icrosoft®Encarta®Reference Library 2002. ©1993-2001 Microsoft Corporatio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0" y="504360"/>
            <a:ext cx="6222960" cy="58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t the start of Era 1, ideas religions, trade goods, and inventions were spreading from their place of origin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By the end of Era 1, they had spread across Afroeurasia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Cultural exchange” </a:t>
            </a:r>
            <a:endParaRPr b="0" lang="en-US" sz="3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2BE5-48E1-4E13-9530-A69A0C9E16E6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962520" y="49528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9"/>
          <p:cNvSpPr/>
          <p:nvPr/>
        </p:nvSpPr>
        <p:spPr>
          <a:xfrm>
            <a:off x="2962440" y="1171440"/>
            <a:ext cx="58035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15" descr="earth_anim"/>
          <p:cNvPicPr/>
          <p:nvPr/>
        </p:nvPicPr>
        <p:blipFill>
          <a:blip r:embed="rId1"/>
          <a:stretch/>
        </p:blipFill>
        <p:spPr>
          <a:xfrm rot="20700000">
            <a:off x="7110000" y="37814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1" descr="book"/>
          <p:cNvPicPr/>
          <p:nvPr/>
        </p:nvPicPr>
        <p:blipFill>
          <a:blip r:embed="rId2"/>
          <a:stretch/>
        </p:blipFill>
        <p:spPr>
          <a:xfrm rot="20565600">
            <a:off x="6571800" y="53604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9" descr=""/>
          <p:cNvPicPr/>
          <p:nvPr/>
        </p:nvPicPr>
        <p:blipFill>
          <a:blip r:embed="rId3"/>
          <a:stretch/>
        </p:blipFill>
        <p:spPr>
          <a:xfrm>
            <a:off x="7907400" y="504720"/>
            <a:ext cx="852480" cy="9129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0" descr=""/>
          <p:cNvPicPr/>
          <p:nvPr/>
        </p:nvPicPr>
        <p:blipFill>
          <a:blip r:embed="rId4"/>
          <a:stretch/>
        </p:blipFill>
        <p:spPr>
          <a:xfrm>
            <a:off x="7389720" y="1682640"/>
            <a:ext cx="990720" cy="890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1" descr=""/>
          <p:cNvPicPr/>
          <p:nvPr/>
        </p:nvPicPr>
        <p:blipFill>
          <a:blip r:embed="rId5"/>
          <a:stretch/>
        </p:blipFill>
        <p:spPr>
          <a:xfrm>
            <a:off x="6323040" y="1644480"/>
            <a:ext cx="907920" cy="91440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10"/>
          <p:cNvSpPr/>
          <p:nvPr/>
        </p:nvSpPr>
        <p:spPr>
          <a:xfrm>
            <a:off x="5780160" y="122400"/>
            <a:ext cx="3429000" cy="3043080"/>
          </a:xfrm>
          <a:prstGeom prst="cloudCallout">
            <a:avLst>
              <a:gd name="adj1" fmla="val 555"/>
              <a:gd name="adj2" fmla="val 77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EB88-2DF2-44A3-AEA0-A1389DD53B1A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8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812880" cy="8384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7" descr=""/>
          <p:cNvPicPr/>
          <p:nvPr/>
        </p:nvPicPr>
        <p:blipFill>
          <a:blip r:embed="rId2"/>
          <a:stretch/>
        </p:blipFill>
        <p:spPr>
          <a:xfrm>
            <a:off x="2438280" y="5105520"/>
            <a:ext cx="990720" cy="771480"/>
          </a:xfrm>
          <a:prstGeom prst="rect">
            <a:avLst/>
          </a:prstGeom>
          <a:ln w="0">
            <a:noFill/>
          </a:ln>
        </p:spPr>
      </p:pic>
      <p:grpSp>
        <p:nvGrpSpPr>
          <p:cNvPr id="645" name="Group 136"/>
          <p:cNvGrpSpPr/>
          <p:nvPr/>
        </p:nvGrpSpPr>
        <p:grpSpPr>
          <a:xfrm>
            <a:off x="717480" y="3092400"/>
            <a:ext cx="3126960" cy="460080"/>
            <a:chOff x="717480" y="3092400"/>
            <a:chExt cx="3126960" cy="460080"/>
          </a:xfrm>
        </p:grpSpPr>
        <p:grpSp>
          <p:nvGrpSpPr>
            <p:cNvPr id="646" name="Group 114"/>
            <p:cNvGrpSpPr/>
            <p:nvPr/>
          </p:nvGrpSpPr>
          <p:grpSpPr>
            <a:xfrm>
              <a:off x="717480" y="3092400"/>
              <a:ext cx="1848960" cy="460080"/>
              <a:chOff x="717480" y="3092400"/>
              <a:chExt cx="1848960" cy="460080"/>
            </a:xfrm>
          </p:grpSpPr>
          <p:grpSp>
            <p:nvGrpSpPr>
              <p:cNvPr id="647" name="Group 81"/>
              <p:cNvGrpSpPr/>
              <p:nvPr/>
            </p:nvGrpSpPr>
            <p:grpSpPr>
              <a:xfrm>
                <a:off x="717480" y="3092400"/>
                <a:ext cx="574200" cy="460080"/>
                <a:chOff x="717480" y="3092400"/>
                <a:chExt cx="574200" cy="460080"/>
              </a:xfrm>
            </p:grpSpPr>
            <p:sp>
              <p:nvSpPr>
                <p:cNvPr id="648" name="Freeform 82"/>
                <p:cNvSpPr/>
                <p:nvPr/>
              </p:nvSpPr>
              <p:spPr>
                <a:xfrm>
                  <a:off x="717480" y="3092400"/>
                  <a:ext cx="574200" cy="460080"/>
                </a:xfrm>
                <a:custGeom>
                  <a:avLst/>
                  <a:gdLst/>
                  <a:ahLst/>
                  <a:rect l="l" t="t" r="r" b="b"/>
                  <a:pathLst>
                    <a:path w="1975" h="1576">
                      <a:moveTo>
                        <a:pt x="711" y="0"/>
                      </a:moveTo>
                      <a:lnTo>
                        <a:pt x="871" y="0"/>
                      </a:lnTo>
                      <a:lnTo>
                        <a:pt x="989" y="101"/>
                      </a:lnTo>
                      <a:lnTo>
                        <a:pt x="1105" y="0"/>
                      </a:lnTo>
                      <a:lnTo>
                        <a:pt x="1264" y="0"/>
                      </a:lnTo>
                      <a:lnTo>
                        <a:pt x="1093" y="193"/>
                      </a:lnTo>
                      <a:lnTo>
                        <a:pt x="1342" y="402"/>
                      </a:lnTo>
                      <a:lnTo>
                        <a:pt x="1813" y="0"/>
                      </a:lnTo>
                      <a:lnTo>
                        <a:pt x="1975" y="0"/>
                      </a:lnTo>
                      <a:lnTo>
                        <a:pt x="1551" y="474"/>
                      </a:lnTo>
                      <a:lnTo>
                        <a:pt x="1551" y="958"/>
                      </a:lnTo>
                      <a:lnTo>
                        <a:pt x="1627" y="1576"/>
                      </a:lnTo>
                      <a:lnTo>
                        <a:pt x="1464" y="1576"/>
                      </a:lnTo>
                      <a:lnTo>
                        <a:pt x="1342" y="959"/>
                      </a:lnTo>
                      <a:lnTo>
                        <a:pt x="1234" y="1576"/>
                      </a:lnTo>
                      <a:lnTo>
                        <a:pt x="1074" y="1576"/>
                      </a:lnTo>
                      <a:lnTo>
                        <a:pt x="1132" y="958"/>
                      </a:lnTo>
                      <a:lnTo>
                        <a:pt x="1132" y="474"/>
                      </a:lnTo>
                      <a:lnTo>
                        <a:pt x="989" y="310"/>
                      </a:lnTo>
                      <a:lnTo>
                        <a:pt x="839" y="474"/>
                      </a:lnTo>
                      <a:lnTo>
                        <a:pt x="839" y="958"/>
                      </a:lnTo>
                      <a:lnTo>
                        <a:pt x="916" y="1576"/>
                      </a:lnTo>
                      <a:lnTo>
                        <a:pt x="759" y="1576"/>
                      </a:lnTo>
                      <a:lnTo>
                        <a:pt x="632" y="959"/>
                      </a:lnTo>
                      <a:lnTo>
                        <a:pt x="525" y="1576"/>
                      </a:lnTo>
                      <a:lnTo>
                        <a:pt x="366" y="1576"/>
                      </a:lnTo>
                      <a:lnTo>
                        <a:pt x="426" y="958"/>
                      </a:lnTo>
                      <a:lnTo>
                        <a:pt x="426" y="474"/>
                      </a:lnTo>
                      <a:lnTo>
                        <a:pt x="0" y="0"/>
                      </a:lnTo>
                      <a:lnTo>
                        <a:pt x="162" y="0"/>
                      </a:lnTo>
                      <a:lnTo>
                        <a:pt x="632" y="402"/>
                      </a:lnTo>
                      <a:lnTo>
                        <a:pt x="881" y="193"/>
                      </a:lnTo>
                      <a:lnTo>
                        <a:pt x="71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83"/>
                <p:cNvSpPr/>
                <p:nvPr/>
              </p:nvSpPr>
              <p:spPr>
                <a:xfrm>
                  <a:off x="860760" y="3113280"/>
                  <a:ext cx="78120" cy="69840"/>
                </a:xfrm>
                <a:custGeom>
                  <a:avLst/>
                  <a:gdLst/>
                  <a:ahLst/>
                  <a:rect l="l" t="t" r="r" b="b"/>
                  <a:pathLst>
                    <a:path w="272" h="244">
                      <a:moveTo>
                        <a:pt x="272" y="123"/>
                      </a:moveTo>
                      <a:lnTo>
                        <a:pt x="261" y="74"/>
                      </a:lnTo>
                      <a:lnTo>
                        <a:pt x="231" y="36"/>
                      </a:lnTo>
                      <a:lnTo>
                        <a:pt x="184" y="9"/>
                      </a:lnTo>
                      <a:lnTo>
                        <a:pt x="130" y="0"/>
                      </a:lnTo>
                      <a:lnTo>
                        <a:pt x="78" y="14"/>
                      </a:lnTo>
                      <a:lnTo>
                        <a:pt x="33" y="42"/>
                      </a:lnTo>
                      <a:lnTo>
                        <a:pt x="5" y="85"/>
                      </a:lnTo>
                      <a:lnTo>
                        <a:pt x="0" y="133"/>
                      </a:lnTo>
                      <a:lnTo>
                        <a:pt x="14" y="182"/>
                      </a:lnTo>
                      <a:lnTo>
                        <a:pt x="50" y="218"/>
                      </a:lnTo>
                      <a:lnTo>
                        <a:pt x="98" y="240"/>
                      </a:lnTo>
                      <a:lnTo>
                        <a:pt x="153" y="244"/>
                      </a:lnTo>
                      <a:lnTo>
                        <a:pt x="204" y="229"/>
                      </a:lnTo>
                      <a:lnTo>
                        <a:pt x="246" y="195"/>
                      </a:lnTo>
                      <a:lnTo>
                        <a:pt x="268" y="150"/>
                      </a:lnTo>
                      <a:lnTo>
                        <a:pt x="272" y="12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84"/>
                <p:cNvSpPr/>
                <p:nvPr/>
              </p:nvSpPr>
              <p:spPr>
                <a:xfrm>
                  <a:off x="1068480" y="3113280"/>
                  <a:ext cx="78120" cy="69840"/>
                </a:xfrm>
                <a:custGeom>
                  <a:avLst/>
                  <a:gdLst/>
                  <a:ahLst/>
                  <a:rect l="l" t="t" r="r" b="b"/>
                  <a:pathLst>
                    <a:path w="271" h="244">
                      <a:moveTo>
                        <a:pt x="271" y="123"/>
                      </a:moveTo>
                      <a:lnTo>
                        <a:pt x="261" y="74"/>
                      </a:lnTo>
                      <a:lnTo>
                        <a:pt x="229" y="36"/>
                      </a:lnTo>
                      <a:lnTo>
                        <a:pt x="184" y="9"/>
                      </a:lnTo>
                      <a:lnTo>
                        <a:pt x="129" y="0"/>
                      </a:lnTo>
                      <a:lnTo>
                        <a:pt x="74" y="14"/>
                      </a:lnTo>
                      <a:lnTo>
                        <a:pt x="32" y="42"/>
                      </a:lnTo>
                      <a:lnTo>
                        <a:pt x="6" y="85"/>
                      </a:lnTo>
                      <a:lnTo>
                        <a:pt x="0" y="133"/>
                      </a:lnTo>
                      <a:lnTo>
                        <a:pt x="15" y="182"/>
                      </a:lnTo>
                      <a:lnTo>
                        <a:pt x="48" y="218"/>
                      </a:lnTo>
                      <a:lnTo>
                        <a:pt x="98" y="240"/>
                      </a:lnTo>
                      <a:lnTo>
                        <a:pt x="153" y="244"/>
                      </a:lnTo>
                      <a:lnTo>
                        <a:pt x="205" y="229"/>
                      </a:lnTo>
                      <a:lnTo>
                        <a:pt x="244" y="195"/>
                      </a:lnTo>
                      <a:lnTo>
                        <a:pt x="268" y="150"/>
                      </a:lnTo>
                      <a:lnTo>
                        <a:pt x="271" y="12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85"/>
              <p:cNvGrpSpPr/>
              <p:nvPr/>
            </p:nvGrpSpPr>
            <p:grpSpPr>
              <a:xfrm>
                <a:off x="1992240" y="3092400"/>
                <a:ext cx="574200" cy="460080"/>
                <a:chOff x="1992240" y="3092400"/>
                <a:chExt cx="574200" cy="460080"/>
              </a:xfrm>
            </p:grpSpPr>
            <p:sp>
              <p:nvSpPr>
                <p:cNvPr id="652" name="Freeform 86"/>
                <p:cNvSpPr/>
                <p:nvPr/>
              </p:nvSpPr>
              <p:spPr>
                <a:xfrm>
                  <a:off x="1992240" y="3092400"/>
                  <a:ext cx="574200" cy="460080"/>
                </a:xfrm>
                <a:custGeom>
                  <a:avLst/>
                  <a:gdLst/>
                  <a:ahLst/>
                  <a:rect l="l" t="t" r="r" b="b"/>
                  <a:pathLst>
                    <a:path w="1975" h="1576">
                      <a:moveTo>
                        <a:pt x="711" y="0"/>
                      </a:moveTo>
                      <a:lnTo>
                        <a:pt x="871" y="0"/>
                      </a:lnTo>
                      <a:lnTo>
                        <a:pt x="989" y="101"/>
                      </a:lnTo>
                      <a:lnTo>
                        <a:pt x="1105" y="0"/>
                      </a:lnTo>
                      <a:lnTo>
                        <a:pt x="1264" y="0"/>
                      </a:lnTo>
                      <a:lnTo>
                        <a:pt x="1093" y="193"/>
                      </a:lnTo>
                      <a:lnTo>
                        <a:pt x="1342" y="402"/>
                      </a:lnTo>
                      <a:lnTo>
                        <a:pt x="1813" y="0"/>
                      </a:lnTo>
                      <a:lnTo>
                        <a:pt x="1975" y="0"/>
                      </a:lnTo>
                      <a:lnTo>
                        <a:pt x="1551" y="474"/>
                      </a:lnTo>
                      <a:lnTo>
                        <a:pt x="1551" y="958"/>
                      </a:lnTo>
                      <a:lnTo>
                        <a:pt x="1627" y="1576"/>
                      </a:lnTo>
                      <a:lnTo>
                        <a:pt x="1464" y="1576"/>
                      </a:lnTo>
                      <a:lnTo>
                        <a:pt x="1342" y="959"/>
                      </a:lnTo>
                      <a:lnTo>
                        <a:pt x="1234" y="1576"/>
                      </a:lnTo>
                      <a:lnTo>
                        <a:pt x="1074" y="1576"/>
                      </a:lnTo>
                      <a:lnTo>
                        <a:pt x="1132" y="958"/>
                      </a:lnTo>
                      <a:lnTo>
                        <a:pt x="1132" y="474"/>
                      </a:lnTo>
                      <a:lnTo>
                        <a:pt x="989" y="310"/>
                      </a:lnTo>
                      <a:lnTo>
                        <a:pt x="839" y="474"/>
                      </a:lnTo>
                      <a:lnTo>
                        <a:pt x="839" y="958"/>
                      </a:lnTo>
                      <a:lnTo>
                        <a:pt x="916" y="1576"/>
                      </a:lnTo>
                      <a:lnTo>
                        <a:pt x="759" y="1576"/>
                      </a:lnTo>
                      <a:lnTo>
                        <a:pt x="632" y="959"/>
                      </a:lnTo>
                      <a:lnTo>
                        <a:pt x="525" y="1576"/>
                      </a:lnTo>
                      <a:lnTo>
                        <a:pt x="366" y="1576"/>
                      </a:lnTo>
                      <a:lnTo>
                        <a:pt x="426" y="958"/>
                      </a:lnTo>
                      <a:lnTo>
                        <a:pt x="426" y="474"/>
                      </a:lnTo>
                      <a:lnTo>
                        <a:pt x="0" y="0"/>
                      </a:lnTo>
                      <a:lnTo>
                        <a:pt x="162" y="0"/>
                      </a:lnTo>
                      <a:lnTo>
                        <a:pt x="632" y="402"/>
                      </a:lnTo>
                      <a:lnTo>
                        <a:pt x="881" y="193"/>
                      </a:lnTo>
                      <a:lnTo>
                        <a:pt x="71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87"/>
                <p:cNvSpPr/>
                <p:nvPr/>
              </p:nvSpPr>
              <p:spPr>
                <a:xfrm>
                  <a:off x="2135520" y="3113280"/>
                  <a:ext cx="78120" cy="69840"/>
                </a:xfrm>
                <a:custGeom>
                  <a:avLst/>
                  <a:gdLst/>
                  <a:ahLst/>
                  <a:rect l="l" t="t" r="r" b="b"/>
                  <a:pathLst>
                    <a:path w="272" h="244">
                      <a:moveTo>
                        <a:pt x="272" y="123"/>
                      </a:moveTo>
                      <a:lnTo>
                        <a:pt x="261" y="74"/>
                      </a:lnTo>
                      <a:lnTo>
                        <a:pt x="231" y="36"/>
                      </a:lnTo>
                      <a:lnTo>
                        <a:pt x="184" y="9"/>
                      </a:lnTo>
                      <a:lnTo>
                        <a:pt x="130" y="0"/>
                      </a:lnTo>
                      <a:lnTo>
                        <a:pt x="78" y="14"/>
                      </a:lnTo>
                      <a:lnTo>
                        <a:pt x="33" y="42"/>
                      </a:lnTo>
                      <a:lnTo>
                        <a:pt x="5" y="85"/>
                      </a:lnTo>
                      <a:lnTo>
                        <a:pt x="0" y="133"/>
                      </a:lnTo>
                      <a:lnTo>
                        <a:pt x="14" y="182"/>
                      </a:lnTo>
                      <a:lnTo>
                        <a:pt x="50" y="218"/>
                      </a:lnTo>
                      <a:lnTo>
                        <a:pt x="98" y="240"/>
                      </a:lnTo>
                      <a:lnTo>
                        <a:pt x="153" y="244"/>
                      </a:lnTo>
                      <a:lnTo>
                        <a:pt x="204" y="229"/>
                      </a:lnTo>
                      <a:lnTo>
                        <a:pt x="246" y="195"/>
                      </a:lnTo>
                      <a:lnTo>
                        <a:pt x="268" y="150"/>
                      </a:lnTo>
                      <a:lnTo>
                        <a:pt x="272" y="12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88"/>
                <p:cNvSpPr/>
                <p:nvPr/>
              </p:nvSpPr>
              <p:spPr>
                <a:xfrm>
                  <a:off x="2343240" y="3113280"/>
                  <a:ext cx="78120" cy="69840"/>
                </a:xfrm>
                <a:custGeom>
                  <a:avLst/>
                  <a:gdLst/>
                  <a:ahLst/>
                  <a:rect l="l" t="t" r="r" b="b"/>
                  <a:pathLst>
                    <a:path w="271" h="244">
                      <a:moveTo>
                        <a:pt x="271" y="123"/>
                      </a:moveTo>
                      <a:lnTo>
                        <a:pt x="261" y="74"/>
                      </a:lnTo>
                      <a:lnTo>
                        <a:pt x="229" y="36"/>
                      </a:lnTo>
                      <a:lnTo>
                        <a:pt x="184" y="9"/>
                      </a:lnTo>
                      <a:lnTo>
                        <a:pt x="129" y="0"/>
                      </a:lnTo>
                      <a:lnTo>
                        <a:pt x="74" y="14"/>
                      </a:lnTo>
                      <a:lnTo>
                        <a:pt x="32" y="42"/>
                      </a:lnTo>
                      <a:lnTo>
                        <a:pt x="6" y="85"/>
                      </a:lnTo>
                      <a:lnTo>
                        <a:pt x="0" y="133"/>
                      </a:lnTo>
                      <a:lnTo>
                        <a:pt x="15" y="182"/>
                      </a:lnTo>
                      <a:lnTo>
                        <a:pt x="48" y="218"/>
                      </a:lnTo>
                      <a:lnTo>
                        <a:pt x="98" y="240"/>
                      </a:lnTo>
                      <a:lnTo>
                        <a:pt x="153" y="244"/>
                      </a:lnTo>
                      <a:lnTo>
                        <a:pt x="205" y="229"/>
                      </a:lnTo>
                      <a:lnTo>
                        <a:pt x="244" y="195"/>
                      </a:lnTo>
                      <a:lnTo>
                        <a:pt x="268" y="150"/>
                      </a:lnTo>
                      <a:lnTo>
                        <a:pt x="271" y="12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5" name="Group 122"/>
            <p:cNvGrpSpPr/>
            <p:nvPr/>
          </p:nvGrpSpPr>
          <p:grpSpPr>
            <a:xfrm>
              <a:off x="3269880" y="3092400"/>
              <a:ext cx="574560" cy="460080"/>
              <a:chOff x="3269880" y="3092400"/>
              <a:chExt cx="574560" cy="460080"/>
            </a:xfrm>
          </p:grpSpPr>
          <p:sp>
            <p:nvSpPr>
              <p:cNvPr id="656" name="Freeform 123"/>
              <p:cNvSpPr/>
              <p:nvPr/>
            </p:nvSpPr>
            <p:spPr>
              <a:xfrm>
                <a:off x="3269880" y="3092400"/>
                <a:ext cx="574560" cy="460080"/>
              </a:xfrm>
              <a:custGeom>
                <a:avLst/>
                <a:gdLst/>
                <a:ahLst/>
                <a:rect l="l" t="t" r="r" b="b"/>
                <a:pathLst>
                  <a:path w="1975" h="1576">
                    <a:moveTo>
                      <a:pt x="711" y="0"/>
                    </a:moveTo>
                    <a:lnTo>
                      <a:pt x="871" y="0"/>
                    </a:lnTo>
                    <a:lnTo>
                      <a:pt x="989" y="101"/>
                    </a:lnTo>
                    <a:lnTo>
                      <a:pt x="1105" y="0"/>
                    </a:lnTo>
                    <a:lnTo>
                      <a:pt x="1264" y="0"/>
                    </a:lnTo>
                    <a:lnTo>
                      <a:pt x="1093" y="193"/>
                    </a:lnTo>
                    <a:lnTo>
                      <a:pt x="1342" y="402"/>
                    </a:lnTo>
                    <a:lnTo>
                      <a:pt x="1813" y="0"/>
                    </a:lnTo>
                    <a:lnTo>
                      <a:pt x="1975" y="0"/>
                    </a:lnTo>
                    <a:lnTo>
                      <a:pt x="1551" y="474"/>
                    </a:lnTo>
                    <a:lnTo>
                      <a:pt x="1551" y="958"/>
                    </a:lnTo>
                    <a:lnTo>
                      <a:pt x="1627" y="1576"/>
                    </a:lnTo>
                    <a:lnTo>
                      <a:pt x="1464" y="1576"/>
                    </a:lnTo>
                    <a:lnTo>
                      <a:pt x="1342" y="959"/>
                    </a:lnTo>
                    <a:lnTo>
                      <a:pt x="1234" y="1576"/>
                    </a:lnTo>
                    <a:lnTo>
                      <a:pt x="1074" y="1576"/>
                    </a:lnTo>
                    <a:lnTo>
                      <a:pt x="1132" y="958"/>
                    </a:lnTo>
                    <a:lnTo>
                      <a:pt x="1132" y="474"/>
                    </a:lnTo>
                    <a:lnTo>
                      <a:pt x="989" y="310"/>
                    </a:lnTo>
                    <a:lnTo>
                      <a:pt x="839" y="474"/>
                    </a:lnTo>
                    <a:lnTo>
                      <a:pt x="839" y="958"/>
                    </a:lnTo>
                    <a:lnTo>
                      <a:pt x="916" y="1576"/>
                    </a:lnTo>
                    <a:lnTo>
                      <a:pt x="759" y="1576"/>
                    </a:lnTo>
                    <a:lnTo>
                      <a:pt x="632" y="959"/>
                    </a:lnTo>
                    <a:lnTo>
                      <a:pt x="525" y="1576"/>
                    </a:lnTo>
                    <a:lnTo>
                      <a:pt x="366" y="1576"/>
                    </a:lnTo>
                    <a:lnTo>
                      <a:pt x="426" y="958"/>
                    </a:lnTo>
                    <a:lnTo>
                      <a:pt x="426" y="474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632" y="402"/>
                    </a:lnTo>
                    <a:lnTo>
                      <a:pt x="881" y="193"/>
                    </a:lnTo>
                    <a:lnTo>
                      <a:pt x="7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24"/>
              <p:cNvSpPr/>
              <p:nvPr/>
            </p:nvSpPr>
            <p:spPr>
              <a:xfrm>
                <a:off x="3413160" y="3113280"/>
                <a:ext cx="78120" cy="69840"/>
              </a:xfrm>
              <a:custGeom>
                <a:avLst/>
                <a:gdLst/>
                <a:ahLst/>
                <a:rect l="l" t="t" r="r" b="b"/>
                <a:pathLst>
                  <a:path w="272" h="244">
                    <a:moveTo>
                      <a:pt x="272" y="123"/>
                    </a:moveTo>
                    <a:lnTo>
                      <a:pt x="261" y="74"/>
                    </a:lnTo>
                    <a:lnTo>
                      <a:pt x="231" y="36"/>
                    </a:lnTo>
                    <a:lnTo>
                      <a:pt x="184" y="9"/>
                    </a:lnTo>
                    <a:lnTo>
                      <a:pt x="130" y="0"/>
                    </a:lnTo>
                    <a:lnTo>
                      <a:pt x="78" y="14"/>
                    </a:lnTo>
                    <a:lnTo>
                      <a:pt x="33" y="42"/>
                    </a:lnTo>
                    <a:lnTo>
                      <a:pt x="5" y="85"/>
                    </a:lnTo>
                    <a:lnTo>
                      <a:pt x="0" y="133"/>
                    </a:lnTo>
                    <a:lnTo>
                      <a:pt x="14" y="182"/>
                    </a:lnTo>
                    <a:lnTo>
                      <a:pt x="50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4" y="229"/>
                    </a:lnTo>
                    <a:lnTo>
                      <a:pt x="246" y="195"/>
                    </a:lnTo>
                    <a:lnTo>
                      <a:pt x="268" y="150"/>
                    </a:lnTo>
                    <a:lnTo>
                      <a:pt x="272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25"/>
              <p:cNvSpPr/>
              <p:nvPr/>
            </p:nvSpPr>
            <p:spPr>
              <a:xfrm>
                <a:off x="3621240" y="3113280"/>
                <a:ext cx="78120" cy="69840"/>
              </a:xfrm>
              <a:custGeom>
                <a:avLst/>
                <a:gdLst/>
                <a:ahLst/>
                <a:rect l="l" t="t" r="r" b="b"/>
                <a:pathLst>
                  <a:path w="271" h="244">
                    <a:moveTo>
                      <a:pt x="271" y="123"/>
                    </a:moveTo>
                    <a:lnTo>
                      <a:pt x="261" y="74"/>
                    </a:lnTo>
                    <a:lnTo>
                      <a:pt x="229" y="36"/>
                    </a:lnTo>
                    <a:lnTo>
                      <a:pt x="184" y="9"/>
                    </a:lnTo>
                    <a:lnTo>
                      <a:pt x="129" y="0"/>
                    </a:lnTo>
                    <a:lnTo>
                      <a:pt x="74" y="14"/>
                    </a:lnTo>
                    <a:lnTo>
                      <a:pt x="32" y="42"/>
                    </a:lnTo>
                    <a:lnTo>
                      <a:pt x="6" y="85"/>
                    </a:lnTo>
                    <a:lnTo>
                      <a:pt x="0" y="133"/>
                    </a:lnTo>
                    <a:lnTo>
                      <a:pt x="15" y="182"/>
                    </a:lnTo>
                    <a:lnTo>
                      <a:pt x="48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5" y="229"/>
                    </a:lnTo>
                    <a:lnTo>
                      <a:pt x="244" y="195"/>
                    </a:lnTo>
                    <a:lnTo>
                      <a:pt x="268" y="150"/>
                    </a:lnTo>
                    <a:lnTo>
                      <a:pt x="271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Rectangle 2"/>
          <p:cNvSpPr/>
          <p:nvPr/>
        </p:nvSpPr>
        <p:spPr>
          <a:xfrm>
            <a:off x="121932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d7c11"/>
                </a:solidFill>
                <a:latin typeface="Verdana"/>
              </a:rPr>
              <a:t>Cultural exchange had many aspects.</a:t>
            </a:r>
            <a:r>
              <a:rPr b="1" lang="en-US" sz="2800" spc="-1" strike="noStrike">
                <a:solidFill>
                  <a:srgbClr val="cd7c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457200" y="4175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People shared ideas </a:t>
            </a:r>
            <a:br>
              <a:rPr sz="2400"/>
            </a:b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across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457200" y="1295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Population increased </a:t>
            </a:r>
            <a:br>
              <a:rPr sz="2400"/>
            </a:b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and people mig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4876920" y="1143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Trade networks expanded </a:t>
            </a:r>
            <a:br>
              <a:rPr sz="2400"/>
            </a:b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and cities gr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book"/>
          <p:cNvPicPr/>
          <p:nvPr/>
        </p:nvPicPr>
        <p:blipFill>
          <a:blip r:embed="rId3"/>
          <a:stretch/>
        </p:blipFill>
        <p:spPr>
          <a:xfrm>
            <a:off x="457200" y="5111640"/>
            <a:ext cx="762120" cy="6033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3" descr=""/>
          <p:cNvPicPr/>
          <p:nvPr/>
        </p:nvPicPr>
        <p:blipFill>
          <a:blip r:embed="rId4"/>
          <a:stretch/>
        </p:blipFill>
        <p:spPr>
          <a:xfrm>
            <a:off x="1371600" y="5154480"/>
            <a:ext cx="838080" cy="56052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24"/>
          <p:cNvSpPr/>
          <p:nvPr/>
        </p:nvSpPr>
        <p:spPr>
          <a:xfrm>
            <a:off x="990720" y="5181480"/>
            <a:ext cx="618840" cy="206640"/>
          </a:xfrm>
          <a:custGeom>
            <a:avLst/>
            <a:gdLst>
              <a:gd name="textAreaLeft" fmla="*/ 108360 w 618840"/>
              <a:gd name="textAreaRight" fmla="*/ 448920 w 618840"/>
              <a:gd name="textAreaTop" fmla="*/ 27720 h 206640"/>
              <a:gd name="textAreaBottom" fmla="*/ 178920 h 206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5"/>
          <p:cNvSpPr/>
          <p:nvPr/>
        </p:nvSpPr>
        <p:spPr>
          <a:xfrm flipV="1">
            <a:off x="2057400" y="53334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6"/>
          <p:cNvSpPr/>
          <p:nvPr/>
        </p:nvSpPr>
        <p:spPr>
          <a:xfrm>
            <a:off x="3200400" y="51814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47"/>
          <p:cNvGrpSpPr/>
          <p:nvPr/>
        </p:nvGrpSpPr>
        <p:grpSpPr>
          <a:xfrm>
            <a:off x="1992240" y="2133720"/>
            <a:ext cx="574560" cy="459720"/>
            <a:chOff x="1992240" y="2133720"/>
            <a:chExt cx="574560" cy="459720"/>
          </a:xfrm>
        </p:grpSpPr>
        <p:sp>
          <p:nvSpPr>
            <p:cNvPr id="670" name="Freeform 41"/>
            <p:cNvSpPr/>
            <p:nvPr/>
          </p:nvSpPr>
          <p:spPr>
            <a:xfrm>
              <a:off x="1992240" y="2133720"/>
              <a:ext cx="574560" cy="459720"/>
            </a:xfrm>
            <a:custGeom>
              <a:avLst/>
              <a:gdLst/>
              <a:ahLst/>
              <a:rect l="l" t="t" r="r" b="b"/>
              <a:pathLst>
                <a:path w="1975" h="1576">
                  <a:moveTo>
                    <a:pt x="711" y="0"/>
                  </a:moveTo>
                  <a:lnTo>
                    <a:pt x="871" y="0"/>
                  </a:lnTo>
                  <a:lnTo>
                    <a:pt x="989" y="101"/>
                  </a:lnTo>
                  <a:lnTo>
                    <a:pt x="1105" y="0"/>
                  </a:lnTo>
                  <a:lnTo>
                    <a:pt x="1264" y="0"/>
                  </a:lnTo>
                  <a:lnTo>
                    <a:pt x="1093" y="193"/>
                  </a:lnTo>
                  <a:lnTo>
                    <a:pt x="1342" y="402"/>
                  </a:lnTo>
                  <a:lnTo>
                    <a:pt x="1813" y="0"/>
                  </a:lnTo>
                  <a:lnTo>
                    <a:pt x="1975" y="0"/>
                  </a:lnTo>
                  <a:lnTo>
                    <a:pt x="1551" y="474"/>
                  </a:lnTo>
                  <a:lnTo>
                    <a:pt x="1551" y="958"/>
                  </a:lnTo>
                  <a:lnTo>
                    <a:pt x="1627" y="1576"/>
                  </a:lnTo>
                  <a:lnTo>
                    <a:pt x="1464" y="1576"/>
                  </a:lnTo>
                  <a:lnTo>
                    <a:pt x="1342" y="959"/>
                  </a:lnTo>
                  <a:lnTo>
                    <a:pt x="1234" y="1576"/>
                  </a:lnTo>
                  <a:lnTo>
                    <a:pt x="1074" y="1576"/>
                  </a:lnTo>
                  <a:lnTo>
                    <a:pt x="1132" y="958"/>
                  </a:lnTo>
                  <a:lnTo>
                    <a:pt x="1132" y="474"/>
                  </a:lnTo>
                  <a:lnTo>
                    <a:pt x="989" y="310"/>
                  </a:lnTo>
                  <a:lnTo>
                    <a:pt x="839" y="474"/>
                  </a:lnTo>
                  <a:lnTo>
                    <a:pt x="839" y="958"/>
                  </a:lnTo>
                  <a:lnTo>
                    <a:pt x="916" y="1576"/>
                  </a:lnTo>
                  <a:lnTo>
                    <a:pt x="759" y="1576"/>
                  </a:lnTo>
                  <a:lnTo>
                    <a:pt x="632" y="959"/>
                  </a:lnTo>
                  <a:lnTo>
                    <a:pt x="525" y="1576"/>
                  </a:lnTo>
                  <a:lnTo>
                    <a:pt x="366" y="1576"/>
                  </a:lnTo>
                  <a:lnTo>
                    <a:pt x="426" y="958"/>
                  </a:lnTo>
                  <a:lnTo>
                    <a:pt x="426" y="474"/>
                  </a:lnTo>
                  <a:lnTo>
                    <a:pt x="0" y="0"/>
                  </a:lnTo>
                  <a:lnTo>
                    <a:pt x="162" y="0"/>
                  </a:lnTo>
                  <a:lnTo>
                    <a:pt x="632" y="402"/>
                  </a:lnTo>
                  <a:lnTo>
                    <a:pt x="881" y="193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2"/>
            <p:cNvSpPr/>
            <p:nvPr/>
          </p:nvSpPr>
          <p:spPr>
            <a:xfrm>
              <a:off x="2135520" y="2154600"/>
              <a:ext cx="78120" cy="6948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123"/>
                  </a:moveTo>
                  <a:lnTo>
                    <a:pt x="261" y="74"/>
                  </a:lnTo>
                  <a:lnTo>
                    <a:pt x="231" y="36"/>
                  </a:lnTo>
                  <a:lnTo>
                    <a:pt x="184" y="9"/>
                  </a:lnTo>
                  <a:lnTo>
                    <a:pt x="130" y="0"/>
                  </a:lnTo>
                  <a:lnTo>
                    <a:pt x="78" y="14"/>
                  </a:lnTo>
                  <a:lnTo>
                    <a:pt x="33" y="42"/>
                  </a:lnTo>
                  <a:lnTo>
                    <a:pt x="5" y="85"/>
                  </a:lnTo>
                  <a:lnTo>
                    <a:pt x="0" y="133"/>
                  </a:lnTo>
                  <a:lnTo>
                    <a:pt x="14" y="182"/>
                  </a:lnTo>
                  <a:lnTo>
                    <a:pt x="50" y="218"/>
                  </a:lnTo>
                  <a:lnTo>
                    <a:pt x="98" y="240"/>
                  </a:lnTo>
                  <a:lnTo>
                    <a:pt x="153" y="244"/>
                  </a:lnTo>
                  <a:lnTo>
                    <a:pt x="204" y="229"/>
                  </a:lnTo>
                  <a:lnTo>
                    <a:pt x="246" y="195"/>
                  </a:lnTo>
                  <a:lnTo>
                    <a:pt x="268" y="150"/>
                  </a:lnTo>
                  <a:lnTo>
                    <a:pt x="272" y="12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3"/>
            <p:cNvSpPr/>
            <p:nvPr/>
          </p:nvSpPr>
          <p:spPr>
            <a:xfrm>
              <a:off x="2343600" y="2154600"/>
              <a:ext cx="78120" cy="69480"/>
            </a:xfrm>
            <a:custGeom>
              <a:avLst/>
              <a:gdLst/>
              <a:ahLst/>
              <a:rect l="l" t="t" r="r" b="b"/>
              <a:pathLst>
                <a:path w="271" h="244">
                  <a:moveTo>
                    <a:pt x="271" y="123"/>
                  </a:moveTo>
                  <a:lnTo>
                    <a:pt x="261" y="74"/>
                  </a:lnTo>
                  <a:lnTo>
                    <a:pt x="229" y="36"/>
                  </a:lnTo>
                  <a:lnTo>
                    <a:pt x="184" y="9"/>
                  </a:lnTo>
                  <a:lnTo>
                    <a:pt x="129" y="0"/>
                  </a:lnTo>
                  <a:lnTo>
                    <a:pt x="74" y="14"/>
                  </a:lnTo>
                  <a:lnTo>
                    <a:pt x="32" y="42"/>
                  </a:lnTo>
                  <a:lnTo>
                    <a:pt x="6" y="85"/>
                  </a:lnTo>
                  <a:lnTo>
                    <a:pt x="0" y="133"/>
                  </a:lnTo>
                  <a:lnTo>
                    <a:pt x="15" y="182"/>
                  </a:lnTo>
                  <a:lnTo>
                    <a:pt x="48" y="218"/>
                  </a:lnTo>
                  <a:lnTo>
                    <a:pt x="98" y="240"/>
                  </a:lnTo>
                  <a:lnTo>
                    <a:pt x="153" y="244"/>
                  </a:lnTo>
                  <a:lnTo>
                    <a:pt x="205" y="229"/>
                  </a:lnTo>
                  <a:lnTo>
                    <a:pt x="244" y="195"/>
                  </a:lnTo>
                  <a:lnTo>
                    <a:pt x="268" y="150"/>
                  </a:lnTo>
                  <a:lnTo>
                    <a:pt x="271" y="12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13"/>
          <p:cNvGrpSpPr/>
          <p:nvPr/>
        </p:nvGrpSpPr>
        <p:grpSpPr>
          <a:xfrm>
            <a:off x="1352520" y="2612880"/>
            <a:ext cx="1854000" cy="460080"/>
            <a:chOff x="1352520" y="2612880"/>
            <a:chExt cx="1854000" cy="460080"/>
          </a:xfrm>
        </p:grpSpPr>
        <p:grpSp>
          <p:nvGrpSpPr>
            <p:cNvPr id="674" name="Group 73"/>
            <p:cNvGrpSpPr/>
            <p:nvPr/>
          </p:nvGrpSpPr>
          <p:grpSpPr>
            <a:xfrm>
              <a:off x="1352520" y="2612880"/>
              <a:ext cx="576000" cy="460080"/>
              <a:chOff x="1352520" y="2612880"/>
              <a:chExt cx="576000" cy="460080"/>
            </a:xfrm>
          </p:grpSpPr>
          <p:sp>
            <p:nvSpPr>
              <p:cNvPr id="675" name="Freeform 74"/>
              <p:cNvSpPr/>
              <p:nvPr/>
            </p:nvSpPr>
            <p:spPr>
              <a:xfrm>
                <a:off x="1352520" y="2612880"/>
                <a:ext cx="576000" cy="460080"/>
              </a:xfrm>
              <a:custGeom>
                <a:avLst/>
                <a:gdLst/>
                <a:ahLst/>
                <a:rect l="l" t="t" r="r" b="b"/>
                <a:pathLst>
                  <a:path w="1975" h="1576">
                    <a:moveTo>
                      <a:pt x="711" y="0"/>
                    </a:moveTo>
                    <a:lnTo>
                      <a:pt x="871" y="0"/>
                    </a:lnTo>
                    <a:lnTo>
                      <a:pt x="989" y="101"/>
                    </a:lnTo>
                    <a:lnTo>
                      <a:pt x="1105" y="0"/>
                    </a:lnTo>
                    <a:lnTo>
                      <a:pt x="1264" y="0"/>
                    </a:lnTo>
                    <a:lnTo>
                      <a:pt x="1093" y="193"/>
                    </a:lnTo>
                    <a:lnTo>
                      <a:pt x="1342" y="402"/>
                    </a:lnTo>
                    <a:lnTo>
                      <a:pt x="1813" y="0"/>
                    </a:lnTo>
                    <a:lnTo>
                      <a:pt x="1975" y="0"/>
                    </a:lnTo>
                    <a:lnTo>
                      <a:pt x="1551" y="474"/>
                    </a:lnTo>
                    <a:lnTo>
                      <a:pt x="1551" y="958"/>
                    </a:lnTo>
                    <a:lnTo>
                      <a:pt x="1627" y="1576"/>
                    </a:lnTo>
                    <a:lnTo>
                      <a:pt x="1464" y="1576"/>
                    </a:lnTo>
                    <a:lnTo>
                      <a:pt x="1342" y="959"/>
                    </a:lnTo>
                    <a:lnTo>
                      <a:pt x="1234" y="1576"/>
                    </a:lnTo>
                    <a:lnTo>
                      <a:pt x="1074" y="1576"/>
                    </a:lnTo>
                    <a:lnTo>
                      <a:pt x="1132" y="958"/>
                    </a:lnTo>
                    <a:lnTo>
                      <a:pt x="1132" y="474"/>
                    </a:lnTo>
                    <a:lnTo>
                      <a:pt x="989" y="310"/>
                    </a:lnTo>
                    <a:lnTo>
                      <a:pt x="839" y="474"/>
                    </a:lnTo>
                    <a:lnTo>
                      <a:pt x="839" y="958"/>
                    </a:lnTo>
                    <a:lnTo>
                      <a:pt x="916" y="1576"/>
                    </a:lnTo>
                    <a:lnTo>
                      <a:pt x="759" y="1576"/>
                    </a:lnTo>
                    <a:lnTo>
                      <a:pt x="632" y="959"/>
                    </a:lnTo>
                    <a:lnTo>
                      <a:pt x="525" y="1576"/>
                    </a:lnTo>
                    <a:lnTo>
                      <a:pt x="366" y="1576"/>
                    </a:lnTo>
                    <a:lnTo>
                      <a:pt x="426" y="958"/>
                    </a:lnTo>
                    <a:lnTo>
                      <a:pt x="426" y="474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632" y="402"/>
                    </a:lnTo>
                    <a:lnTo>
                      <a:pt x="881" y="193"/>
                    </a:lnTo>
                    <a:lnTo>
                      <a:pt x="7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5"/>
              <p:cNvSpPr/>
              <p:nvPr/>
            </p:nvSpPr>
            <p:spPr>
              <a:xfrm>
                <a:off x="1496160" y="2633760"/>
                <a:ext cx="78480" cy="69840"/>
              </a:xfrm>
              <a:custGeom>
                <a:avLst/>
                <a:gdLst/>
                <a:ahLst/>
                <a:rect l="l" t="t" r="r" b="b"/>
                <a:pathLst>
                  <a:path w="272" h="244">
                    <a:moveTo>
                      <a:pt x="272" y="123"/>
                    </a:moveTo>
                    <a:lnTo>
                      <a:pt x="261" y="74"/>
                    </a:lnTo>
                    <a:lnTo>
                      <a:pt x="231" y="36"/>
                    </a:lnTo>
                    <a:lnTo>
                      <a:pt x="184" y="9"/>
                    </a:lnTo>
                    <a:lnTo>
                      <a:pt x="130" y="0"/>
                    </a:lnTo>
                    <a:lnTo>
                      <a:pt x="78" y="14"/>
                    </a:lnTo>
                    <a:lnTo>
                      <a:pt x="33" y="42"/>
                    </a:lnTo>
                    <a:lnTo>
                      <a:pt x="5" y="85"/>
                    </a:lnTo>
                    <a:lnTo>
                      <a:pt x="0" y="133"/>
                    </a:lnTo>
                    <a:lnTo>
                      <a:pt x="14" y="182"/>
                    </a:lnTo>
                    <a:lnTo>
                      <a:pt x="50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4" y="229"/>
                    </a:lnTo>
                    <a:lnTo>
                      <a:pt x="246" y="195"/>
                    </a:lnTo>
                    <a:lnTo>
                      <a:pt x="268" y="150"/>
                    </a:lnTo>
                    <a:lnTo>
                      <a:pt x="272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76"/>
              <p:cNvSpPr/>
              <p:nvPr/>
            </p:nvSpPr>
            <p:spPr>
              <a:xfrm>
                <a:off x="1704600" y="2633760"/>
                <a:ext cx="78480" cy="69840"/>
              </a:xfrm>
              <a:custGeom>
                <a:avLst/>
                <a:gdLst/>
                <a:ahLst/>
                <a:rect l="l" t="t" r="r" b="b"/>
                <a:pathLst>
                  <a:path w="271" h="244">
                    <a:moveTo>
                      <a:pt x="271" y="123"/>
                    </a:moveTo>
                    <a:lnTo>
                      <a:pt x="261" y="74"/>
                    </a:lnTo>
                    <a:lnTo>
                      <a:pt x="229" y="36"/>
                    </a:lnTo>
                    <a:lnTo>
                      <a:pt x="184" y="9"/>
                    </a:lnTo>
                    <a:lnTo>
                      <a:pt x="129" y="0"/>
                    </a:lnTo>
                    <a:lnTo>
                      <a:pt x="74" y="14"/>
                    </a:lnTo>
                    <a:lnTo>
                      <a:pt x="32" y="42"/>
                    </a:lnTo>
                    <a:lnTo>
                      <a:pt x="6" y="85"/>
                    </a:lnTo>
                    <a:lnTo>
                      <a:pt x="0" y="133"/>
                    </a:lnTo>
                    <a:lnTo>
                      <a:pt x="15" y="182"/>
                    </a:lnTo>
                    <a:lnTo>
                      <a:pt x="48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5" y="229"/>
                    </a:lnTo>
                    <a:lnTo>
                      <a:pt x="244" y="195"/>
                    </a:lnTo>
                    <a:lnTo>
                      <a:pt x="268" y="150"/>
                    </a:lnTo>
                    <a:lnTo>
                      <a:pt x="271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77"/>
            <p:cNvGrpSpPr/>
            <p:nvPr/>
          </p:nvGrpSpPr>
          <p:grpSpPr>
            <a:xfrm>
              <a:off x="2632320" y="2612880"/>
              <a:ext cx="574200" cy="460080"/>
              <a:chOff x="2632320" y="2612880"/>
              <a:chExt cx="574200" cy="460080"/>
            </a:xfrm>
          </p:grpSpPr>
          <p:sp>
            <p:nvSpPr>
              <p:cNvPr id="679" name="Freeform 78"/>
              <p:cNvSpPr/>
              <p:nvPr/>
            </p:nvSpPr>
            <p:spPr>
              <a:xfrm>
                <a:off x="2632320" y="2612880"/>
                <a:ext cx="574200" cy="460080"/>
              </a:xfrm>
              <a:custGeom>
                <a:avLst/>
                <a:gdLst/>
                <a:ahLst/>
                <a:rect l="l" t="t" r="r" b="b"/>
                <a:pathLst>
                  <a:path w="1975" h="1576">
                    <a:moveTo>
                      <a:pt x="711" y="0"/>
                    </a:moveTo>
                    <a:lnTo>
                      <a:pt x="871" y="0"/>
                    </a:lnTo>
                    <a:lnTo>
                      <a:pt x="989" y="101"/>
                    </a:lnTo>
                    <a:lnTo>
                      <a:pt x="1105" y="0"/>
                    </a:lnTo>
                    <a:lnTo>
                      <a:pt x="1264" y="0"/>
                    </a:lnTo>
                    <a:lnTo>
                      <a:pt x="1093" y="193"/>
                    </a:lnTo>
                    <a:lnTo>
                      <a:pt x="1342" y="402"/>
                    </a:lnTo>
                    <a:lnTo>
                      <a:pt x="1813" y="0"/>
                    </a:lnTo>
                    <a:lnTo>
                      <a:pt x="1975" y="0"/>
                    </a:lnTo>
                    <a:lnTo>
                      <a:pt x="1551" y="474"/>
                    </a:lnTo>
                    <a:lnTo>
                      <a:pt x="1551" y="958"/>
                    </a:lnTo>
                    <a:lnTo>
                      <a:pt x="1627" y="1576"/>
                    </a:lnTo>
                    <a:lnTo>
                      <a:pt x="1464" y="1576"/>
                    </a:lnTo>
                    <a:lnTo>
                      <a:pt x="1342" y="959"/>
                    </a:lnTo>
                    <a:lnTo>
                      <a:pt x="1234" y="1576"/>
                    </a:lnTo>
                    <a:lnTo>
                      <a:pt x="1074" y="1576"/>
                    </a:lnTo>
                    <a:lnTo>
                      <a:pt x="1132" y="958"/>
                    </a:lnTo>
                    <a:lnTo>
                      <a:pt x="1132" y="474"/>
                    </a:lnTo>
                    <a:lnTo>
                      <a:pt x="989" y="310"/>
                    </a:lnTo>
                    <a:lnTo>
                      <a:pt x="839" y="474"/>
                    </a:lnTo>
                    <a:lnTo>
                      <a:pt x="839" y="958"/>
                    </a:lnTo>
                    <a:lnTo>
                      <a:pt x="916" y="1576"/>
                    </a:lnTo>
                    <a:lnTo>
                      <a:pt x="759" y="1576"/>
                    </a:lnTo>
                    <a:lnTo>
                      <a:pt x="632" y="959"/>
                    </a:lnTo>
                    <a:lnTo>
                      <a:pt x="525" y="1576"/>
                    </a:lnTo>
                    <a:lnTo>
                      <a:pt x="366" y="1576"/>
                    </a:lnTo>
                    <a:lnTo>
                      <a:pt x="426" y="958"/>
                    </a:lnTo>
                    <a:lnTo>
                      <a:pt x="426" y="474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632" y="402"/>
                    </a:lnTo>
                    <a:lnTo>
                      <a:pt x="881" y="193"/>
                    </a:lnTo>
                    <a:lnTo>
                      <a:pt x="7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79"/>
              <p:cNvSpPr/>
              <p:nvPr/>
            </p:nvSpPr>
            <p:spPr>
              <a:xfrm>
                <a:off x="2775600" y="2633760"/>
                <a:ext cx="78120" cy="69840"/>
              </a:xfrm>
              <a:custGeom>
                <a:avLst/>
                <a:gdLst/>
                <a:ahLst/>
                <a:rect l="l" t="t" r="r" b="b"/>
                <a:pathLst>
                  <a:path w="272" h="244">
                    <a:moveTo>
                      <a:pt x="272" y="123"/>
                    </a:moveTo>
                    <a:lnTo>
                      <a:pt x="261" y="74"/>
                    </a:lnTo>
                    <a:lnTo>
                      <a:pt x="231" y="36"/>
                    </a:lnTo>
                    <a:lnTo>
                      <a:pt x="184" y="9"/>
                    </a:lnTo>
                    <a:lnTo>
                      <a:pt x="130" y="0"/>
                    </a:lnTo>
                    <a:lnTo>
                      <a:pt x="78" y="14"/>
                    </a:lnTo>
                    <a:lnTo>
                      <a:pt x="33" y="42"/>
                    </a:lnTo>
                    <a:lnTo>
                      <a:pt x="5" y="85"/>
                    </a:lnTo>
                    <a:lnTo>
                      <a:pt x="0" y="133"/>
                    </a:lnTo>
                    <a:lnTo>
                      <a:pt x="14" y="182"/>
                    </a:lnTo>
                    <a:lnTo>
                      <a:pt x="50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4" y="229"/>
                    </a:lnTo>
                    <a:lnTo>
                      <a:pt x="246" y="195"/>
                    </a:lnTo>
                    <a:lnTo>
                      <a:pt x="268" y="150"/>
                    </a:lnTo>
                    <a:lnTo>
                      <a:pt x="272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80"/>
              <p:cNvSpPr/>
              <p:nvPr/>
            </p:nvSpPr>
            <p:spPr>
              <a:xfrm>
                <a:off x="2983320" y="2633760"/>
                <a:ext cx="78120" cy="69840"/>
              </a:xfrm>
              <a:custGeom>
                <a:avLst/>
                <a:gdLst/>
                <a:ahLst/>
                <a:rect l="l" t="t" r="r" b="b"/>
                <a:pathLst>
                  <a:path w="271" h="244">
                    <a:moveTo>
                      <a:pt x="271" y="123"/>
                    </a:moveTo>
                    <a:lnTo>
                      <a:pt x="261" y="74"/>
                    </a:lnTo>
                    <a:lnTo>
                      <a:pt x="229" y="36"/>
                    </a:lnTo>
                    <a:lnTo>
                      <a:pt x="184" y="9"/>
                    </a:lnTo>
                    <a:lnTo>
                      <a:pt x="129" y="0"/>
                    </a:lnTo>
                    <a:lnTo>
                      <a:pt x="74" y="14"/>
                    </a:lnTo>
                    <a:lnTo>
                      <a:pt x="32" y="42"/>
                    </a:lnTo>
                    <a:lnTo>
                      <a:pt x="6" y="85"/>
                    </a:lnTo>
                    <a:lnTo>
                      <a:pt x="0" y="133"/>
                    </a:lnTo>
                    <a:lnTo>
                      <a:pt x="15" y="182"/>
                    </a:lnTo>
                    <a:lnTo>
                      <a:pt x="48" y="218"/>
                    </a:lnTo>
                    <a:lnTo>
                      <a:pt x="98" y="240"/>
                    </a:lnTo>
                    <a:lnTo>
                      <a:pt x="153" y="244"/>
                    </a:lnTo>
                    <a:lnTo>
                      <a:pt x="205" y="229"/>
                    </a:lnTo>
                    <a:lnTo>
                      <a:pt x="244" y="195"/>
                    </a:lnTo>
                    <a:lnTo>
                      <a:pt x="268" y="150"/>
                    </a:lnTo>
                    <a:lnTo>
                      <a:pt x="271" y="12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oup 103"/>
          <p:cNvGrpSpPr/>
          <p:nvPr/>
        </p:nvGrpSpPr>
        <p:grpSpPr>
          <a:xfrm>
            <a:off x="1771200" y="2254320"/>
            <a:ext cx="1015920" cy="496080"/>
            <a:chOff x="1771200" y="2254320"/>
            <a:chExt cx="1015920" cy="496080"/>
          </a:xfrm>
        </p:grpSpPr>
        <p:cxnSp>
          <p:nvCxnSpPr>
            <p:cNvPr id="683" name="AutoShape 100"/>
            <p:cNvCxnSpPr>
              <a:stCxn id="684" idx="2"/>
              <a:endCxn id="675" idx="9"/>
            </p:cNvCxnSpPr>
            <p:nvPr/>
          </p:nvCxnSpPr>
          <p:spPr>
            <a:xfrm rot="5400000">
              <a:off x="1860480" y="2332080"/>
              <a:ext cx="329040" cy="508320"/>
            </a:xfrm>
            <a:prstGeom prst="curved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85" name="AutoShape 101"/>
            <p:cNvCxnSpPr>
              <a:stCxn id="684" idx="2"/>
              <a:endCxn id="679" idx="27"/>
            </p:cNvCxnSpPr>
            <p:nvPr/>
          </p:nvCxnSpPr>
          <p:spPr>
            <a:xfrm flipH="1" rot="16200000">
              <a:off x="2368800" y="2331720"/>
              <a:ext cx="329040" cy="508320"/>
            </a:xfrm>
            <a:prstGeom prst="curved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84" name="AutoShape 102"/>
            <p:cNvSpPr/>
            <p:nvPr/>
          </p:nvSpPr>
          <p:spPr>
            <a:xfrm>
              <a:off x="2183040" y="2254320"/>
              <a:ext cx="191520" cy="167760"/>
            </a:xfrm>
            <a:custGeom>
              <a:avLst/>
              <a:gdLst>
                <a:gd name="textAreaLeft" fmla="*/ 43920 w 191520"/>
                <a:gd name="textAreaRight" fmla="*/ 147600 w 191520"/>
                <a:gd name="textAreaTop" fmla="*/ 18000 h 167760"/>
                <a:gd name="textAreaBottom" fmla="*/ 105840 h 16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Line 116"/>
          <p:cNvSpPr/>
          <p:nvPr/>
        </p:nvSpPr>
        <p:spPr>
          <a:xfrm>
            <a:off x="5410080" y="2362320"/>
            <a:ext cx="50508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18"/>
          <p:cNvSpPr/>
          <p:nvPr/>
        </p:nvSpPr>
        <p:spPr>
          <a:xfrm flipH="1">
            <a:off x="7619760" y="2590920"/>
            <a:ext cx="5331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19"/>
          <p:cNvSpPr/>
          <p:nvPr/>
        </p:nvSpPr>
        <p:spPr>
          <a:xfrm>
            <a:off x="6324480" y="2362320"/>
            <a:ext cx="1067040" cy="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20"/>
          <p:cNvSpPr/>
          <p:nvPr/>
        </p:nvSpPr>
        <p:spPr>
          <a:xfrm>
            <a:off x="6400800" y="2590920"/>
            <a:ext cx="1066680" cy="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135"/>
          <p:cNvGrpSpPr/>
          <p:nvPr/>
        </p:nvGrpSpPr>
        <p:grpSpPr>
          <a:xfrm>
            <a:off x="1133280" y="2743200"/>
            <a:ext cx="2293200" cy="516240"/>
            <a:chOff x="1133280" y="2743200"/>
            <a:chExt cx="2293200" cy="516240"/>
          </a:xfrm>
        </p:grpSpPr>
        <p:grpSp>
          <p:nvGrpSpPr>
            <p:cNvPr id="691" name="Group 104"/>
            <p:cNvGrpSpPr/>
            <p:nvPr/>
          </p:nvGrpSpPr>
          <p:grpSpPr>
            <a:xfrm>
              <a:off x="1133280" y="2743200"/>
              <a:ext cx="1014480" cy="497160"/>
              <a:chOff x="1133280" y="2743200"/>
              <a:chExt cx="1014480" cy="497160"/>
            </a:xfrm>
          </p:grpSpPr>
          <p:cxnSp>
            <p:nvCxnSpPr>
              <p:cNvPr id="692" name="AutoShape 105"/>
              <p:cNvCxnSpPr>
                <a:stCxn id="693" idx="2"/>
              </p:cNvCxnSpPr>
              <p:nvPr/>
            </p:nvCxnSpPr>
            <p:spPr>
              <a:xfrm rot="5400000">
                <a:off x="1221840" y="2822040"/>
                <a:ext cx="329760" cy="507600"/>
              </a:xfrm>
              <a:prstGeom prst="curvedConnector2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106"/>
              <p:cNvCxnSpPr>
                <a:stCxn id="693" idx="2"/>
              </p:cNvCxnSpPr>
              <p:nvPr/>
            </p:nvCxnSpPr>
            <p:spPr>
              <a:xfrm flipH="1" rot="16200000">
                <a:off x="1729440" y="2821680"/>
                <a:ext cx="329760" cy="507600"/>
              </a:xfrm>
              <a:prstGeom prst="curvedConnector2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693" name="AutoShape 107"/>
              <p:cNvSpPr/>
              <p:nvPr/>
            </p:nvSpPr>
            <p:spPr>
              <a:xfrm>
                <a:off x="1544760" y="2743200"/>
                <a:ext cx="191520" cy="167760"/>
              </a:xfrm>
              <a:custGeom>
                <a:avLst/>
                <a:gdLst>
                  <a:gd name="textAreaLeft" fmla="*/ 43920 w 191520"/>
                  <a:gd name="textAreaRight" fmla="*/ 147600 w 191520"/>
                  <a:gd name="textAreaTop" fmla="*/ 18000 h 167760"/>
                  <a:gd name="textAreaBottom" fmla="*/ 105840 h 167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34"/>
            <p:cNvGrpSpPr/>
            <p:nvPr/>
          </p:nvGrpSpPr>
          <p:grpSpPr>
            <a:xfrm>
              <a:off x="2824200" y="2762280"/>
              <a:ext cx="602280" cy="497160"/>
              <a:chOff x="2824200" y="2762280"/>
              <a:chExt cx="602280" cy="497160"/>
            </a:xfrm>
          </p:grpSpPr>
          <p:cxnSp>
            <p:nvCxnSpPr>
              <p:cNvPr id="696" name="AutoShape 132"/>
              <p:cNvCxnSpPr>
                <a:stCxn id="697" idx="2"/>
              </p:cNvCxnSpPr>
              <p:nvPr/>
            </p:nvCxnSpPr>
            <p:spPr>
              <a:xfrm flipH="1" rot="16200000">
                <a:off x="3008880" y="2841480"/>
                <a:ext cx="329040" cy="506880"/>
              </a:xfrm>
              <a:prstGeom prst="curvedConnector2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697" name="AutoShape 133"/>
              <p:cNvSpPr/>
              <p:nvPr/>
            </p:nvSpPr>
            <p:spPr>
              <a:xfrm>
                <a:off x="2824200" y="2762280"/>
                <a:ext cx="192240" cy="168480"/>
              </a:xfrm>
              <a:custGeom>
                <a:avLst/>
                <a:gdLst>
                  <a:gd name="textAreaLeft" fmla="*/ 44280 w 192240"/>
                  <a:gd name="textAreaRight" fmla="*/ 147960 w 192240"/>
                  <a:gd name="textAreaTop" fmla="*/ 17280 h 168480"/>
                  <a:gd name="textAreaBottom" fmla="*/ 106560 h 16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Rectangle 29"/>
          <p:cNvSpPr/>
          <p:nvPr/>
        </p:nvSpPr>
        <p:spPr>
          <a:xfrm>
            <a:off x="5060880" y="328140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7c11"/>
                </a:solidFill>
                <a:latin typeface="Arial"/>
              </a:rPr>
              <a:t>Huge empires brought many different groups of people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46" descr=""/>
          <p:cNvPicPr/>
          <p:nvPr/>
        </p:nvPicPr>
        <p:blipFill>
          <a:blip r:embed="rId5"/>
          <a:stretch/>
        </p:blipFill>
        <p:spPr>
          <a:xfrm>
            <a:off x="5029200" y="2057400"/>
            <a:ext cx="1295280" cy="911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47" descr=""/>
          <p:cNvPicPr/>
          <p:nvPr/>
        </p:nvPicPr>
        <p:blipFill>
          <a:blip r:embed="rId6"/>
          <a:stretch/>
        </p:blipFill>
        <p:spPr>
          <a:xfrm>
            <a:off x="7315200" y="2057400"/>
            <a:ext cx="1295280" cy="9111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48" descr=""/>
          <p:cNvPicPr/>
          <p:nvPr/>
        </p:nvPicPr>
        <p:blipFill>
          <a:blip r:embed="rId7"/>
          <a:stretch/>
        </p:blipFill>
        <p:spPr>
          <a:xfrm>
            <a:off x="5638680" y="4478400"/>
            <a:ext cx="685800" cy="6271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49" descr=""/>
          <p:cNvPicPr/>
          <p:nvPr/>
        </p:nvPicPr>
        <p:blipFill>
          <a:blip r:embed="rId8"/>
          <a:stretch/>
        </p:blipFill>
        <p:spPr>
          <a:xfrm>
            <a:off x="7726320" y="4995720"/>
            <a:ext cx="1036800" cy="9478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50" descr=""/>
          <p:cNvPicPr/>
          <p:nvPr/>
        </p:nvPicPr>
        <p:blipFill>
          <a:blip r:embed="rId9"/>
          <a:stretch/>
        </p:blipFill>
        <p:spPr>
          <a:xfrm>
            <a:off x="6629400" y="4865760"/>
            <a:ext cx="762120" cy="6969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51" descr=""/>
          <p:cNvPicPr/>
          <p:nvPr/>
        </p:nvPicPr>
        <p:blipFill>
          <a:blip r:embed="rId10"/>
          <a:stretch/>
        </p:blipFill>
        <p:spPr>
          <a:xfrm>
            <a:off x="5029200" y="4114800"/>
            <a:ext cx="495360" cy="45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280" y="385560"/>
            <a:ext cx="87408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Verdana"/>
              </a:rPr>
              <a:t>Population growth in Era 1</a:t>
            </a:r>
            <a:endParaRPr b="0" lang="en-US" sz="3600" spc="-1" strike="noStrike">
              <a:solidFill>
                <a:srgbClr val="cd7c11"/>
              </a:solidFill>
              <a:latin typeface="Verdan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1523520"/>
            <a:ext cx="281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Verdana"/>
              </a:rPr>
              <a:t>World population grew from about 200 million to 400 million between 500 CE and 1400 CE</a:t>
            </a:r>
            <a:endParaRPr b="0" lang="en-US" sz="2800" spc="-1" strike="noStrike">
              <a:solidFill>
                <a:srgbClr val="cc9900"/>
              </a:solidFill>
              <a:latin typeface="Verdana"/>
            </a:endParaRPr>
          </a:p>
        </p:txBody>
      </p:sp>
      <p:pic>
        <p:nvPicPr>
          <p:cNvPr id="707" name="Picture 2" descr="Global Population Trend"/>
          <p:cNvPicPr/>
          <p:nvPr/>
        </p:nvPicPr>
        <p:blipFill>
          <a:blip r:embed="rId1"/>
          <a:stretch/>
        </p:blipFill>
        <p:spPr>
          <a:xfrm>
            <a:off x="2768760" y="1752480"/>
            <a:ext cx="637524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76320" y="477360"/>
            <a:ext cx="297648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Verdana"/>
              </a:rPr>
              <a:t>Less than 40 million people were spread over the Americas</a:t>
            </a:r>
            <a:endParaRPr b="0" lang="en-US" sz="26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73"/>
                </a:solidFill>
                <a:latin typeface="Verdana"/>
              </a:rPr>
              <a:t>As a result, cultural exchange in the Americas was less extensive than in Afroeurasia</a:t>
            </a:r>
            <a:endParaRPr b="0" lang="en-US" sz="26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7AB1-5142-4B63-B739-C795E1E06985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2" descr="slide0051_image092"/>
          <p:cNvPicPr/>
          <p:nvPr/>
        </p:nvPicPr>
        <p:blipFill>
          <a:blip r:embed="rId1"/>
          <a:stretch/>
        </p:blipFill>
        <p:spPr>
          <a:xfrm>
            <a:off x="3200400" y="304920"/>
            <a:ext cx="5726160" cy="5257800"/>
          </a:xfrm>
          <a:prstGeom prst="rect">
            <a:avLst/>
          </a:prstGeom>
          <a:ln w="0">
            <a:noFill/>
          </a:ln>
        </p:spPr>
      </p:pic>
      <p:sp>
        <p:nvSpPr>
          <p:cNvPr id="711" name="WordArt 3"/>
          <p:cNvSpPr txBox="1"/>
          <p:nvPr/>
        </p:nvSpPr>
        <p:spPr>
          <a:xfrm>
            <a:off x="3886200" y="477720"/>
            <a:ext cx="3841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froeura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2" name="Rectangle 31"/>
          <p:cNvSpPr/>
          <p:nvPr/>
        </p:nvSpPr>
        <p:spPr>
          <a:xfrm>
            <a:off x="3052800" y="5562720"/>
            <a:ext cx="6019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icrosoft®Encarta®Reference Library 2002. ©1993-2001 Microsoft Corporatio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2FCC-916B-4703-B79E-29DCC9A40663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slide0069_image209"/>
          <p:cNvPicPr/>
          <p:nvPr/>
        </p:nvPicPr>
        <p:blipFill>
          <a:blip r:embed="rId1"/>
          <a:stretch/>
        </p:blipFill>
        <p:spPr>
          <a:xfrm>
            <a:off x="1733400" y="76320"/>
            <a:ext cx="7496280" cy="525780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3"/>
          <p:cNvSpPr/>
          <p:nvPr/>
        </p:nvSpPr>
        <p:spPr>
          <a:xfrm>
            <a:off x="131760" y="5491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Verdana"/>
              </a:rPr>
              <a:t>People migrated to new places in (and out) of Afroeur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"/>
          <p:cNvSpPr/>
          <p:nvPr/>
        </p:nvSpPr>
        <p:spPr>
          <a:xfrm>
            <a:off x="403848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3597120" y="730080"/>
            <a:ext cx="12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k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6" descr="viking"/>
          <p:cNvPicPr/>
          <p:nvPr/>
        </p:nvPicPr>
        <p:blipFill>
          <a:blip r:embed="rId2"/>
          <a:stretch/>
        </p:blipFill>
        <p:spPr>
          <a:xfrm>
            <a:off x="2552760" y="669960"/>
            <a:ext cx="1120680" cy="6714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7" descr="bantud"/>
          <p:cNvPicPr/>
          <p:nvPr/>
        </p:nvPicPr>
        <p:blipFill>
          <a:blip r:embed="rId3"/>
          <a:stretch/>
        </p:blipFill>
        <p:spPr>
          <a:xfrm>
            <a:off x="3470400" y="3017880"/>
            <a:ext cx="568080" cy="6872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8"/>
          <p:cNvSpPr/>
          <p:nvPr/>
        </p:nvSpPr>
        <p:spPr>
          <a:xfrm>
            <a:off x="4114800" y="33386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tu-Speaking People of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9" descr="mongol man"/>
          <p:cNvPicPr/>
          <p:nvPr/>
        </p:nvPicPr>
        <p:blipFill>
          <a:blip r:embed="rId4"/>
          <a:stretch/>
        </p:blipFill>
        <p:spPr>
          <a:xfrm>
            <a:off x="5859360" y="520560"/>
            <a:ext cx="960480" cy="85248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10"/>
          <p:cNvSpPr/>
          <p:nvPr/>
        </p:nvSpPr>
        <p:spPr>
          <a:xfrm>
            <a:off x="6553080" y="1339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g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1" descr="turkic horseman"/>
          <p:cNvPicPr/>
          <p:nvPr/>
        </p:nvPicPr>
        <p:blipFill>
          <a:blip r:embed="rId5"/>
          <a:stretch/>
        </p:blipFill>
        <p:spPr>
          <a:xfrm>
            <a:off x="4952880" y="1143000"/>
            <a:ext cx="933480" cy="86508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12"/>
          <p:cNvSpPr/>
          <p:nvPr/>
        </p:nvSpPr>
        <p:spPr>
          <a:xfrm>
            <a:off x="5105520" y="1905120"/>
            <a:ext cx="101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rkic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3" descr="oceania boat"/>
          <p:cNvPicPr/>
          <p:nvPr/>
        </p:nvPicPr>
        <p:blipFill>
          <a:blip r:embed="rId6"/>
          <a:stretch/>
        </p:blipFill>
        <p:spPr>
          <a:xfrm>
            <a:off x="6845400" y="2782800"/>
            <a:ext cx="1272960" cy="82548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14"/>
          <p:cNvSpPr/>
          <p:nvPr/>
        </p:nvSpPr>
        <p:spPr>
          <a:xfrm>
            <a:off x="6819840" y="3627360"/>
            <a:ext cx="175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ople of Oce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15" descr="germanic"/>
          <p:cNvPicPr/>
          <p:nvPr/>
        </p:nvPicPr>
        <p:blipFill>
          <a:blip r:embed="rId7"/>
          <a:stretch/>
        </p:blipFill>
        <p:spPr>
          <a:xfrm>
            <a:off x="3298680" y="1417680"/>
            <a:ext cx="439920" cy="799920"/>
          </a:xfrm>
          <a:prstGeom prst="rect">
            <a:avLst/>
          </a:prstGeom>
          <a:ln w="0">
            <a:noFill/>
          </a:ln>
        </p:spPr>
      </p:pic>
      <p:grpSp>
        <p:nvGrpSpPr>
          <p:cNvPr id="728" name="Group 16"/>
          <p:cNvGrpSpPr/>
          <p:nvPr/>
        </p:nvGrpSpPr>
        <p:grpSpPr>
          <a:xfrm>
            <a:off x="2309760" y="680400"/>
            <a:ext cx="1765800" cy="1150560"/>
            <a:chOff x="2309760" y="680400"/>
            <a:chExt cx="1765800" cy="1150560"/>
          </a:xfrm>
        </p:grpSpPr>
        <p:sp>
          <p:nvSpPr>
            <p:cNvPr id="729" name="Freeform 17"/>
            <p:cNvSpPr/>
            <p:nvPr/>
          </p:nvSpPr>
          <p:spPr>
            <a:xfrm flipH="1" flipV="1" rot="3590400">
              <a:off x="3681000" y="1034280"/>
              <a:ext cx="365040" cy="27720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 flipV="1" rot="20673000">
              <a:off x="2339640" y="723600"/>
              <a:ext cx="363600" cy="2761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 flipH="1" rot="2327400">
              <a:off x="2873160" y="1469520"/>
              <a:ext cx="363240" cy="2779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0"/>
          <p:cNvGrpSpPr/>
          <p:nvPr/>
        </p:nvGrpSpPr>
        <p:grpSpPr>
          <a:xfrm>
            <a:off x="5965920" y="1257480"/>
            <a:ext cx="770760" cy="474120"/>
            <a:chOff x="5965920" y="1257480"/>
            <a:chExt cx="770760" cy="474120"/>
          </a:xfrm>
        </p:grpSpPr>
        <p:sp>
          <p:nvSpPr>
            <p:cNvPr id="733" name="Freeform 21"/>
            <p:cNvSpPr/>
            <p:nvPr/>
          </p:nvSpPr>
          <p:spPr>
            <a:xfrm>
              <a:off x="5965920" y="1257480"/>
              <a:ext cx="365040" cy="2761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2"/>
            <p:cNvSpPr/>
            <p:nvPr/>
          </p:nvSpPr>
          <p:spPr>
            <a:xfrm rot="18189000">
              <a:off x="6338520" y="1364760"/>
              <a:ext cx="365040" cy="27648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23"/>
          <p:cNvGrpSpPr/>
          <p:nvPr/>
        </p:nvGrpSpPr>
        <p:grpSpPr>
          <a:xfrm>
            <a:off x="2925720" y="1684440"/>
            <a:ext cx="1217520" cy="382320"/>
            <a:chOff x="2925720" y="1684440"/>
            <a:chExt cx="1217520" cy="382320"/>
          </a:xfrm>
        </p:grpSpPr>
        <p:sp>
          <p:nvSpPr>
            <p:cNvPr id="736" name="Freeform 24"/>
            <p:cNvSpPr/>
            <p:nvPr/>
          </p:nvSpPr>
          <p:spPr>
            <a:xfrm>
              <a:off x="2925720" y="1790640"/>
              <a:ext cx="365040" cy="2761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5"/>
            <p:cNvSpPr/>
            <p:nvPr/>
          </p:nvSpPr>
          <p:spPr>
            <a:xfrm>
              <a:off x="3780000" y="1684440"/>
              <a:ext cx="363240" cy="2761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8" name="Picture 26" descr="arabs"/>
          <p:cNvPicPr/>
          <p:nvPr/>
        </p:nvPicPr>
        <p:blipFill>
          <a:blip r:embed="rId8"/>
          <a:stretch/>
        </p:blipFill>
        <p:spPr>
          <a:xfrm>
            <a:off x="3943440" y="2111400"/>
            <a:ext cx="877680" cy="9270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27"/>
          <p:cNvSpPr/>
          <p:nvPr/>
        </p:nvSpPr>
        <p:spPr>
          <a:xfrm>
            <a:off x="4724280" y="2666880"/>
            <a:ext cx="9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a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28"/>
          <p:cNvGrpSpPr/>
          <p:nvPr/>
        </p:nvGrpSpPr>
        <p:grpSpPr>
          <a:xfrm>
            <a:off x="3565440" y="2374920"/>
            <a:ext cx="1438200" cy="203040"/>
            <a:chOff x="3565440" y="2374920"/>
            <a:chExt cx="1438200" cy="203040"/>
          </a:xfrm>
        </p:grpSpPr>
        <p:sp>
          <p:nvSpPr>
            <p:cNvPr id="741" name="Freeform 29"/>
            <p:cNvSpPr/>
            <p:nvPr/>
          </p:nvSpPr>
          <p:spPr>
            <a:xfrm>
              <a:off x="3565440" y="2430360"/>
              <a:ext cx="466920" cy="147600"/>
            </a:xfrm>
            <a:custGeom>
              <a:avLst/>
              <a:gdLst/>
              <a:ahLst/>
              <a:rect l="l" t="t" r="r" b="b"/>
              <a:pathLst>
                <a:path w="420" h="133">
                  <a:moveTo>
                    <a:pt x="420" y="86"/>
                  </a:moveTo>
                  <a:cubicBezTo>
                    <a:pt x="361" y="125"/>
                    <a:pt x="301" y="107"/>
                    <a:pt x="231" y="102"/>
                  </a:cubicBezTo>
                  <a:cubicBezTo>
                    <a:pt x="162" y="85"/>
                    <a:pt x="85" y="71"/>
                    <a:pt x="25" y="31"/>
                  </a:cubicBezTo>
                  <a:cubicBezTo>
                    <a:pt x="20" y="23"/>
                    <a:pt x="19" y="7"/>
                    <a:pt x="10" y="7"/>
                  </a:cubicBezTo>
                  <a:cubicBezTo>
                    <a:pt x="2" y="7"/>
                    <a:pt x="2" y="23"/>
                    <a:pt x="2" y="31"/>
                  </a:cubicBezTo>
                  <a:cubicBezTo>
                    <a:pt x="2" y="68"/>
                    <a:pt x="20" y="133"/>
                    <a:pt x="2" y="63"/>
                  </a:cubicBezTo>
                  <a:cubicBezTo>
                    <a:pt x="5" y="44"/>
                    <a:pt x="0" y="23"/>
                    <a:pt x="10" y="7"/>
                  </a:cubicBezTo>
                  <a:cubicBezTo>
                    <a:pt x="14" y="0"/>
                    <a:pt x="25" y="15"/>
                    <a:pt x="33" y="15"/>
                  </a:cubicBezTo>
                  <a:cubicBezTo>
                    <a:pt x="56" y="15"/>
                    <a:pt x="79" y="0"/>
                    <a:pt x="104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0"/>
            <p:cNvSpPr/>
            <p:nvPr/>
          </p:nvSpPr>
          <p:spPr>
            <a:xfrm>
              <a:off x="4695840" y="2374920"/>
              <a:ext cx="307800" cy="115920"/>
            </a:xfrm>
            <a:custGeom>
              <a:avLst/>
              <a:gdLst/>
              <a:ahLst/>
              <a:rect l="l" t="t" r="r" b="b"/>
              <a:pathLst>
                <a:path w="277" h="104">
                  <a:moveTo>
                    <a:pt x="0" y="104"/>
                  </a:moveTo>
                  <a:cubicBezTo>
                    <a:pt x="62" y="96"/>
                    <a:pt x="114" y="83"/>
                    <a:pt x="174" y="64"/>
                  </a:cubicBezTo>
                  <a:cubicBezTo>
                    <a:pt x="237" y="44"/>
                    <a:pt x="155" y="71"/>
                    <a:pt x="221" y="49"/>
                  </a:cubicBezTo>
                  <a:cubicBezTo>
                    <a:pt x="229" y="46"/>
                    <a:pt x="245" y="41"/>
                    <a:pt x="245" y="41"/>
                  </a:cubicBezTo>
                  <a:cubicBezTo>
                    <a:pt x="237" y="36"/>
                    <a:pt x="230" y="29"/>
                    <a:pt x="221" y="25"/>
                  </a:cubicBezTo>
                  <a:cubicBezTo>
                    <a:pt x="206" y="18"/>
                    <a:pt x="160" y="0"/>
                    <a:pt x="174" y="9"/>
                  </a:cubicBezTo>
                  <a:cubicBezTo>
                    <a:pt x="182" y="14"/>
                    <a:pt x="188" y="21"/>
                    <a:pt x="197" y="25"/>
                  </a:cubicBezTo>
                  <a:cubicBezTo>
                    <a:pt x="212" y="32"/>
                    <a:pt x="245" y="41"/>
                    <a:pt x="245" y="41"/>
                  </a:cubicBezTo>
                  <a:cubicBezTo>
                    <a:pt x="253" y="38"/>
                    <a:pt x="264" y="26"/>
                    <a:pt x="268" y="33"/>
                  </a:cubicBezTo>
                  <a:cubicBezTo>
                    <a:pt x="277" y="50"/>
                    <a:pt x="184" y="104"/>
                    <a:pt x="229" y="10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8046360" y="3195000"/>
            <a:ext cx="532080" cy="631440"/>
            <a:chOff x="8046360" y="3195000"/>
            <a:chExt cx="532080" cy="631440"/>
          </a:xfrm>
        </p:grpSpPr>
        <p:sp>
          <p:nvSpPr>
            <p:cNvPr id="744" name="Freeform 32"/>
            <p:cNvSpPr/>
            <p:nvPr/>
          </p:nvSpPr>
          <p:spPr>
            <a:xfrm flipH="1" flipV="1" rot="927000">
              <a:off x="8076240" y="3237840"/>
              <a:ext cx="363240" cy="27792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3"/>
            <p:cNvSpPr/>
            <p:nvPr/>
          </p:nvSpPr>
          <p:spPr>
            <a:xfrm flipH="1" rot="20673000">
              <a:off x="8183160" y="3505320"/>
              <a:ext cx="364680" cy="27756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Freeform 34"/>
          <p:cNvSpPr/>
          <p:nvPr/>
        </p:nvSpPr>
        <p:spPr>
          <a:xfrm>
            <a:off x="2979720" y="2324160"/>
            <a:ext cx="466920" cy="147600"/>
          </a:xfrm>
          <a:custGeom>
            <a:avLst/>
            <a:gdLst/>
            <a:ahLst/>
            <a:rect l="l" t="t" r="r" b="b"/>
            <a:pathLst>
              <a:path w="420" h="133">
                <a:moveTo>
                  <a:pt x="420" y="86"/>
                </a:moveTo>
                <a:cubicBezTo>
                  <a:pt x="361" y="125"/>
                  <a:pt x="301" y="107"/>
                  <a:pt x="231" y="102"/>
                </a:cubicBezTo>
                <a:cubicBezTo>
                  <a:pt x="162" y="85"/>
                  <a:pt x="85" y="71"/>
                  <a:pt x="25" y="31"/>
                </a:cubicBezTo>
                <a:cubicBezTo>
                  <a:pt x="20" y="23"/>
                  <a:pt x="19" y="7"/>
                  <a:pt x="10" y="7"/>
                </a:cubicBezTo>
                <a:cubicBezTo>
                  <a:pt x="2" y="7"/>
                  <a:pt x="2" y="23"/>
                  <a:pt x="2" y="31"/>
                </a:cubicBezTo>
                <a:cubicBezTo>
                  <a:pt x="2" y="68"/>
                  <a:pt x="20" y="133"/>
                  <a:pt x="2" y="63"/>
                </a:cubicBezTo>
                <a:cubicBezTo>
                  <a:pt x="5" y="44"/>
                  <a:pt x="0" y="23"/>
                  <a:pt x="10" y="7"/>
                </a:cubicBezTo>
                <a:cubicBezTo>
                  <a:pt x="14" y="0"/>
                  <a:pt x="25" y="15"/>
                  <a:pt x="33" y="15"/>
                </a:cubicBezTo>
                <a:cubicBezTo>
                  <a:pt x="56" y="15"/>
                  <a:pt x="79" y="0"/>
                  <a:pt x="10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5"/>
          <p:cNvSpPr/>
          <p:nvPr/>
        </p:nvSpPr>
        <p:spPr>
          <a:xfrm>
            <a:off x="3641760" y="1417680"/>
            <a:ext cx="131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manic Tri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36" descr="tang peasant"/>
          <p:cNvPicPr/>
          <p:nvPr/>
        </p:nvPicPr>
        <p:blipFill>
          <a:blip r:embed="rId9"/>
          <a:stretch/>
        </p:blipFill>
        <p:spPr>
          <a:xfrm>
            <a:off x="5911920" y="167652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37"/>
          <p:cNvSpPr/>
          <p:nvPr/>
        </p:nvSpPr>
        <p:spPr>
          <a:xfrm>
            <a:off x="6629400" y="2330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in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38"/>
          <p:cNvSpPr/>
          <p:nvPr/>
        </p:nvSpPr>
        <p:spPr>
          <a:xfrm>
            <a:off x="6095880" y="2666880"/>
            <a:ext cx="322560" cy="276480"/>
          </a:xfrm>
          <a:custGeom>
            <a:avLst/>
            <a:gdLst/>
            <a:ahLst/>
            <a:rect l="l" t="t" r="r" b="b"/>
            <a:pathLst>
              <a:path w="203" h="174">
                <a:moveTo>
                  <a:pt x="203" y="0"/>
                </a:moveTo>
                <a:cubicBezTo>
                  <a:pt x="198" y="8"/>
                  <a:pt x="195" y="19"/>
                  <a:pt x="187" y="24"/>
                </a:cubicBezTo>
                <a:cubicBezTo>
                  <a:pt x="173" y="33"/>
                  <a:pt x="156" y="35"/>
                  <a:pt x="140" y="40"/>
                </a:cubicBezTo>
                <a:cubicBezTo>
                  <a:pt x="134" y="42"/>
                  <a:pt x="98" y="67"/>
                  <a:pt x="93" y="71"/>
                </a:cubicBezTo>
                <a:cubicBezTo>
                  <a:pt x="82" y="87"/>
                  <a:pt x="67" y="100"/>
                  <a:pt x="61" y="118"/>
                </a:cubicBezTo>
                <a:cubicBezTo>
                  <a:pt x="56" y="134"/>
                  <a:pt x="45" y="166"/>
                  <a:pt x="45" y="166"/>
                </a:cubicBezTo>
                <a:cubicBezTo>
                  <a:pt x="43" y="161"/>
                  <a:pt x="31" y="118"/>
                  <a:pt x="22" y="118"/>
                </a:cubicBezTo>
                <a:cubicBezTo>
                  <a:pt x="14" y="118"/>
                  <a:pt x="27" y="134"/>
                  <a:pt x="30" y="142"/>
                </a:cubicBezTo>
                <a:cubicBezTo>
                  <a:pt x="40" y="174"/>
                  <a:pt x="28" y="163"/>
                  <a:pt x="61" y="174"/>
                </a:cubicBezTo>
                <a:cubicBezTo>
                  <a:pt x="86" y="157"/>
                  <a:pt x="81" y="158"/>
                  <a:pt x="108" y="150"/>
                </a:cubicBezTo>
                <a:cubicBezTo>
                  <a:pt x="119" y="147"/>
                  <a:pt x="151" y="142"/>
                  <a:pt x="140" y="142"/>
                </a:cubicBezTo>
                <a:cubicBezTo>
                  <a:pt x="113" y="142"/>
                  <a:pt x="93" y="150"/>
                  <a:pt x="69" y="158"/>
                </a:cubicBezTo>
                <a:cubicBezTo>
                  <a:pt x="0" y="112"/>
                  <a:pt x="86" y="174"/>
                  <a:pt x="30" y="118"/>
                </a:cubicBezTo>
                <a:cubicBezTo>
                  <a:pt x="23" y="111"/>
                  <a:pt x="13" y="109"/>
                  <a:pt x="6" y="103"/>
                </a:cubicBezTo>
                <a:cubicBezTo>
                  <a:pt x="4" y="101"/>
                  <a:pt x="11" y="103"/>
                  <a:pt x="14" y="10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62"/>
          <p:cNvGrpSpPr/>
          <p:nvPr/>
        </p:nvGrpSpPr>
        <p:grpSpPr>
          <a:xfrm>
            <a:off x="3667680" y="3783600"/>
            <a:ext cx="310680" cy="411120"/>
            <a:chOff x="3667680" y="3783600"/>
            <a:chExt cx="310680" cy="411120"/>
          </a:xfrm>
        </p:grpSpPr>
        <p:sp>
          <p:nvSpPr>
            <p:cNvPr id="752" name="Freeform 63"/>
            <p:cNvSpPr/>
            <p:nvPr/>
          </p:nvSpPr>
          <p:spPr>
            <a:xfrm flipH="1" rot="877800">
              <a:off x="3733560" y="3809520"/>
              <a:ext cx="228600" cy="15696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4"/>
            <p:cNvSpPr/>
            <p:nvPr/>
          </p:nvSpPr>
          <p:spPr>
            <a:xfrm flipH="1" rot="2930400">
              <a:off x="3665160" y="4019040"/>
              <a:ext cx="239400" cy="10296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65"/>
          <p:cNvGrpSpPr/>
          <p:nvPr/>
        </p:nvGrpSpPr>
        <p:grpSpPr>
          <a:xfrm>
            <a:off x="4648320" y="1600200"/>
            <a:ext cx="577800" cy="702720"/>
            <a:chOff x="4648320" y="1600200"/>
            <a:chExt cx="577800" cy="702720"/>
          </a:xfrm>
        </p:grpSpPr>
        <p:grpSp>
          <p:nvGrpSpPr>
            <p:cNvPr id="755" name="Group 66"/>
            <p:cNvGrpSpPr/>
            <p:nvPr/>
          </p:nvGrpSpPr>
          <p:grpSpPr>
            <a:xfrm>
              <a:off x="4648320" y="1600200"/>
              <a:ext cx="577800" cy="490320"/>
              <a:chOff x="4648320" y="1600200"/>
              <a:chExt cx="577800" cy="490320"/>
            </a:xfrm>
          </p:grpSpPr>
          <p:sp>
            <p:nvSpPr>
              <p:cNvPr id="756" name="Freeform 67"/>
              <p:cNvSpPr/>
              <p:nvPr/>
            </p:nvSpPr>
            <p:spPr>
              <a:xfrm>
                <a:off x="4860720" y="1814400"/>
                <a:ext cx="365400" cy="276120"/>
              </a:xfrm>
              <a:custGeom>
                <a:avLst/>
                <a:gdLst/>
                <a:ahLst/>
                <a:rect l="l" t="t" r="r" b="b"/>
                <a:pathLst>
                  <a:path w="328" h="249">
                    <a:moveTo>
                      <a:pt x="328" y="0"/>
                    </a:moveTo>
                    <a:cubicBezTo>
                      <a:pt x="312" y="48"/>
                      <a:pt x="274" y="67"/>
                      <a:pt x="239" y="97"/>
                    </a:cubicBezTo>
                    <a:cubicBezTo>
                      <a:pt x="152" y="173"/>
                      <a:pt x="246" y="106"/>
                      <a:pt x="150" y="170"/>
                    </a:cubicBezTo>
                    <a:cubicBezTo>
                      <a:pt x="107" y="199"/>
                      <a:pt x="48" y="197"/>
                      <a:pt x="4" y="227"/>
                    </a:cubicBezTo>
                    <a:cubicBezTo>
                      <a:pt x="16" y="210"/>
                      <a:pt x="33" y="196"/>
                      <a:pt x="44" y="179"/>
                    </a:cubicBezTo>
                    <a:cubicBezTo>
                      <a:pt x="49" y="172"/>
                      <a:pt x="61" y="154"/>
                      <a:pt x="52" y="154"/>
                    </a:cubicBezTo>
                    <a:cubicBezTo>
                      <a:pt x="42" y="154"/>
                      <a:pt x="43" y="172"/>
                      <a:pt x="36" y="179"/>
                    </a:cubicBezTo>
                    <a:cubicBezTo>
                      <a:pt x="29" y="186"/>
                      <a:pt x="20" y="190"/>
                      <a:pt x="12" y="195"/>
                    </a:cubicBezTo>
                    <a:cubicBezTo>
                      <a:pt x="9" y="203"/>
                      <a:pt x="0" y="211"/>
                      <a:pt x="4" y="219"/>
                    </a:cubicBezTo>
                    <a:cubicBezTo>
                      <a:pt x="8" y="227"/>
                      <a:pt x="20" y="225"/>
                      <a:pt x="28" y="227"/>
                    </a:cubicBezTo>
                    <a:cubicBezTo>
                      <a:pt x="44" y="231"/>
                      <a:pt x="61" y="232"/>
                      <a:pt x="77" y="235"/>
                    </a:cubicBezTo>
                    <a:cubicBezTo>
                      <a:pt x="105" y="244"/>
                      <a:pt x="95" y="249"/>
                      <a:pt x="109" y="23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68"/>
              <p:cNvSpPr/>
              <p:nvPr/>
            </p:nvSpPr>
            <p:spPr>
              <a:xfrm>
                <a:off x="4648320" y="1600200"/>
                <a:ext cx="365040" cy="277560"/>
              </a:xfrm>
              <a:custGeom>
                <a:avLst/>
                <a:gdLst/>
                <a:ahLst/>
                <a:rect l="l" t="t" r="r" b="b"/>
                <a:pathLst>
                  <a:path w="328" h="249">
                    <a:moveTo>
                      <a:pt x="328" y="0"/>
                    </a:moveTo>
                    <a:cubicBezTo>
                      <a:pt x="312" y="48"/>
                      <a:pt x="274" y="67"/>
                      <a:pt x="239" y="97"/>
                    </a:cubicBezTo>
                    <a:cubicBezTo>
                      <a:pt x="152" y="173"/>
                      <a:pt x="246" y="106"/>
                      <a:pt x="150" y="170"/>
                    </a:cubicBezTo>
                    <a:cubicBezTo>
                      <a:pt x="107" y="199"/>
                      <a:pt x="48" y="197"/>
                      <a:pt x="4" y="227"/>
                    </a:cubicBezTo>
                    <a:cubicBezTo>
                      <a:pt x="16" y="210"/>
                      <a:pt x="33" y="196"/>
                      <a:pt x="44" y="179"/>
                    </a:cubicBezTo>
                    <a:cubicBezTo>
                      <a:pt x="49" y="172"/>
                      <a:pt x="61" y="154"/>
                      <a:pt x="52" y="154"/>
                    </a:cubicBezTo>
                    <a:cubicBezTo>
                      <a:pt x="42" y="154"/>
                      <a:pt x="43" y="172"/>
                      <a:pt x="36" y="179"/>
                    </a:cubicBezTo>
                    <a:cubicBezTo>
                      <a:pt x="29" y="186"/>
                      <a:pt x="20" y="190"/>
                      <a:pt x="12" y="195"/>
                    </a:cubicBezTo>
                    <a:cubicBezTo>
                      <a:pt x="9" y="203"/>
                      <a:pt x="0" y="211"/>
                      <a:pt x="4" y="219"/>
                    </a:cubicBezTo>
                    <a:cubicBezTo>
                      <a:pt x="8" y="227"/>
                      <a:pt x="20" y="225"/>
                      <a:pt x="28" y="227"/>
                    </a:cubicBezTo>
                    <a:cubicBezTo>
                      <a:pt x="44" y="231"/>
                      <a:pt x="61" y="232"/>
                      <a:pt x="77" y="235"/>
                    </a:cubicBezTo>
                    <a:cubicBezTo>
                      <a:pt x="105" y="244"/>
                      <a:pt x="95" y="249"/>
                      <a:pt x="109" y="23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69"/>
            <p:cNvSpPr/>
            <p:nvPr/>
          </p:nvSpPr>
          <p:spPr>
            <a:xfrm flipH="1" rot="877800">
              <a:off x="4838400" y="2103480"/>
              <a:ext cx="257040" cy="169560"/>
            </a:xfrm>
            <a:custGeom>
              <a:avLst/>
              <a:gdLst/>
              <a:ahLst/>
              <a:rect l="l" t="t" r="r" b="b"/>
              <a:pathLst>
                <a:path w="328" h="249">
                  <a:moveTo>
                    <a:pt x="328" y="0"/>
                  </a:moveTo>
                  <a:cubicBezTo>
                    <a:pt x="312" y="48"/>
                    <a:pt x="274" y="67"/>
                    <a:pt x="239" y="97"/>
                  </a:cubicBezTo>
                  <a:cubicBezTo>
                    <a:pt x="152" y="173"/>
                    <a:pt x="246" y="106"/>
                    <a:pt x="150" y="170"/>
                  </a:cubicBezTo>
                  <a:cubicBezTo>
                    <a:pt x="107" y="199"/>
                    <a:pt x="48" y="197"/>
                    <a:pt x="4" y="227"/>
                  </a:cubicBezTo>
                  <a:cubicBezTo>
                    <a:pt x="16" y="210"/>
                    <a:pt x="33" y="196"/>
                    <a:pt x="44" y="179"/>
                  </a:cubicBezTo>
                  <a:cubicBezTo>
                    <a:pt x="49" y="172"/>
                    <a:pt x="61" y="154"/>
                    <a:pt x="52" y="154"/>
                  </a:cubicBezTo>
                  <a:cubicBezTo>
                    <a:pt x="42" y="154"/>
                    <a:pt x="43" y="172"/>
                    <a:pt x="36" y="179"/>
                  </a:cubicBezTo>
                  <a:cubicBezTo>
                    <a:pt x="29" y="186"/>
                    <a:pt x="20" y="190"/>
                    <a:pt x="12" y="195"/>
                  </a:cubicBezTo>
                  <a:cubicBezTo>
                    <a:pt x="9" y="203"/>
                    <a:pt x="0" y="211"/>
                    <a:pt x="4" y="219"/>
                  </a:cubicBezTo>
                  <a:cubicBezTo>
                    <a:pt x="8" y="227"/>
                    <a:pt x="20" y="225"/>
                    <a:pt x="28" y="227"/>
                  </a:cubicBezTo>
                  <a:cubicBezTo>
                    <a:pt x="44" y="231"/>
                    <a:pt x="61" y="232"/>
                    <a:pt x="77" y="235"/>
                  </a:cubicBezTo>
                  <a:cubicBezTo>
                    <a:pt x="105" y="244"/>
                    <a:pt x="95" y="249"/>
                    <a:pt x="109" y="2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F63F-8D39-41B2-A226-79744D34F41A}" type="slidenum">
              <a:rPr b="0" lang="en-US" sz="1400" spc="-1" strike="noStrike">
                <a:solidFill>
                  <a:srgbClr val="cccc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457200" y="1828800"/>
            <a:ext cx="38862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Migrating grou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introduced new plants and animals into their new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diffused technologies for farming, warfare, and cra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626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Verdana"/>
              </a:rPr>
              <a:t>diffused languages, styles of living, and 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6" descr="let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0"/>
            <a:ext cx="950760" cy="15256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earth_anim"/>
          <p:cNvPicPr/>
          <p:nvPr/>
        </p:nvPicPr>
        <p:blipFill>
          <a:blip r:embed="rId3"/>
          <a:stretch/>
        </p:blipFill>
        <p:spPr>
          <a:xfrm>
            <a:off x="6008760" y="490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mundo-front"/>
          <p:cNvPicPr/>
          <p:nvPr/>
        </p:nvPicPr>
        <p:blipFill>
          <a:blip r:embed="rId4"/>
          <a:stretch/>
        </p:blipFill>
        <p:spPr>
          <a:xfrm>
            <a:off x="6008760" y="4890960"/>
            <a:ext cx="1828800" cy="1820880"/>
          </a:xfrm>
          <a:prstGeom prst="rect">
            <a:avLst/>
          </a:prstGeom>
          <a:ln w="0">
            <a:noFill/>
          </a:ln>
        </p:spPr>
      </p:pic>
      <p:sp>
        <p:nvSpPr>
          <p:cNvPr id="764" name="AutoShape 32"/>
          <p:cNvSpPr/>
          <p:nvPr/>
        </p:nvSpPr>
        <p:spPr>
          <a:xfrm>
            <a:off x="4745160" y="2175480"/>
            <a:ext cx="4114800" cy="2212200"/>
          </a:xfrm>
          <a:prstGeom prst="wedgeEllipseCallout">
            <a:avLst>
              <a:gd name="adj1" fmla="val 3152"/>
              <a:gd name="adj2" fmla="val 61712"/>
            </a:avLst>
          </a:prstGeom>
          <a:solidFill>
            <a:srgbClr val="ffffff"/>
          </a:solidFill>
          <a:ln w="12600">
            <a:solidFill>
              <a:srgbClr val="0a5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56a4"/>
                </a:solidFill>
                <a:latin typeface="Arial"/>
              </a:rPr>
              <a:t>Migrations encouraged more cultural exchanges across Afroeur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35" descr=""/>
          <p:cNvPicPr/>
          <p:nvPr/>
        </p:nvPicPr>
        <p:blipFill>
          <a:blip r:embed="rId5"/>
          <a:stretch/>
        </p:blipFill>
        <p:spPr>
          <a:xfrm>
            <a:off x="2133720" y="622440"/>
            <a:ext cx="2396880" cy="69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7:33:42Z</dcterms:created>
  <dc:creator>Eric L. Tremmel</dc:creator>
  <dc:description/>
  <dc:language>en-US</dc:language>
  <cp:lastModifiedBy>Elaina Barroso</cp:lastModifiedBy>
  <cp:lastPrinted>2015-08-31T22:01:49Z</cp:lastPrinted>
  <dcterms:modified xsi:type="dcterms:W3CDTF">2017-08-30T15:15:44Z</dcterms:modified>
  <cp:revision>751</cp:revision>
  <dc:subject/>
  <dc:title>Era One</dc:title>
</cp:coreProperties>
</file>